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whoosh.wav" ContentType="audio/x-wav"/>
  <Override PartName="/ppt/media/image2.jpeg" ContentType="image/jpeg"/>
  <Override PartName="/ppt/media/WHOOSH.WAV" ContentType="audio/x-wav"/>
  <Override PartName="/ppt/media/image3.wmf" ContentType="image/x-wmf"/>
  <Override PartName="/ppt/media/image4.wmf" ContentType="image/x-wmf"/>
  <Override PartName="/ppt/media/DING.WAV" ContentType="audio/x-wav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828440" y="1600200"/>
            <a:ext cx="7010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828440" y="4227120"/>
            <a:ext cx="7010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828440" y="1600200"/>
            <a:ext cx="3420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420520" y="1600200"/>
            <a:ext cx="3420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828440" y="4227120"/>
            <a:ext cx="3420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420520" y="4227120"/>
            <a:ext cx="3420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828440" y="1600200"/>
            <a:ext cx="225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199040" y="1600200"/>
            <a:ext cx="225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569280" y="1600200"/>
            <a:ext cx="225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828440" y="4227120"/>
            <a:ext cx="225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4199040" y="4227120"/>
            <a:ext cx="225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569280" y="4227120"/>
            <a:ext cx="225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828440" y="1600200"/>
            <a:ext cx="70102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828440" y="1600200"/>
            <a:ext cx="7010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828440" y="1600200"/>
            <a:ext cx="3420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420520" y="1600200"/>
            <a:ext cx="3420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828440" y="228240"/>
            <a:ext cx="7010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828440" y="1600200"/>
            <a:ext cx="3420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420520" y="1600200"/>
            <a:ext cx="3420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828440" y="4227120"/>
            <a:ext cx="3420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828440" y="1600200"/>
            <a:ext cx="3420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420520" y="1600200"/>
            <a:ext cx="3420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420520" y="4227120"/>
            <a:ext cx="3420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828440" y="1600200"/>
            <a:ext cx="3420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420520" y="1600200"/>
            <a:ext cx="3420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828440" y="4227120"/>
            <a:ext cx="7010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" Target="slide3.xml"/><Relationship Id="rId3" Type="http://schemas.openxmlformats.org/officeDocument/2006/relationships/slide" Target="slide5.xml"/><Relationship Id="rId4" Type="http://schemas.openxmlformats.org/officeDocument/2006/relationships/slide" Target="slide9.xml"/><Relationship Id="rId5" Type="http://schemas.openxmlformats.org/officeDocument/2006/relationships/slide" Target="slide11.xml"/><Relationship Id="rId6" Type="http://schemas.openxmlformats.org/officeDocument/2006/relationships/slide" Target="slide15.xml"/><Relationship Id="rId7" Type="http://schemas.openxmlformats.org/officeDocument/2006/relationships/slide" Target="slide23.xml"/><Relationship Id="rId8" Type="http://schemas.openxmlformats.org/officeDocument/2006/relationships/slide" Target="slide27.xml"/><Relationship Id="rId9" Type="http://schemas.openxmlformats.org/officeDocument/2006/relationships/slide" Target="slide32.xml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752480" cy="6858000"/>
            <a:chOff x="0" y="0"/>
            <a:chExt cx="175248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752480" cy="685800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 txBox="1"/>
            <p:nvPr/>
          </p:nvSpPr>
          <p:spPr>
            <a:xfrm>
              <a:off x="376200" y="422280"/>
              <a:ext cx="965160" cy="9493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latin typeface="Arial Black"/>
                </a:rPr>
                <a:t>CHAPTER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latin typeface="Arial Black"/>
                </a:rPr>
                <a:t>5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360" y="5967360"/>
              <a:ext cx="1557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8920" y="5030640"/>
              <a:ext cx="1557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" name=""/>
          <p:cNvGrpSpPr/>
          <p:nvPr/>
        </p:nvGrpSpPr>
        <p:grpSpPr>
          <a:xfrm>
            <a:off x="4668840" y="4441680"/>
            <a:ext cx="4343400" cy="2362320"/>
            <a:chOff x="4668840" y="4441680"/>
            <a:chExt cx="4343400" cy="2362320"/>
          </a:xfrm>
        </p:grpSpPr>
        <p:sp>
          <p:nvSpPr>
            <p:cNvPr id="6" name=""/>
            <p:cNvSpPr/>
            <p:nvPr/>
          </p:nvSpPr>
          <p:spPr>
            <a:xfrm>
              <a:off x="4668840" y="6705720"/>
              <a:ext cx="4343400" cy="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915400" y="4441680"/>
              <a:ext cx="0" cy="236232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1828440" y="1600200"/>
            <a:ext cx="7010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c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182520" y="6442200"/>
            <a:ext cx="140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99"/>
                </a:solidFill>
                <a:latin typeface="Times New Roman"/>
              </a:rPr>
              <a:t>5 - </a:t>
            </a:r>
            <a:fld id="{784C64C1-1E28-4FB9-94AF-63CB3690FDEE}" type="slidenum">
              <a:rPr b="0" lang="en-US" sz="1400" spc="-1" strike="noStrike">
                <a:solidFill>
                  <a:srgbClr val="ffff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1740240" y="6588000"/>
            <a:ext cx="241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69696"/>
                </a:solidFill>
                <a:latin typeface="Times New Roman"/>
              </a:rPr>
              <a:t>Copyright McGraw-Hill/Irwin,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44280" y="893880"/>
            <a:ext cx="1694160" cy="25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ff"/>
                </a:solidFill>
                <a:uFillTx/>
                <a:latin typeface="Times New Roman"/>
                <a:hlinkClick r:id="rId2" action="ppaction://hlinksldjump"/>
              </a:rPr>
              <a:t>Households as Income Recei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ff"/>
                </a:solidFill>
                <a:uFillTx/>
                <a:latin typeface="Times New Roman"/>
                <a:hlinkClick r:id="rId3" action="ppaction://hlinksldjump"/>
              </a:rPr>
              <a:t>Households as Spen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ff"/>
                </a:solidFill>
                <a:uFillTx/>
                <a:latin typeface="Times New Roman"/>
                <a:hlinkClick r:id="rId4" action="ppaction://hlinksldjump"/>
              </a:rPr>
              <a:t>The Business Popu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ff"/>
                </a:solidFill>
                <a:uFillTx/>
                <a:latin typeface="Times New Roman"/>
                <a:hlinkClick r:id="rId5" action="ppaction://hlinksldjump"/>
              </a:rPr>
              <a:t>Legal Forms of Busin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ff"/>
                </a:solidFill>
                <a:uFillTx/>
                <a:latin typeface="Times New Roman"/>
                <a:hlinkClick r:id="rId6" action="ppaction://hlinksldjump"/>
              </a:rPr>
              <a:t>Public Sector: Government’s Ro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ff"/>
                </a:solidFill>
                <a:uFillTx/>
                <a:latin typeface="Times New Roman"/>
                <a:hlinkClick r:id="rId7" action="ppaction://hlinksldjump"/>
              </a:rPr>
              <a:t>Government Fin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ff"/>
                </a:solidFill>
                <a:uFillTx/>
                <a:latin typeface="Times New Roman"/>
                <a:hlinkClick r:id="rId8" action="ppaction://hlinksldjump"/>
              </a:rPr>
              <a:t>State &amp; Local Fin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ff"/>
                </a:solidFill>
                <a:uFillTx/>
                <a:latin typeface="Times New Roman"/>
                <a:hlinkClick r:id="rId9" action="ppaction://hlinksldjump"/>
              </a:rPr>
              <a:t>Key 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>
            <a:hlinkClick r:id="" action="ppaction://hlinkshowjump?jump=endshow"/>
          </p:cNvPr>
          <p:cNvSpPr/>
          <p:nvPr/>
        </p:nvSpPr>
        <p:spPr>
          <a:xfrm>
            <a:off x="1020600" y="6051600"/>
            <a:ext cx="609840" cy="328680"/>
          </a:xfrm>
          <a:custGeom>
            <a:avLst/>
            <a:gdLst>
              <a:gd name="textAreaLeft" fmla="*/ 21240 w 609840"/>
              <a:gd name="textAreaRight" fmla="*/ 588600 w 609840"/>
              <a:gd name="textAreaTop" fmla="*/ 21240 h 328680"/>
              <a:gd name="textAreaBottom" fmla="*/ 307440 h 328680"/>
            </a:gdLst>
            <a:ahLst/>
            <a:rect l="textAreaLeft" t="textAreaTop" r="textAreaRight" b="textAreaBottom"/>
            <a:pathLst>
              <a:path w="40057" h="21600">
                <a:moveTo>
                  <a:pt x="0" y="0"/>
                </a:moveTo>
                <a:lnTo>
                  <a:pt x="40057" y="0"/>
                </a:lnTo>
                <a:lnTo>
                  <a:pt x="40057" y="21600"/>
                </a:lnTo>
                <a:lnTo>
                  <a:pt x="0" y="21600"/>
                </a:lnTo>
                <a:close/>
              </a:path>
              <a:path fill="lightenLess" w="40057" h="21600">
                <a:moveTo>
                  <a:pt x="0" y="0"/>
                </a:moveTo>
                <a:lnTo>
                  <a:pt x="40057" y="0"/>
                </a:lnTo>
                <a:lnTo>
                  <a:pt x="38657" y="1400"/>
                </a:lnTo>
                <a:lnTo>
                  <a:pt x="1400" y="1400"/>
                </a:lnTo>
                <a:close/>
              </a:path>
              <a:path fill="darken" w="40057" h="21600">
                <a:moveTo>
                  <a:pt x="40057" y="0"/>
                </a:moveTo>
                <a:lnTo>
                  <a:pt x="40057" y="21600"/>
                </a:lnTo>
                <a:lnTo>
                  <a:pt x="38657" y="20200"/>
                </a:lnTo>
                <a:lnTo>
                  <a:pt x="38657" y="1400"/>
                </a:lnTo>
                <a:close/>
              </a:path>
              <a:path fill="darkenLess" w="40057" h="21600">
                <a:moveTo>
                  <a:pt x="400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657" y="20200"/>
                </a:lnTo>
                <a:close/>
              </a:path>
              <a:path fill="lighten" w="400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057" h="21600">
                <a:moveTo>
                  <a:pt x="23527" y="10800"/>
                </a:moveTo>
                <a:lnTo>
                  <a:pt x="13022" y="17806"/>
                </a:lnTo>
                <a:lnTo>
                  <a:pt x="13022" y="3794"/>
                </a:lnTo>
                <a:close/>
              </a:path>
              <a:path fill="darken" w="40057" h="21600">
                <a:moveTo>
                  <a:pt x="25373" y="3794"/>
                </a:moveTo>
                <a:lnTo>
                  <a:pt x="25373" y="17806"/>
                </a:lnTo>
                <a:lnTo>
                  <a:pt x="27035" y="17806"/>
                </a:lnTo>
                <a:lnTo>
                  <a:pt x="27035" y="3794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>
            <a:hlinkClick r:id="" action="ppaction://hlinkshowjump?jump=previousslide"/>
          </p:cNvPr>
          <p:cNvSpPr/>
          <p:nvPr/>
        </p:nvSpPr>
        <p:spPr>
          <a:xfrm>
            <a:off x="55440" y="5432400"/>
            <a:ext cx="89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99"/>
                </a:solidFill>
                <a:latin typeface="Times New Roman"/>
              </a:rPr>
              <a:t>Previo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99"/>
                </a:solidFill>
                <a:latin typeface="Times New Roman"/>
              </a:rPr>
              <a:t>Sli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>
            <a:hlinkClick r:id="" action="ppaction://hlinkshowjump?jump=nextslide"/>
          </p:cNvPr>
          <p:cNvSpPr/>
          <p:nvPr/>
        </p:nvSpPr>
        <p:spPr>
          <a:xfrm>
            <a:off x="974880" y="5429160"/>
            <a:ext cx="704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99"/>
                </a:solidFill>
                <a:latin typeface="Times New Roman"/>
              </a:rPr>
              <a:t>Nex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99"/>
                </a:solidFill>
                <a:latin typeface="Times New Roman"/>
              </a:rPr>
              <a:t>Sli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 flipH="1">
            <a:off x="176040" y="5137200"/>
            <a:ext cx="609840" cy="317520"/>
          </a:xfrm>
          <a:custGeom>
            <a:avLst/>
            <a:gdLst>
              <a:gd name="textAreaLeft" fmla="*/ 20520 w 609840"/>
              <a:gd name="textAreaRight" fmla="*/ 589320 w 609840"/>
              <a:gd name="textAreaTop" fmla="*/ 20520 h 317520"/>
              <a:gd name="textAreaBottom" fmla="*/ 297000 h 317520"/>
            </a:gdLst>
            <a:ahLst/>
            <a:rect l="textAreaLeft" t="textAreaTop" r="textAreaRight" b="textAreaBottom"/>
            <a:pathLst>
              <a:path w="41463" h="21600">
                <a:moveTo>
                  <a:pt x="0" y="0"/>
                </a:moveTo>
                <a:lnTo>
                  <a:pt x="41463" y="0"/>
                </a:lnTo>
                <a:lnTo>
                  <a:pt x="41463" y="21600"/>
                </a:lnTo>
                <a:lnTo>
                  <a:pt x="0" y="21600"/>
                </a:lnTo>
                <a:close/>
              </a:path>
              <a:path fill="lightenLess" w="41463" h="21600">
                <a:moveTo>
                  <a:pt x="0" y="0"/>
                </a:moveTo>
                <a:lnTo>
                  <a:pt x="41463" y="0"/>
                </a:lnTo>
                <a:lnTo>
                  <a:pt x="40063" y="1400"/>
                </a:lnTo>
                <a:lnTo>
                  <a:pt x="1400" y="1400"/>
                </a:lnTo>
                <a:close/>
              </a:path>
              <a:path fill="darken" w="41463" h="21600">
                <a:moveTo>
                  <a:pt x="41463" y="0"/>
                </a:moveTo>
                <a:lnTo>
                  <a:pt x="41463" y="21600"/>
                </a:lnTo>
                <a:lnTo>
                  <a:pt x="40063" y="20200"/>
                </a:lnTo>
                <a:lnTo>
                  <a:pt x="40063" y="1400"/>
                </a:lnTo>
                <a:close/>
              </a:path>
              <a:path fill="darkenLess" w="41463" h="21600">
                <a:moveTo>
                  <a:pt x="414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063" y="20200"/>
                </a:lnTo>
                <a:close/>
              </a:path>
              <a:path fill="lighten" w="414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463" h="21600">
                <a:moveTo>
                  <a:pt x="13725" y="3794"/>
                </a:moveTo>
                <a:lnTo>
                  <a:pt x="27738" y="10800"/>
                </a:lnTo>
                <a:lnTo>
                  <a:pt x="13725" y="17806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23840" y="5140440"/>
            <a:ext cx="609840" cy="317520"/>
          </a:xfrm>
          <a:custGeom>
            <a:avLst/>
            <a:gdLst>
              <a:gd name="textAreaLeft" fmla="*/ 20520 w 609840"/>
              <a:gd name="textAreaRight" fmla="*/ 589320 w 609840"/>
              <a:gd name="textAreaTop" fmla="*/ 20520 h 317520"/>
              <a:gd name="textAreaBottom" fmla="*/ 297000 h 317520"/>
            </a:gdLst>
            <a:ahLst/>
            <a:rect l="textAreaLeft" t="textAreaTop" r="textAreaRight" b="textAreaBottom"/>
            <a:pathLst>
              <a:path w="41463" h="21600">
                <a:moveTo>
                  <a:pt x="0" y="0"/>
                </a:moveTo>
                <a:lnTo>
                  <a:pt x="41463" y="0"/>
                </a:lnTo>
                <a:lnTo>
                  <a:pt x="41463" y="21600"/>
                </a:lnTo>
                <a:lnTo>
                  <a:pt x="0" y="21600"/>
                </a:lnTo>
                <a:close/>
              </a:path>
              <a:path fill="lightenLess" w="41463" h="21600">
                <a:moveTo>
                  <a:pt x="0" y="0"/>
                </a:moveTo>
                <a:lnTo>
                  <a:pt x="41463" y="0"/>
                </a:lnTo>
                <a:lnTo>
                  <a:pt x="40063" y="1400"/>
                </a:lnTo>
                <a:lnTo>
                  <a:pt x="1400" y="1400"/>
                </a:lnTo>
                <a:close/>
              </a:path>
              <a:path fill="darken" w="41463" h="21600">
                <a:moveTo>
                  <a:pt x="41463" y="0"/>
                </a:moveTo>
                <a:lnTo>
                  <a:pt x="41463" y="21600"/>
                </a:lnTo>
                <a:lnTo>
                  <a:pt x="40063" y="20200"/>
                </a:lnTo>
                <a:lnTo>
                  <a:pt x="40063" y="1400"/>
                </a:lnTo>
                <a:close/>
              </a:path>
              <a:path fill="darkenLess" w="41463" h="21600">
                <a:moveTo>
                  <a:pt x="414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063" y="20200"/>
                </a:lnTo>
                <a:close/>
              </a:path>
              <a:path fill="lighten" w="414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463" h="21600">
                <a:moveTo>
                  <a:pt x="13725" y="3794"/>
                </a:moveTo>
                <a:lnTo>
                  <a:pt x="27738" y="10800"/>
                </a:lnTo>
                <a:lnTo>
                  <a:pt x="13725" y="17806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">
            <a:hlinkClick r:id="" action="ppaction://hlinkshowjump?jump=endshow"/>
          </p:cNvPr>
          <p:cNvSpPr/>
          <p:nvPr/>
        </p:nvSpPr>
        <p:spPr>
          <a:xfrm>
            <a:off x="160200" y="5992920"/>
            <a:ext cx="682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Sh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8.xml"/><Relationship Id="rId4" Type="http://schemas.openxmlformats.org/officeDocument/2006/relationships/slide" Target="slide8.xml"/><Relationship Id="rId5" Type="http://schemas.openxmlformats.org/officeDocument/2006/relationships/slide" Target="slide8.xml"/><Relationship Id="rId6" Type="http://schemas.openxmlformats.org/officeDocument/2006/relationships/slide" Target="slide9.xml"/><Relationship Id="rId7" Type="http://schemas.openxmlformats.org/officeDocument/2006/relationships/slide" Target="slide9.xml"/><Relationship Id="rId8" Type="http://schemas.openxmlformats.org/officeDocument/2006/relationships/slide" Target="slide9.xml"/><Relationship Id="rId9" Type="http://schemas.openxmlformats.org/officeDocument/2006/relationships/slide" Target="slide11.xml"/><Relationship Id="rId10" Type="http://schemas.openxmlformats.org/officeDocument/2006/relationships/slide" Target="slide12.xml"/><Relationship Id="rId11" Type="http://schemas.openxmlformats.org/officeDocument/2006/relationships/slide" Target="slide13.xml"/><Relationship Id="rId12" Type="http://schemas.openxmlformats.org/officeDocument/2006/relationships/slide" Target="slide13.xml"/><Relationship Id="rId13" Type="http://schemas.openxmlformats.org/officeDocument/2006/relationships/slide" Target="slide13.xml"/><Relationship Id="rId14" Type="http://schemas.openxmlformats.org/officeDocument/2006/relationships/slide" Target="slide13.xml"/><Relationship Id="rId15" Type="http://schemas.openxmlformats.org/officeDocument/2006/relationships/slide" Target="slide13.xml"/><Relationship Id="rId16" Type="http://schemas.openxmlformats.org/officeDocument/2006/relationships/slide" Target="slide14.xml"/><Relationship Id="rId17" Type="http://schemas.openxmlformats.org/officeDocument/2006/relationships/slide" Target="slide15.xml"/><Relationship Id="rId18" Type="http://schemas.openxmlformats.org/officeDocument/2006/relationships/slide" Target="slide16.xml"/><Relationship Id="rId19" Type="http://schemas.openxmlformats.org/officeDocument/2006/relationships/slide" Target="slide16.xml"/><Relationship Id="rId20" Type="http://schemas.openxmlformats.org/officeDocument/2006/relationships/slide" Target="slide17.xml"/><Relationship Id="rId21" Type="http://schemas.openxmlformats.org/officeDocument/2006/relationships/slide" Target="slide17.xml"/><Relationship Id="rId22" Type="http://schemas.openxmlformats.org/officeDocument/2006/relationships/slide" Target="slide17.xml"/><Relationship Id="rId23" Type="http://schemas.openxmlformats.org/officeDocument/2006/relationships/slide" Target="slide23.xml"/><Relationship Id="rId24" Type="http://schemas.openxmlformats.org/officeDocument/2006/relationships/slide" Target="slide23.xml"/><Relationship Id="rId25" Type="http://schemas.openxmlformats.org/officeDocument/2006/relationships/slide" Target="slide25.xml"/><Relationship Id="rId26" Type="http://schemas.openxmlformats.org/officeDocument/2006/relationships/slide" Target="slide25.xml"/><Relationship Id="rId27" Type="http://schemas.openxmlformats.org/officeDocument/2006/relationships/slide" Target="slide25.xml"/><Relationship Id="rId28" Type="http://schemas.openxmlformats.org/officeDocument/2006/relationships/audio" Target="../media/DING.WAV"/><Relationship Id="rId29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audio" Target="../media/DING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97040" y="2160720"/>
            <a:ext cx="74469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Arial"/>
              </a:rPr>
              <a:t>The U. S. Economy:</a:t>
            </a:r>
            <a:endParaRPr b="0" lang="en-US" sz="5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819080" y="3137040"/>
            <a:ext cx="7289640" cy="11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Times New Roman"/>
              </a:rPr>
              <a:t>Private and Public Sectors</a:t>
            </a:r>
            <a:endParaRPr b="0" lang="en-US" sz="4800" spc="-1" strike="noStrike">
              <a:solidFill>
                <a:srgbClr val="cc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844640" y="4019400"/>
            <a:ext cx="6892920" cy="2165400"/>
            <a:chOff x="1844640" y="4019400"/>
            <a:chExt cx="6892920" cy="2165400"/>
          </a:xfrm>
        </p:grpSpPr>
        <p:grpSp>
          <p:nvGrpSpPr>
            <p:cNvPr id="58" name=""/>
            <p:cNvGrpSpPr/>
            <p:nvPr/>
          </p:nvGrpSpPr>
          <p:grpSpPr>
            <a:xfrm>
              <a:off x="3435480" y="4222800"/>
              <a:ext cx="5302080" cy="1800000"/>
              <a:chOff x="3435480" y="4222800"/>
              <a:chExt cx="5302080" cy="1800000"/>
            </a:xfrm>
          </p:grpSpPr>
          <p:sp>
            <p:nvSpPr>
              <p:cNvPr id="59" name=""/>
              <p:cNvSpPr/>
              <p:nvPr/>
            </p:nvSpPr>
            <p:spPr>
              <a:xfrm>
                <a:off x="3435480" y="4222800"/>
                <a:ext cx="5302080" cy="0"/>
              </a:xfrm>
              <a:prstGeom prst="line">
                <a:avLst/>
              </a:prstGeom>
              <a:ln w="1908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3435480" y="4479840"/>
                <a:ext cx="5302080" cy="0"/>
              </a:xfrm>
              <a:prstGeom prst="line">
                <a:avLst/>
              </a:prstGeom>
              <a:ln w="1908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435480" y="4736880"/>
                <a:ext cx="5302080" cy="0"/>
              </a:xfrm>
              <a:prstGeom prst="line">
                <a:avLst/>
              </a:prstGeom>
              <a:ln w="1908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3435480" y="4994280"/>
                <a:ext cx="5302080" cy="0"/>
              </a:xfrm>
              <a:prstGeom prst="line">
                <a:avLst/>
              </a:prstGeom>
              <a:ln w="1908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3435480" y="5251320"/>
                <a:ext cx="5302080" cy="0"/>
              </a:xfrm>
              <a:prstGeom prst="line">
                <a:avLst/>
              </a:prstGeom>
              <a:ln w="1908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3435480" y="5508720"/>
                <a:ext cx="5302080" cy="0"/>
              </a:xfrm>
              <a:prstGeom prst="line">
                <a:avLst/>
              </a:prstGeom>
              <a:ln w="1908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3435480" y="5765760"/>
                <a:ext cx="5302080" cy="0"/>
              </a:xfrm>
              <a:prstGeom prst="line">
                <a:avLst/>
              </a:prstGeom>
              <a:ln w="1908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3435480" y="6022800"/>
                <a:ext cx="5302080" cy="0"/>
              </a:xfrm>
              <a:prstGeom prst="line">
                <a:avLst/>
              </a:prstGeom>
              <a:ln w="1908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67" name="" descr=""/>
            <p:cNvPicPr/>
            <p:nvPr/>
          </p:nvPicPr>
          <p:blipFill>
            <a:blip r:embed="rId1"/>
            <a:stretch/>
          </p:blipFill>
          <p:spPr>
            <a:xfrm>
              <a:off x="1844640" y="4019400"/>
              <a:ext cx="3029040" cy="216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8" name=""/>
          <p:cNvGrpSpPr/>
          <p:nvPr/>
        </p:nvGrpSpPr>
        <p:grpSpPr>
          <a:xfrm>
            <a:off x="1773360" y="52560"/>
            <a:ext cx="3367800" cy="2713680"/>
            <a:chOff x="1773360" y="52560"/>
            <a:chExt cx="3367800" cy="2713680"/>
          </a:xfrm>
        </p:grpSpPr>
        <p:sp>
          <p:nvSpPr>
            <p:cNvPr id="69" name=""/>
            <p:cNvSpPr/>
            <p:nvPr/>
          </p:nvSpPr>
          <p:spPr>
            <a:xfrm>
              <a:off x="2248920" y="52560"/>
              <a:ext cx="1277640" cy="271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200" spc="-1" strike="noStrike">
                  <a:solidFill>
                    <a:srgbClr val="000099"/>
                  </a:solidFill>
                  <a:latin typeface="Times New Roman"/>
                </a:rPr>
                <a:t>5</a:t>
              </a:r>
              <a:endParaRPr b="0" lang="en-US" sz="1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692800" y="1292400"/>
              <a:ext cx="24483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 H A P T E 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773360" y="1722600"/>
              <a:ext cx="3348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964880" y="173160"/>
            <a:ext cx="7000200" cy="6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99"/>
                </a:solidFill>
                <a:latin typeface="Times New Roman"/>
              </a:rPr>
              <a:t>THE BUSINESS POPULATION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785600" y="793800"/>
            <a:ext cx="7248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Business Shares of Domestic Outpu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2819520" y="3429000"/>
            <a:ext cx="5067360" cy="3124080"/>
            <a:chOff x="2819520" y="3429000"/>
            <a:chExt cx="5067360" cy="3124080"/>
          </a:xfrm>
        </p:grpSpPr>
        <p:sp>
          <p:nvSpPr>
            <p:cNvPr id="179" name=""/>
            <p:cNvSpPr/>
            <p:nvPr/>
          </p:nvSpPr>
          <p:spPr>
            <a:xfrm>
              <a:off x="2819520" y="3429000"/>
              <a:ext cx="2438280" cy="3124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448240" y="6222960"/>
              <a:ext cx="2438640" cy="330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2819520" y="2971800"/>
            <a:ext cx="5067360" cy="3238560"/>
            <a:chOff x="2819520" y="2971800"/>
            <a:chExt cx="5067360" cy="3238560"/>
          </a:xfrm>
        </p:grpSpPr>
        <p:sp>
          <p:nvSpPr>
            <p:cNvPr id="182" name=""/>
            <p:cNvSpPr/>
            <p:nvPr/>
          </p:nvSpPr>
          <p:spPr>
            <a:xfrm>
              <a:off x="2819520" y="2971800"/>
              <a:ext cx="2438280" cy="444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66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448240" y="5931000"/>
              <a:ext cx="2438640" cy="279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66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2819520" y="1917720"/>
            <a:ext cx="5067360" cy="4000320"/>
            <a:chOff x="2819520" y="1917720"/>
            <a:chExt cx="5067360" cy="4000320"/>
          </a:xfrm>
        </p:grpSpPr>
        <p:sp>
          <p:nvSpPr>
            <p:cNvPr id="185" name=""/>
            <p:cNvSpPr/>
            <p:nvPr/>
          </p:nvSpPr>
          <p:spPr>
            <a:xfrm>
              <a:off x="2819520" y="1917720"/>
              <a:ext cx="2438280" cy="1041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448240" y="1917720"/>
              <a:ext cx="2438640" cy="4000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063600" y="2035080"/>
            <a:ext cx="1929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rpo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377880" y="2971800"/>
            <a:ext cx="130068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tnershi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997720" y="4383000"/>
            <a:ext cx="2061000" cy="10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So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Proprietorship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72%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851440" y="5904000"/>
            <a:ext cx="1655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tnerships 9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522400" y="6221520"/>
            <a:ext cx="23155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le Proprietorships 4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714640" y="3475080"/>
            <a:ext cx="1929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rpo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7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741760" y="1461960"/>
            <a:ext cx="25869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Percentage of Firm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394960" y="1461960"/>
            <a:ext cx="248004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Percentage of Sa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500"/>
                            </p:stCondLst>
                            <p:childTnLst>
                              <p:par>
                                <p:cTn id="3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2500"/>
                            </p:stCondLst>
                            <p:childTnLst>
                              <p:par>
                                <p:cTn id="3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500"/>
                            </p:stCondLst>
                            <p:childTnLst>
                              <p:par>
                                <p:cTn id="3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1873440" y="49320"/>
            <a:ext cx="71848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LEGAL FORMS OF BUSINESS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986840" y="849240"/>
            <a:ext cx="44211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Sole Proprieto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767600" y="2271600"/>
            <a:ext cx="5932440" cy="13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Easy to Organiz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Proprietor is Own “Boss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18600" y="1512720"/>
            <a:ext cx="42382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99"/>
                </a:solidFill>
                <a:latin typeface="Brush Script MT"/>
              </a:rPr>
              <a:t>Advantag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93160" y="3656160"/>
            <a:ext cx="523656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99"/>
                </a:solidFill>
                <a:latin typeface="Brush Script MT"/>
              </a:rPr>
              <a:t>Disadvantag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770840" y="4437000"/>
            <a:ext cx="715788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Limited Resour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No Help With Decision Mak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Unlimited Liabil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0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1000"/>
                            </p:stCondLst>
                            <p:childTnLst>
                              <p:par>
                                <p:cTn id="3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10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10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10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1873440" y="49320"/>
            <a:ext cx="71848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LEGAL FORMS OF BUSINESS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985760" y="760320"/>
            <a:ext cx="27219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704960" y="1878120"/>
            <a:ext cx="5634000" cy="16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0000"/>
                </a:solidFill>
                <a:latin typeface="Times New Roman"/>
              </a:rPr>
              <a:t>Easy to Organiz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0000"/>
                </a:solidFill>
                <a:latin typeface="Times New Roman"/>
              </a:rPr>
              <a:t>More Management Skill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0000"/>
                </a:solidFill>
                <a:latin typeface="Times New Roman"/>
              </a:rPr>
              <a:t>Greater Resources Availabl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18600" y="1233360"/>
            <a:ext cx="42382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99"/>
                </a:solidFill>
                <a:latin typeface="Brush Script MT"/>
              </a:rPr>
              <a:t>Advantag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893160" y="3478320"/>
            <a:ext cx="523656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99"/>
                </a:solidFill>
                <a:latin typeface="Brush Script MT"/>
              </a:rPr>
              <a:t>Disadvantag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707120" y="4195800"/>
            <a:ext cx="7229520" cy="21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0000"/>
                </a:solidFill>
                <a:latin typeface="Times New Roman"/>
              </a:rPr>
              <a:t>Difficulty Making Decision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0000"/>
                </a:solidFill>
                <a:latin typeface="Times New Roman"/>
              </a:rPr>
              <a:t>Possibly Limited Financial Resourc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0000"/>
                </a:solidFill>
                <a:latin typeface="Times New Roman"/>
              </a:rPr>
              <a:t>Partnership Continuity Problem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0000"/>
                </a:solidFill>
                <a:latin typeface="Times New Roman"/>
              </a:rPr>
              <a:t>Unlimited Liability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0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500"/>
                            </p:stCondLst>
                            <p:childTnLst>
                              <p:par>
                                <p:cTn id="4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10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10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10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9" dur="1000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1873440" y="49320"/>
            <a:ext cx="71848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LEGAL FORMS OF BUSINESS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986120" y="633240"/>
            <a:ext cx="27964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Corpor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728720" y="1687680"/>
            <a:ext cx="7264440" cy="23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14480" indent="-114480"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Times New Roman"/>
              </a:rPr>
              <a:t>Most Effective Raising Capital - Stocks, Bonds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Times New Roman"/>
              </a:rPr>
              <a:t>Limited Liabilit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Times New Roman"/>
              </a:rPr>
              <a:t>Easy Expansion of Size &amp; Scop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Times New Roman"/>
              </a:rPr>
              <a:t>Infinite Lif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218600" y="1030320"/>
            <a:ext cx="42382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99"/>
                </a:solidFill>
                <a:latin typeface="Brush Script MT"/>
              </a:rPr>
              <a:t>Advantag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893160" y="3909960"/>
            <a:ext cx="523656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99"/>
                </a:solidFill>
                <a:latin typeface="Brush Script MT"/>
              </a:rPr>
              <a:t>Disadvantag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730520" y="4653000"/>
            <a:ext cx="7086600" cy="19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14480" indent="-114480"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Times New Roman"/>
              </a:rPr>
              <a:t>Corporate Regulations &amp; Legal Expens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Times New Roman"/>
              </a:rPr>
              <a:t>Some Unscrupulous Practic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Times New Roman"/>
              </a:rPr>
              <a:t>Double Tax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Times New Roman"/>
              </a:rPr>
              <a:t>Separation of Ownership &amp; Contro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0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500"/>
                            </p:stCondLst>
                            <p:childTnLst>
                              <p:par>
                                <p:cTn id="4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5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50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3" dur="500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10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0" dur="10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10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2" dur="1000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1873440" y="49320"/>
            <a:ext cx="71848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LEGAL FORMS OF BUSINESS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820880" y="1077840"/>
            <a:ext cx="7234200" cy="55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0000"/>
                </a:solidFill>
                <a:latin typeface="Times New Roman"/>
              </a:rPr>
              <a:t>Hybrid Structur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0000"/>
                </a:solidFill>
                <a:latin typeface="Times New Roman"/>
              </a:rPr>
              <a:t>Limited-Liability Company (LLC)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0000"/>
                </a:solidFill>
                <a:latin typeface="Times New Roman"/>
              </a:rPr>
              <a:t>S-Corpora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0000"/>
                </a:solidFill>
                <a:latin typeface="Times New Roman"/>
              </a:rPr>
              <a:t>Principal-Agent Problem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01160" y="5159520"/>
            <a:ext cx="298440" cy="274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0" dur="10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10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10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7" dur="10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1768680" y="147600"/>
            <a:ext cx="7308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PUBLIC SECTOR: GOVERNMENT’S RO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820880" y="760320"/>
            <a:ext cx="7234200" cy="57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Providing the Legal Struc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Maintaining Competi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Monopol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Regu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Antitru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Regulated Monopol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Redistributing Inco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Transfer Pay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Market Interven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Tax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0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6" dur="10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1" dur="10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7" dur="10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3" dur="10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9" dur="10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5" dur="1000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1" dur="1000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7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7" dur="1000"/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7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3" dur="1000"/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7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9" dur="1000"/>
                                        <p:tgtEl>
                                          <p:spTgt spid="2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7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820880" y="811080"/>
            <a:ext cx="7234200" cy="56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Reallocating Resour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Market Fail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Spillovers or External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cc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Spillover Co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cc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Legis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cc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Specific Tax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cc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Spillover Benefi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cc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Subsidize Consum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cc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Subsidize Suppli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cc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Government Provisi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8277120" y="2225520"/>
            <a:ext cx="298440" cy="27468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1768680" y="147600"/>
            <a:ext cx="7308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PUBLIC SECTOR: GOVERNMENT’S RO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7" dur="10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2" dur="10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8" dur="10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1000"/>
                            </p:stCondLst>
                            <p:childTnLst>
                              <p:par>
                                <p:cTn id="6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0" dur="1000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5" dur="100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1" dur="1000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7" dur="1000"/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8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3" dur="1000"/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8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9" dur="1000"/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8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5" dur="1000"/>
                                        <p:tgtEl>
                                          <p:spTgt spid="2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8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1820880" y="811080"/>
            <a:ext cx="723420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eallocating Resour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arket Fail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pillovers or External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905120" y="2514600"/>
            <a:ext cx="6832440" cy="41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2" marL="914400">
              <a:lnSpc>
                <a:spcPct val="100000"/>
              </a:lnSpc>
              <a:buClr>
                <a:srgbClr val="cc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Times New Roman"/>
              </a:rPr>
              <a:t>Private Goods - Rivalry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cc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Times New Roman"/>
              </a:rPr>
              <a:t>Excludability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cc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Times New Roman"/>
              </a:rPr>
              <a:t>Public</a:t>
            </a:r>
            <a:r>
              <a:rPr b="0" lang="en-US" sz="3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US" sz="3800" spc="-1" strike="noStrike">
                <a:solidFill>
                  <a:srgbClr val="cc0000"/>
                </a:solidFill>
                <a:latin typeface="Times New Roman"/>
              </a:rPr>
              <a:t>Goods and Service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cc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Times New Roman"/>
              </a:rPr>
              <a:t>Nonrivalry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cc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Times New Roman"/>
              </a:rPr>
              <a:t>Nonexcludability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cc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Times New Roman"/>
              </a:rPr>
              <a:t>Free-Rider Problem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cc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Times New Roman"/>
              </a:rPr>
              <a:t>Quasi-Public Good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8277120" y="2225520"/>
            <a:ext cx="298440" cy="27468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1768680" y="147600"/>
            <a:ext cx="7308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PUBLIC SECTOR: GOVERNMENT’S RO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3" dur="10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8" dur="10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4" dur="10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0" dur="1000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6" dur="1000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2" dur="1000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8" dur="1000"/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0880" y="811080"/>
            <a:ext cx="7234200" cy="41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Times New Roman"/>
              </a:rPr>
              <a:t>Promoting Stabilit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Unemploy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Inf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Circular Flow Revisit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Adding the Government </a:t>
            </a: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Sec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768680" y="147600"/>
            <a:ext cx="7308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PUBLIC SECTOR: GOVERNMENT’S RO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30" dur="indefinite" restart="never" nodeType="tmRoot">
          <p:childTnLst>
            <p:seq>
              <p:cTn id="731" dur="indefinite" nodeType="mainSeq">
                <p:childTnLst>
                  <p:par>
                    <p:cTn id="732" fill="hold">
                      <p:stCondLst>
                        <p:cond delay="0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6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1" dur="10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6" dur="10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2" dur="10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8" dur="100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4" dur="1000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2271600" y="3664080"/>
            <a:ext cx="5972400" cy="248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27320" y="1596960"/>
            <a:ext cx="6145200" cy="4600800"/>
          </a:xfrm>
          <a:prstGeom prst="roundRect">
            <a:avLst>
              <a:gd name="adj" fmla="val 12495"/>
            </a:avLst>
          </a:prstGeom>
          <a:noFill/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921040" y="2192400"/>
            <a:ext cx="4675320" cy="3484440"/>
          </a:xfrm>
          <a:prstGeom prst="roundRect">
            <a:avLst>
              <a:gd name="adj" fmla="val 12495"/>
            </a:avLst>
          </a:prstGeom>
          <a:noFill/>
          <a:ln w="127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859040" y="3340080"/>
            <a:ext cx="1523880" cy="1106640"/>
          </a:xfrm>
          <a:prstGeom prst="rect">
            <a:avLst/>
          </a:prstGeom>
          <a:solidFill>
            <a:srgbClr val="ffff99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216920" y="3340080"/>
            <a:ext cx="1523880" cy="1106640"/>
          </a:xfrm>
          <a:prstGeom prst="rect">
            <a:avLst/>
          </a:prstGeom>
          <a:solidFill>
            <a:srgbClr val="ffff99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rot="10800000">
            <a:off x="2661840" y="3015720"/>
            <a:ext cx="522360" cy="374760"/>
          </a:xfrm>
          <a:prstGeom prst="triangle">
            <a:avLst>
              <a:gd name="adj" fmla="val 49995"/>
            </a:avLst>
          </a:prstGeom>
          <a:solidFill>
            <a:srgbClr val="cc0000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897920" y="3706920"/>
            <a:ext cx="14904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SIN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156440" y="3718080"/>
            <a:ext cx="16110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USEHOL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005280" y="2498760"/>
            <a:ext cx="17938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RE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494400" y="2498760"/>
            <a:ext cx="1114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INPU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rot="10800000">
            <a:off x="8110080" y="3003120"/>
            <a:ext cx="523800" cy="37476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928160" y="1173240"/>
            <a:ext cx="1269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$ CO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474320" y="1173240"/>
            <a:ext cx="1580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$ INCO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500720" y="5338800"/>
            <a:ext cx="1525320" cy="1104840"/>
          </a:xfrm>
          <a:prstGeom prst="rect">
            <a:avLst/>
          </a:prstGeom>
          <a:solidFill>
            <a:srgbClr val="ffff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660920" y="5602320"/>
            <a:ext cx="118260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DU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939400" y="4640400"/>
            <a:ext cx="14662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GOODS &a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957280" y="4640400"/>
            <a:ext cx="14662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GOODS &a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rot="5400000">
            <a:off x="4071600" y="5522760"/>
            <a:ext cx="630360" cy="309600"/>
          </a:xfrm>
          <a:prstGeom prst="triangle">
            <a:avLst>
              <a:gd name="adj" fmla="val 49995"/>
            </a:avLst>
          </a:prstGeom>
          <a:solidFill>
            <a:srgbClr val="cc0000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7324560" y="4378320"/>
            <a:ext cx="524160" cy="374760"/>
          </a:xfrm>
          <a:prstGeom prst="triangle">
            <a:avLst>
              <a:gd name="adj" fmla="val 49995"/>
            </a:avLst>
          </a:prstGeom>
          <a:solidFill>
            <a:srgbClr val="cc0000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962000" y="4411800"/>
            <a:ext cx="524160" cy="37440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16200000">
            <a:off x="5837400" y="6037200"/>
            <a:ext cx="630000" cy="30960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657480" y="6195960"/>
            <a:ext cx="23029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$ CONSUM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852920" y="6195960"/>
            <a:ext cx="16232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$ REVEN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3365640" y="3882960"/>
            <a:ext cx="1125360" cy="630360"/>
            <a:chOff x="3365640" y="3882960"/>
            <a:chExt cx="1125360" cy="630360"/>
          </a:xfrm>
        </p:grpSpPr>
        <p:sp>
          <p:nvSpPr>
            <p:cNvPr id="251" name=""/>
            <p:cNvSpPr/>
            <p:nvPr/>
          </p:nvSpPr>
          <p:spPr>
            <a:xfrm>
              <a:off x="3365640" y="4199040"/>
              <a:ext cx="1066680" cy="0"/>
            </a:xfrm>
            <a:prstGeom prst="line">
              <a:avLst/>
            </a:prstGeom>
            <a:ln w="139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rot="5400000">
              <a:off x="4020120" y="4042440"/>
              <a:ext cx="630360" cy="311040"/>
            </a:xfrm>
            <a:prstGeom prst="triangle">
              <a:avLst>
                <a:gd name="adj" fmla="val 49995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3340080" y="3273480"/>
            <a:ext cx="1125360" cy="630360"/>
            <a:chOff x="3340080" y="3273480"/>
            <a:chExt cx="1125360" cy="630360"/>
          </a:xfrm>
        </p:grpSpPr>
        <p:sp>
          <p:nvSpPr>
            <p:cNvPr id="254" name=""/>
            <p:cNvSpPr/>
            <p:nvPr/>
          </p:nvSpPr>
          <p:spPr>
            <a:xfrm flipH="1">
              <a:off x="3398760" y="3589560"/>
              <a:ext cx="1066680" cy="0"/>
            </a:xfrm>
            <a:prstGeom prst="line">
              <a:avLst/>
            </a:prstGeom>
            <a:ln w="1396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 rot="16200000">
              <a:off x="3180240" y="3432960"/>
              <a:ext cx="630360" cy="311040"/>
            </a:xfrm>
            <a:prstGeom prst="triangle">
              <a:avLst>
                <a:gd name="adj" fmla="val 49995"/>
              </a:avLst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6" name=""/>
          <p:cNvSpPr/>
          <p:nvPr/>
        </p:nvSpPr>
        <p:spPr>
          <a:xfrm>
            <a:off x="4487760" y="3340080"/>
            <a:ext cx="1524240" cy="1106640"/>
          </a:xfrm>
          <a:prstGeom prst="rect">
            <a:avLst/>
          </a:prstGeom>
          <a:solidFill>
            <a:srgbClr val="ffff99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33040" y="3706920"/>
            <a:ext cx="16336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GOVERN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500720" y="1374840"/>
            <a:ext cx="1525320" cy="1106280"/>
          </a:xfrm>
          <a:prstGeom prst="rect">
            <a:avLst/>
          </a:prstGeom>
          <a:solidFill>
            <a:srgbClr val="ffff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610880" y="1627200"/>
            <a:ext cx="133056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rot="5400000">
            <a:off x="4070880" y="1426320"/>
            <a:ext cx="630360" cy="31104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rot="16200000">
            <a:off x="5829120" y="2036520"/>
            <a:ext cx="628560" cy="311400"/>
          </a:xfrm>
          <a:prstGeom prst="triangle">
            <a:avLst>
              <a:gd name="adj" fmla="val 49995"/>
            </a:avLst>
          </a:prstGeom>
          <a:solidFill>
            <a:srgbClr val="cc0000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477720" y="919080"/>
            <a:ext cx="4268880" cy="2185920"/>
            <a:chOff x="477720" y="919080"/>
            <a:chExt cx="4268880" cy="2185920"/>
          </a:xfrm>
        </p:grpSpPr>
        <p:sp>
          <p:nvSpPr>
            <p:cNvPr id="263" name=""/>
            <p:cNvSpPr/>
            <p:nvPr/>
          </p:nvSpPr>
          <p:spPr>
            <a:xfrm>
              <a:off x="477720" y="919080"/>
              <a:ext cx="4268880" cy="2185920"/>
            </a:xfrm>
            <a:custGeom>
              <a:avLst/>
              <a:gdLst>
                <a:gd name="textAreaLeft" fmla="*/ 974520 w 4268880"/>
                <a:gd name="textAreaRight" fmla="*/ 3294360 w 4268880"/>
                <a:gd name="textAreaTop" fmla="*/ 498960 h 2185920"/>
                <a:gd name="textAreaBottom" fmla="*/ 1686960 h 2185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afd0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241280" y="1498680"/>
              <a:ext cx="2639520" cy="100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NET TAXES FLOW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TO GOVERN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FROM BUSINESS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4875120" y="817560"/>
            <a:ext cx="4268880" cy="2185920"/>
            <a:chOff x="4875120" y="817560"/>
            <a:chExt cx="4268880" cy="2185920"/>
          </a:xfrm>
        </p:grpSpPr>
        <p:sp>
          <p:nvSpPr>
            <p:cNvPr id="266" name=""/>
            <p:cNvSpPr/>
            <p:nvPr/>
          </p:nvSpPr>
          <p:spPr>
            <a:xfrm>
              <a:off x="4875120" y="817560"/>
              <a:ext cx="4268880" cy="2185920"/>
            </a:xfrm>
            <a:custGeom>
              <a:avLst/>
              <a:gdLst>
                <a:gd name="textAreaLeft" fmla="*/ 974520 w 4268880"/>
                <a:gd name="textAreaRight" fmla="*/ 3294360 w 4268880"/>
                <a:gd name="textAreaTop" fmla="*/ 498960 h 2185920"/>
                <a:gd name="textAreaBottom" fmla="*/ 1686960 h 2185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afd0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476680" y="1352520"/>
              <a:ext cx="3063240" cy="100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GOVERN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GOODS &amp; SERVIC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FLOW TO BUSINESS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1768680" y="147600"/>
            <a:ext cx="7308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PUBLIC SECTOR: GOVERNMENT’S RO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fill="hold">
                      <p:stCondLst>
                        <p:cond delay="0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8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500"/>
                            </p:stCondLst>
                            <p:childTnLst>
                              <p:par>
                                <p:cTn id="78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500"/>
                            </p:stCondLst>
                            <p:childTnLst>
                              <p:par>
                                <p:cTn id="79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93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836720" y="1646280"/>
            <a:ext cx="7121520" cy="182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WAGES</a:t>
            </a: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               RENT                  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INTEREST   </a:t>
            </a: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PROFIT/LOS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928160" y="3611520"/>
            <a:ext cx="54500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Arial"/>
              </a:rPr>
              <a:t>PERSONAL DISTRIB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584360" y="4378320"/>
            <a:ext cx="75945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HOWS ALLOCATION OF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COME AMONG INDIVIDUAL HOUSEHOL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877400" y="846000"/>
            <a:ext cx="5833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Arial"/>
              </a:rPr>
              <a:t>FUNCTIONAL DISTRIB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774440" y="192240"/>
            <a:ext cx="7225920" cy="5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99"/>
                </a:solidFill>
                <a:latin typeface="Times New Roman"/>
              </a:rPr>
              <a:t>HOUSEHOLDS AS INCOME RECEIVER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2271600" y="3664080"/>
            <a:ext cx="5972400" cy="248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227320" y="1596960"/>
            <a:ext cx="6145200" cy="4600800"/>
          </a:xfrm>
          <a:prstGeom prst="roundRect">
            <a:avLst>
              <a:gd name="adj" fmla="val 12495"/>
            </a:avLst>
          </a:prstGeom>
          <a:noFill/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921040" y="2192400"/>
            <a:ext cx="4675320" cy="3484440"/>
          </a:xfrm>
          <a:prstGeom prst="roundRect">
            <a:avLst>
              <a:gd name="adj" fmla="val 12495"/>
            </a:avLst>
          </a:prstGeom>
          <a:noFill/>
          <a:ln w="127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859040" y="3340080"/>
            <a:ext cx="1523880" cy="1106640"/>
          </a:xfrm>
          <a:prstGeom prst="rect">
            <a:avLst/>
          </a:prstGeom>
          <a:solidFill>
            <a:srgbClr val="ffff99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216920" y="3340080"/>
            <a:ext cx="1523880" cy="1106640"/>
          </a:xfrm>
          <a:prstGeom prst="rect">
            <a:avLst/>
          </a:prstGeom>
          <a:solidFill>
            <a:srgbClr val="ffff99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rot="10800000">
            <a:off x="2661840" y="3015720"/>
            <a:ext cx="522360" cy="374760"/>
          </a:xfrm>
          <a:prstGeom prst="triangle">
            <a:avLst>
              <a:gd name="adj" fmla="val 49995"/>
            </a:avLst>
          </a:prstGeom>
          <a:solidFill>
            <a:srgbClr val="cc0000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97920" y="3706920"/>
            <a:ext cx="14904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SIN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156440" y="3718080"/>
            <a:ext cx="16110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USEHOL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05280" y="2498760"/>
            <a:ext cx="17938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RE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494400" y="2498760"/>
            <a:ext cx="1114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INPU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rot="10800000">
            <a:off x="8110080" y="3003120"/>
            <a:ext cx="523800" cy="37476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928160" y="1173240"/>
            <a:ext cx="1269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$ CO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474320" y="1173240"/>
            <a:ext cx="1580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$ INCO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500720" y="5338800"/>
            <a:ext cx="1525320" cy="1104840"/>
          </a:xfrm>
          <a:prstGeom prst="rect">
            <a:avLst/>
          </a:prstGeom>
          <a:solidFill>
            <a:srgbClr val="ffff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660920" y="5602320"/>
            <a:ext cx="118260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DU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939400" y="4640400"/>
            <a:ext cx="14662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GOODS &a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957280" y="4640400"/>
            <a:ext cx="14662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GOODS &a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rot="5400000">
            <a:off x="4071600" y="5522760"/>
            <a:ext cx="630360" cy="309600"/>
          </a:xfrm>
          <a:prstGeom prst="triangle">
            <a:avLst>
              <a:gd name="adj" fmla="val 49995"/>
            </a:avLst>
          </a:prstGeom>
          <a:solidFill>
            <a:srgbClr val="cc0000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7324560" y="4378320"/>
            <a:ext cx="524160" cy="374760"/>
          </a:xfrm>
          <a:prstGeom prst="triangle">
            <a:avLst>
              <a:gd name="adj" fmla="val 49995"/>
            </a:avLst>
          </a:prstGeom>
          <a:solidFill>
            <a:srgbClr val="cc0000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962000" y="4411800"/>
            <a:ext cx="524160" cy="37440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rot="16200000">
            <a:off x="5837400" y="6037200"/>
            <a:ext cx="630000" cy="30960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657480" y="6195960"/>
            <a:ext cx="23029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$ CONSUM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852920" y="6195960"/>
            <a:ext cx="16232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$ REVEN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3365640" y="3882960"/>
            <a:ext cx="1125360" cy="630360"/>
            <a:chOff x="3365640" y="3882960"/>
            <a:chExt cx="1125360" cy="630360"/>
          </a:xfrm>
        </p:grpSpPr>
        <p:sp>
          <p:nvSpPr>
            <p:cNvPr id="293" name=""/>
            <p:cNvSpPr/>
            <p:nvPr/>
          </p:nvSpPr>
          <p:spPr>
            <a:xfrm>
              <a:off x="3365640" y="4199040"/>
              <a:ext cx="1066680" cy="0"/>
            </a:xfrm>
            <a:prstGeom prst="line">
              <a:avLst/>
            </a:prstGeom>
            <a:ln w="139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rot="5400000">
              <a:off x="4020120" y="4042440"/>
              <a:ext cx="630360" cy="311040"/>
            </a:xfrm>
            <a:prstGeom prst="triangle">
              <a:avLst>
                <a:gd name="adj" fmla="val 49995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5986440" y="3882600"/>
            <a:ext cx="1216080" cy="630360"/>
            <a:chOff x="5986440" y="3882600"/>
            <a:chExt cx="1216080" cy="630360"/>
          </a:xfrm>
        </p:grpSpPr>
        <p:sp>
          <p:nvSpPr>
            <p:cNvPr id="296" name=""/>
            <p:cNvSpPr/>
            <p:nvPr/>
          </p:nvSpPr>
          <p:spPr>
            <a:xfrm>
              <a:off x="6072480" y="4199040"/>
              <a:ext cx="1130040" cy="0"/>
            </a:xfrm>
            <a:prstGeom prst="line">
              <a:avLst/>
            </a:prstGeom>
            <a:ln w="139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rot="16200000">
              <a:off x="5825880" y="4042800"/>
              <a:ext cx="630360" cy="309600"/>
            </a:xfrm>
            <a:prstGeom prst="triangle">
              <a:avLst>
                <a:gd name="adj" fmla="val 49995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3340080" y="3273480"/>
            <a:ext cx="1125360" cy="630360"/>
            <a:chOff x="3340080" y="3273480"/>
            <a:chExt cx="1125360" cy="630360"/>
          </a:xfrm>
        </p:grpSpPr>
        <p:sp>
          <p:nvSpPr>
            <p:cNvPr id="299" name=""/>
            <p:cNvSpPr/>
            <p:nvPr/>
          </p:nvSpPr>
          <p:spPr>
            <a:xfrm flipH="1">
              <a:off x="3398760" y="3589560"/>
              <a:ext cx="1066680" cy="0"/>
            </a:xfrm>
            <a:prstGeom prst="line">
              <a:avLst/>
            </a:prstGeom>
            <a:ln w="1396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 rot="16200000">
              <a:off x="3180240" y="3432960"/>
              <a:ext cx="630360" cy="311040"/>
            </a:xfrm>
            <a:prstGeom prst="triangle">
              <a:avLst>
                <a:gd name="adj" fmla="val 49995"/>
              </a:avLst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6010200" y="3273120"/>
            <a:ext cx="1216080" cy="630360"/>
            <a:chOff x="6010200" y="3273120"/>
            <a:chExt cx="1216080" cy="630360"/>
          </a:xfrm>
        </p:grpSpPr>
        <p:sp>
          <p:nvSpPr>
            <p:cNvPr id="302" name=""/>
            <p:cNvSpPr/>
            <p:nvPr/>
          </p:nvSpPr>
          <p:spPr>
            <a:xfrm flipH="1">
              <a:off x="6010200" y="3589560"/>
              <a:ext cx="1130040" cy="0"/>
            </a:xfrm>
            <a:prstGeom prst="line">
              <a:avLst/>
            </a:prstGeom>
            <a:ln w="1396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 rot="5400000">
              <a:off x="6756120" y="3433320"/>
              <a:ext cx="630360" cy="309600"/>
            </a:xfrm>
            <a:prstGeom prst="triangle">
              <a:avLst>
                <a:gd name="adj" fmla="val 49995"/>
              </a:avLst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4" name=""/>
          <p:cNvSpPr/>
          <p:nvPr/>
        </p:nvSpPr>
        <p:spPr>
          <a:xfrm>
            <a:off x="4487760" y="3340080"/>
            <a:ext cx="1524240" cy="1106640"/>
          </a:xfrm>
          <a:prstGeom prst="rect">
            <a:avLst/>
          </a:prstGeom>
          <a:solidFill>
            <a:srgbClr val="ffff99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433040" y="3706920"/>
            <a:ext cx="16336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GOVERN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500720" y="1374840"/>
            <a:ext cx="1525320" cy="1106280"/>
          </a:xfrm>
          <a:prstGeom prst="rect">
            <a:avLst/>
          </a:prstGeom>
          <a:solidFill>
            <a:srgbClr val="ffff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610880" y="1627200"/>
            <a:ext cx="133056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rot="5400000">
            <a:off x="4070880" y="1426320"/>
            <a:ext cx="630360" cy="31104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rot="16200000">
            <a:off x="5829120" y="2036520"/>
            <a:ext cx="628560" cy="311400"/>
          </a:xfrm>
          <a:prstGeom prst="triangle">
            <a:avLst>
              <a:gd name="adj" fmla="val 49995"/>
            </a:avLst>
          </a:prstGeom>
          <a:solidFill>
            <a:srgbClr val="cc0000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4710240" y="844560"/>
            <a:ext cx="4268520" cy="2185920"/>
            <a:chOff x="4710240" y="844560"/>
            <a:chExt cx="4268520" cy="2185920"/>
          </a:xfrm>
        </p:grpSpPr>
        <p:sp>
          <p:nvSpPr>
            <p:cNvPr id="311" name=""/>
            <p:cNvSpPr/>
            <p:nvPr/>
          </p:nvSpPr>
          <p:spPr>
            <a:xfrm>
              <a:off x="4710240" y="844560"/>
              <a:ext cx="4268520" cy="2185920"/>
            </a:xfrm>
            <a:custGeom>
              <a:avLst/>
              <a:gdLst>
                <a:gd name="textAreaLeft" fmla="*/ 974520 w 4268520"/>
                <a:gd name="textAreaRight" fmla="*/ 3294000 w 4268520"/>
                <a:gd name="textAreaTop" fmla="*/ 498960 h 2185920"/>
                <a:gd name="textAreaBottom" fmla="*/ 1686960 h 2185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afd0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406120" y="1401840"/>
              <a:ext cx="2798280" cy="100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NET TAXES FLOW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TO GOVERN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FROM HOUSEHOLD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539640" y="1008000"/>
            <a:ext cx="4268880" cy="2185920"/>
            <a:chOff x="539640" y="1008000"/>
            <a:chExt cx="4268880" cy="2185920"/>
          </a:xfrm>
        </p:grpSpPr>
        <p:sp>
          <p:nvSpPr>
            <p:cNvPr id="314" name=""/>
            <p:cNvSpPr/>
            <p:nvPr/>
          </p:nvSpPr>
          <p:spPr>
            <a:xfrm>
              <a:off x="539640" y="1008000"/>
              <a:ext cx="4268880" cy="2185920"/>
            </a:xfrm>
            <a:custGeom>
              <a:avLst/>
              <a:gdLst>
                <a:gd name="textAreaLeft" fmla="*/ 974520 w 4268880"/>
                <a:gd name="textAreaRight" fmla="*/ 3294360 w 4268880"/>
                <a:gd name="textAreaTop" fmla="*/ 498960 h 2185920"/>
                <a:gd name="textAreaBottom" fmla="*/ 1686960 h 2185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afd0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068480" y="1609560"/>
              <a:ext cx="3222000" cy="100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GOODS &amp; SERVIC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FLOW TO HOUSEHOLD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FROM GOVERN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6" name=""/>
          <p:cNvSpPr/>
          <p:nvPr/>
        </p:nvSpPr>
        <p:spPr>
          <a:xfrm>
            <a:off x="1768680" y="147600"/>
            <a:ext cx="7308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PUBLIC SECTOR: GOVERNMENT’S RO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94" dur="indefinite" restart="never" nodeType="tmRoot">
          <p:childTnLst>
            <p:seq>
              <p:cTn id="795" dur="indefinite" nodeType="mainSeq">
                <p:childTnLst>
                  <p:par>
                    <p:cTn id="796" fill="hold">
                      <p:stCondLst>
                        <p:cond delay="0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fill="hold">
                            <p:stCondLst>
                              <p:cond delay="500"/>
                            </p:stCondLst>
                            <p:childTnLst>
                              <p:par>
                                <p:cTn id="80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05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fill="hold">
                            <p:stCondLst>
                              <p:cond delay="500"/>
                            </p:stCondLst>
                            <p:childTnLst>
                              <p:par>
                                <p:cTn id="8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2271600" y="3664080"/>
            <a:ext cx="5972400" cy="248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227320" y="1596960"/>
            <a:ext cx="6145200" cy="4600800"/>
          </a:xfrm>
          <a:prstGeom prst="roundRect">
            <a:avLst>
              <a:gd name="adj" fmla="val 12495"/>
            </a:avLst>
          </a:prstGeom>
          <a:noFill/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921040" y="2192400"/>
            <a:ext cx="4675320" cy="3484440"/>
          </a:xfrm>
          <a:prstGeom prst="roundRect">
            <a:avLst>
              <a:gd name="adj" fmla="val 12495"/>
            </a:avLst>
          </a:prstGeom>
          <a:noFill/>
          <a:ln w="127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859040" y="3340080"/>
            <a:ext cx="1523880" cy="1106640"/>
          </a:xfrm>
          <a:prstGeom prst="rect">
            <a:avLst/>
          </a:prstGeom>
          <a:solidFill>
            <a:srgbClr val="ffff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216920" y="3340080"/>
            <a:ext cx="1523880" cy="1106640"/>
          </a:xfrm>
          <a:prstGeom prst="rect">
            <a:avLst/>
          </a:prstGeom>
          <a:solidFill>
            <a:srgbClr val="ffff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rot="10800000">
            <a:off x="2661840" y="3015720"/>
            <a:ext cx="522360" cy="374760"/>
          </a:xfrm>
          <a:prstGeom prst="triangle">
            <a:avLst>
              <a:gd name="adj" fmla="val 49995"/>
            </a:avLst>
          </a:prstGeom>
          <a:solidFill>
            <a:srgbClr val="cc0000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897920" y="3706920"/>
            <a:ext cx="14904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SIN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156440" y="3718080"/>
            <a:ext cx="16110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USEHOL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005280" y="2498760"/>
            <a:ext cx="17938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RE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494400" y="2498760"/>
            <a:ext cx="1114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INPU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rot="10800000">
            <a:off x="8110080" y="3003120"/>
            <a:ext cx="523800" cy="37476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28160" y="1173240"/>
            <a:ext cx="1269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$ CO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474320" y="1173240"/>
            <a:ext cx="1580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$ INCO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500720" y="5338800"/>
            <a:ext cx="1525320" cy="1104840"/>
          </a:xfrm>
          <a:prstGeom prst="rect">
            <a:avLst/>
          </a:prstGeom>
          <a:solidFill>
            <a:srgbClr val="ffff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660920" y="5602320"/>
            <a:ext cx="118260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DU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939400" y="4640400"/>
            <a:ext cx="14662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GOODS &a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957280" y="4640400"/>
            <a:ext cx="14662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GOODS &a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rot="5400000">
            <a:off x="4071600" y="5522760"/>
            <a:ext cx="630360" cy="309600"/>
          </a:xfrm>
          <a:prstGeom prst="triangle">
            <a:avLst>
              <a:gd name="adj" fmla="val 49995"/>
            </a:avLst>
          </a:prstGeom>
          <a:solidFill>
            <a:srgbClr val="cc0000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H="1">
            <a:off x="7324560" y="4378320"/>
            <a:ext cx="524160" cy="374760"/>
          </a:xfrm>
          <a:prstGeom prst="triangle">
            <a:avLst>
              <a:gd name="adj" fmla="val 49995"/>
            </a:avLst>
          </a:prstGeom>
          <a:solidFill>
            <a:srgbClr val="cc0000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962000" y="4411800"/>
            <a:ext cx="524160" cy="37440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rot="16200000">
            <a:off x="5837400" y="6037200"/>
            <a:ext cx="630000" cy="30960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657480" y="6195960"/>
            <a:ext cx="23029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$ CONSUM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52920" y="6195960"/>
            <a:ext cx="16232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$ REVEN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3365640" y="3882960"/>
            <a:ext cx="1125360" cy="630360"/>
            <a:chOff x="3365640" y="3882960"/>
            <a:chExt cx="1125360" cy="630360"/>
          </a:xfrm>
        </p:grpSpPr>
        <p:sp>
          <p:nvSpPr>
            <p:cNvPr id="341" name=""/>
            <p:cNvSpPr/>
            <p:nvPr/>
          </p:nvSpPr>
          <p:spPr>
            <a:xfrm>
              <a:off x="3365640" y="4199040"/>
              <a:ext cx="1066680" cy="0"/>
            </a:xfrm>
            <a:prstGeom prst="line">
              <a:avLst/>
            </a:prstGeom>
            <a:ln w="139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rot="5400000">
              <a:off x="4020120" y="4042440"/>
              <a:ext cx="630360" cy="311040"/>
            </a:xfrm>
            <a:prstGeom prst="triangle">
              <a:avLst>
                <a:gd name="adj" fmla="val 49995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5986440" y="3882600"/>
            <a:ext cx="1216080" cy="630360"/>
            <a:chOff x="5986440" y="3882600"/>
            <a:chExt cx="1216080" cy="630360"/>
          </a:xfrm>
        </p:grpSpPr>
        <p:sp>
          <p:nvSpPr>
            <p:cNvPr id="344" name=""/>
            <p:cNvSpPr/>
            <p:nvPr/>
          </p:nvSpPr>
          <p:spPr>
            <a:xfrm>
              <a:off x="6072480" y="4199040"/>
              <a:ext cx="1130040" cy="0"/>
            </a:xfrm>
            <a:prstGeom prst="line">
              <a:avLst/>
            </a:prstGeom>
            <a:ln w="139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rot="16200000">
              <a:off x="5825880" y="4042800"/>
              <a:ext cx="630360" cy="309600"/>
            </a:xfrm>
            <a:prstGeom prst="triangle">
              <a:avLst>
                <a:gd name="adj" fmla="val 49995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3340080" y="3273480"/>
            <a:ext cx="1125360" cy="630360"/>
            <a:chOff x="3340080" y="3273480"/>
            <a:chExt cx="1125360" cy="630360"/>
          </a:xfrm>
        </p:grpSpPr>
        <p:sp>
          <p:nvSpPr>
            <p:cNvPr id="347" name=""/>
            <p:cNvSpPr/>
            <p:nvPr/>
          </p:nvSpPr>
          <p:spPr>
            <a:xfrm flipH="1">
              <a:off x="3398760" y="3589560"/>
              <a:ext cx="1066680" cy="0"/>
            </a:xfrm>
            <a:prstGeom prst="line">
              <a:avLst/>
            </a:prstGeom>
            <a:ln w="1396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 rot="16200000">
              <a:off x="3180240" y="3432960"/>
              <a:ext cx="630360" cy="311040"/>
            </a:xfrm>
            <a:prstGeom prst="triangle">
              <a:avLst>
                <a:gd name="adj" fmla="val 49995"/>
              </a:avLst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9" name=""/>
          <p:cNvGrpSpPr/>
          <p:nvPr/>
        </p:nvGrpSpPr>
        <p:grpSpPr>
          <a:xfrm>
            <a:off x="6010200" y="3273120"/>
            <a:ext cx="1216080" cy="630360"/>
            <a:chOff x="6010200" y="3273120"/>
            <a:chExt cx="1216080" cy="630360"/>
          </a:xfrm>
        </p:grpSpPr>
        <p:sp>
          <p:nvSpPr>
            <p:cNvPr id="350" name=""/>
            <p:cNvSpPr/>
            <p:nvPr/>
          </p:nvSpPr>
          <p:spPr>
            <a:xfrm flipH="1">
              <a:off x="6010200" y="3589560"/>
              <a:ext cx="1130040" cy="0"/>
            </a:xfrm>
            <a:prstGeom prst="line">
              <a:avLst/>
            </a:prstGeom>
            <a:ln w="1396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H="1" rot="5400000">
              <a:off x="6756120" y="3433320"/>
              <a:ext cx="630360" cy="309600"/>
            </a:xfrm>
            <a:prstGeom prst="triangle">
              <a:avLst>
                <a:gd name="adj" fmla="val 49995"/>
              </a:avLst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4487760" y="3340080"/>
            <a:ext cx="1524240" cy="1106640"/>
          </a:xfrm>
          <a:prstGeom prst="rect">
            <a:avLst/>
          </a:prstGeom>
          <a:solidFill>
            <a:srgbClr val="ffff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433040" y="3706920"/>
            <a:ext cx="16336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GOVERN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rot="5400000">
            <a:off x="4070880" y="1426320"/>
            <a:ext cx="630360" cy="31104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5" name=""/>
          <p:cNvGrpSpPr/>
          <p:nvPr/>
        </p:nvGrpSpPr>
        <p:grpSpPr>
          <a:xfrm>
            <a:off x="814320" y="4459320"/>
            <a:ext cx="4268520" cy="2185920"/>
            <a:chOff x="814320" y="4459320"/>
            <a:chExt cx="4268520" cy="2185920"/>
          </a:xfrm>
        </p:grpSpPr>
        <p:sp>
          <p:nvSpPr>
            <p:cNvPr id="356" name=""/>
            <p:cNvSpPr/>
            <p:nvPr/>
          </p:nvSpPr>
          <p:spPr>
            <a:xfrm>
              <a:off x="814320" y="4459320"/>
              <a:ext cx="4268520" cy="2185920"/>
            </a:xfrm>
            <a:custGeom>
              <a:avLst/>
              <a:gdLst>
                <a:gd name="textAreaLeft" fmla="*/ 974520 w 4268520"/>
                <a:gd name="textAreaRight" fmla="*/ 3294000 w 4268520"/>
                <a:gd name="textAreaTop" fmla="*/ 498960 h 2185920"/>
                <a:gd name="textAreaBottom" fmla="*/ 1686960 h 2185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afd0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435320" y="4994280"/>
              <a:ext cx="3039120" cy="100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EXPENDITUR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FLOW T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ACQUIRE RESOURC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8" name=""/>
          <p:cNvGrpSpPr/>
          <p:nvPr/>
        </p:nvGrpSpPr>
        <p:grpSpPr>
          <a:xfrm>
            <a:off x="4677840" y="2464920"/>
            <a:ext cx="630360" cy="871560"/>
            <a:chOff x="4677840" y="2464920"/>
            <a:chExt cx="630360" cy="871560"/>
          </a:xfrm>
        </p:grpSpPr>
        <p:sp>
          <p:nvSpPr>
            <p:cNvPr id="359" name=""/>
            <p:cNvSpPr/>
            <p:nvPr/>
          </p:nvSpPr>
          <p:spPr>
            <a:xfrm flipV="1">
              <a:off x="4994280" y="2523600"/>
              <a:ext cx="0" cy="812880"/>
            </a:xfrm>
            <a:prstGeom prst="line">
              <a:avLst/>
            </a:prstGeom>
            <a:ln w="139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 rot="10800000">
              <a:off x="4677840" y="2464920"/>
              <a:ext cx="630360" cy="311040"/>
            </a:xfrm>
            <a:prstGeom prst="triangle">
              <a:avLst>
                <a:gd name="adj" fmla="val 49995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5275440" y="2440080"/>
            <a:ext cx="630000" cy="871560"/>
            <a:chOff x="5275440" y="2440080"/>
            <a:chExt cx="630000" cy="871560"/>
          </a:xfrm>
        </p:grpSpPr>
        <p:sp>
          <p:nvSpPr>
            <p:cNvPr id="362" name=""/>
            <p:cNvSpPr/>
            <p:nvPr/>
          </p:nvSpPr>
          <p:spPr>
            <a:xfrm>
              <a:off x="5591160" y="2440080"/>
              <a:ext cx="0" cy="812880"/>
            </a:xfrm>
            <a:prstGeom prst="line">
              <a:avLst/>
            </a:prstGeom>
            <a:ln w="1396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rot="10800000">
              <a:off x="5275440" y="3000600"/>
              <a:ext cx="630000" cy="311040"/>
            </a:xfrm>
            <a:prstGeom prst="triangle">
              <a:avLst>
                <a:gd name="adj" fmla="val 49995"/>
              </a:avLst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4" name=""/>
          <p:cNvSpPr/>
          <p:nvPr/>
        </p:nvSpPr>
        <p:spPr>
          <a:xfrm>
            <a:off x="4500720" y="1374840"/>
            <a:ext cx="1525320" cy="1106280"/>
          </a:xfrm>
          <a:prstGeom prst="rect">
            <a:avLst/>
          </a:prstGeom>
          <a:solidFill>
            <a:srgbClr val="ffff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610880" y="1627200"/>
            <a:ext cx="133056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rot="16200000">
            <a:off x="5829120" y="2036520"/>
            <a:ext cx="628560" cy="311400"/>
          </a:xfrm>
          <a:prstGeom prst="triangle">
            <a:avLst>
              <a:gd name="adj" fmla="val 49995"/>
            </a:avLst>
          </a:prstGeom>
          <a:solidFill>
            <a:srgbClr val="cc0000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4856040" y="4255920"/>
            <a:ext cx="4268880" cy="2185920"/>
            <a:chOff x="4856040" y="4255920"/>
            <a:chExt cx="4268880" cy="2185920"/>
          </a:xfrm>
        </p:grpSpPr>
        <p:sp>
          <p:nvSpPr>
            <p:cNvPr id="368" name=""/>
            <p:cNvSpPr/>
            <p:nvPr/>
          </p:nvSpPr>
          <p:spPr>
            <a:xfrm>
              <a:off x="4856040" y="4255920"/>
              <a:ext cx="4268880" cy="2185920"/>
            </a:xfrm>
            <a:custGeom>
              <a:avLst/>
              <a:gdLst>
                <a:gd name="textAreaLeft" fmla="*/ 974520 w 4268880"/>
                <a:gd name="textAreaRight" fmla="*/ 3294360 w 4268880"/>
                <a:gd name="textAreaTop" fmla="*/ 498960 h 2185920"/>
                <a:gd name="textAreaBottom" fmla="*/ 1686960 h 2185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afd0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950080" y="4778280"/>
              <a:ext cx="2092680" cy="10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100" spc="-1" strike="noStrike">
                  <a:solidFill>
                    <a:srgbClr val="000000"/>
                  </a:solidFill>
                  <a:latin typeface="Arial"/>
                </a:rPr>
                <a:t>RESOURCES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100" spc="-1" strike="noStrike">
                  <a:solidFill>
                    <a:srgbClr val="000000"/>
                  </a:solidFill>
                  <a:latin typeface="Arial"/>
                </a:rPr>
                <a:t>FLOW TO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100" spc="-1" strike="noStrike">
                  <a:solidFill>
                    <a:srgbClr val="000000"/>
                  </a:solidFill>
                  <a:latin typeface="Arial"/>
                </a:rPr>
                <a:t>GOVERNMENT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0" name=""/>
          <p:cNvSpPr/>
          <p:nvPr/>
        </p:nvSpPr>
        <p:spPr>
          <a:xfrm>
            <a:off x="1768680" y="147600"/>
            <a:ext cx="7308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PUBLIC SECTOR: GOVERNMENT’S RO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16" dur="indefinite" restart="never" nodeType="tmRoot">
          <p:childTnLst>
            <p:seq>
              <p:cTn id="817" dur="indefinite" nodeType="mainSeq">
                <p:childTnLst>
                  <p:par>
                    <p:cTn id="818" fill="hold">
                      <p:stCondLst>
                        <p:cond delay="0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8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fill="hold">
                            <p:stCondLst>
                              <p:cond delay="500"/>
                            </p:stCondLst>
                            <p:childTnLst>
                              <p:par>
                                <p:cTn id="8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8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1768680" y="147600"/>
            <a:ext cx="7308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PUBLIC SECTOR: GOVERNMENT’S RO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271600" y="3664080"/>
            <a:ext cx="5972400" cy="248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227320" y="1596960"/>
            <a:ext cx="6145200" cy="4600800"/>
          </a:xfrm>
          <a:prstGeom prst="roundRect">
            <a:avLst>
              <a:gd name="adj" fmla="val 12495"/>
            </a:avLst>
          </a:prstGeom>
          <a:noFill/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921040" y="2192400"/>
            <a:ext cx="4675320" cy="3484440"/>
          </a:xfrm>
          <a:prstGeom prst="roundRect">
            <a:avLst>
              <a:gd name="adj" fmla="val 12495"/>
            </a:avLst>
          </a:prstGeom>
          <a:noFill/>
          <a:ln w="127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859040" y="3340080"/>
            <a:ext cx="1523880" cy="1106640"/>
          </a:xfrm>
          <a:prstGeom prst="rect">
            <a:avLst/>
          </a:prstGeom>
          <a:solidFill>
            <a:srgbClr val="ffff99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7216920" y="3340080"/>
            <a:ext cx="1523880" cy="1106640"/>
          </a:xfrm>
          <a:prstGeom prst="rect">
            <a:avLst/>
          </a:prstGeom>
          <a:solidFill>
            <a:srgbClr val="ffff99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rot="10800000">
            <a:off x="2661840" y="3015720"/>
            <a:ext cx="522360" cy="374760"/>
          </a:xfrm>
          <a:prstGeom prst="triangle">
            <a:avLst>
              <a:gd name="adj" fmla="val 49995"/>
            </a:avLst>
          </a:prstGeom>
          <a:solidFill>
            <a:srgbClr val="cc0000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897920" y="3706920"/>
            <a:ext cx="14904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SIN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156440" y="3718080"/>
            <a:ext cx="16110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USEHOL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005280" y="2498760"/>
            <a:ext cx="17938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RE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494400" y="2498760"/>
            <a:ext cx="1114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INPU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rot="10800000">
            <a:off x="8110080" y="3003120"/>
            <a:ext cx="523800" cy="37476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928160" y="1173240"/>
            <a:ext cx="1269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$ CO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7474320" y="1173240"/>
            <a:ext cx="1580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$ INCO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500720" y="5338800"/>
            <a:ext cx="1525320" cy="1104840"/>
          </a:xfrm>
          <a:prstGeom prst="rect">
            <a:avLst/>
          </a:prstGeom>
          <a:solidFill>
            <a:srgbClr val="ffff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660920" y="5602320"/>
            <a:ext cx="118260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DU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939400" y="4640400"/>
            <a:ext cx="14662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GOODS &a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957280" y="4640400"/>
            <a:ext cx="14662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GOODS &a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rot="5400000">
            <a:off x="4071600" y="5522760"/>
            <a:ext cx="630360" cy="309600"/>
          </a:xfrm>
          <a:prstGeom prst="triangle">
            <a:avLst>
              <a:gd name="adj" fmla="val 49995"/>
            </a:avLst>
          </a:prstGeom>
          <a:solidFill>
            <a:srgbClr val="cc0000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flipH="1">
            <a:off x="7324560" y="4378320"/>
            <a:ext cx="524160" cy="374760"/>
          </a:xfrm>
          <a:prstGeom prst="triangle">
            <a:avLst>
              <a:gd name="adj" fmla="val 49995"/>
            </a:avLst>
          </a:prstGeom>
          <a:solidFill>
            <a:srgbClr val="cc0000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962000" y="4411800"/>
            <a:ext cx="524160" cy="37440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rot="16200000">
            <a:off x="5837400" y="6037200"/>
            <a:ext cx="630000" cy="30960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657480" y="6195960"/>
            <a:ext cx="23029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$ CONSUM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852920" y="6195960"/>
            <a:ext cx="16232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$ REVEN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5" name=""/>
          <p:cNvGrpSpPr/>
          <p:nvPr/>
        </p:nvGrpSpPr>
        <p:grpSpPr>
          <a:xfrm>
            <a:off x="3365640" y="3882960"/>
            <a:ext cx="1125360" cy="630360"/>
            <a:chOff x="3365640" y="3882960"/>
            <a:chExt cx="1125360" cy="630360"/>
          </a:xfrm>
        </p:grpSpPr>
        <p:sp>
          <p:nvSpPr>
            <p:cNvPr id="396" name=""/>
            <p:cNvSpPr/>
            <p:nvPr/>
          </p:nvSpPr>
          <p:spPr>
            <a:xfrm>
              <a:off x="3365640" y="4199040"/>
              <a:ext cx="1066680" cy="0"/>
            </a:xfrm>
            <a:prstGeom prst="line">
              <a:avLst/>
            </a:prstGeom>
            <a:ln w="139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rot="5400000">
              <a:off x="4020120" y="4042440"/>
              <a:ext cx="630360" cy="311040"/>
            </a:xfrm>
            <a:prstGeom prst="triangle">
              <a:avLst>
                <a:gd name="adj" fmla="val 49995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5972040" y="3882600"/>
            <a:ext cx="1216080" cy="630360"/>
            <a:chOff x="5972040" y="3882600"/>
            <a:chExt cx="1216080" cy="630360"/>
          </a:xfrm>
        </p:grpSpPr>
        <p:sp>
          <p:nvSpPr>
            <p:cNvPr id="399" name=""/>
            <p:cNvSpPr/>
            <p:nvPr/>
          </p:nvSpPr>
          <p:spPr>
            <a:xfrm>
              <a:off x="6058080" y="4199040"/>
              <a:ext cx="1130040" cy="0"/>
            </a:xfrm>
            <a:prstGeom prst="line">
              <a:avLst/>
            </a:prstGeom>
            <a:ln w="139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rot="16200000">
              <a:off x="5811480" y="4042800"/>
              <a:ext cx="630360" cy="309600"/>
            </a:xfrm>
            <a:prstGeom prst="triangle">
              <a:avLst>
                <a:gd name="adj" fmla="val 49995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1" name=""/>
          <p:cNvGrpSpPr/>
          <p:nvPr/>
        </p:nvGrpSpPr>
        <p:grpSpPr>
          <a:xfrm>
            <a:off x="3340080" y="3273480"/>
            <a:ext cx="1125360" cy="630360"/>
            <a:chOff x="3340080" y="3273480"/>
            <a:chExt cx="1125360" cy="630360"/>
          </a:xfrm>
        </p:grpSpPr>
        <p:sp>
          <p:nvSpPr>
            <p:cNvPr id="402" name=""/>
            <p:cNvSpPr/>
            <p:nvPr/>
          </p:nvSpPr>
          <p:spPr>
            <a:xfrm flipH="1">
              <a:off x="3398760" y="3589560"/>
              <a:ext cx="1066680" cy="0"/>
            </a:xfrm>
            <a:prstGeom prst="line">
              <a:avLst/>
            </a:prstGeom>
            <a:ln w="1396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 flipH="1" rot="16200000">
              <a:off x="3180240" y="3432960"/>
              <a:ext cx="630360" cy="311040"/>
            </a:xfrm>
            <a:prstGeom prst="triangle">
              <a:avLst>
                <a:gd name="adj" fmla="val 49995"/>
              </a:avLst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6010200" y="3273120"/>
            <a:ext cx="1216080" cy="630360"/>
            <a:chOff x="6010200" y="3273120"/>
            <a:chExt cx="1216080" cy="630360"/>
          </a:xfrm>
        </p:grpSpPr>
        <p:sp>
          <p:nvSpPr>
            <p:cNvPr id="405" name=""/>
            <p:cNvSpPr/>
            <p:nvPr/>
          </p:nvSpPr>
          <p:spPr>
            <a:xfrm flipH="1">
              <a:off x="6010200" y="3589560"/>
              <a:ext cx="1130040" cy="0"/>
            </a:xfrm>
            <a:prstGeom prst="line">
              <a:avLst/>
            </a:prstGeom>
            <a:ln w="1396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 rot="5400000">
              <a:off x="6756120" y="3433320"/>
              <a:ext cx="630360" cy="309600"/>
            </a:xfrm>
            <a:prstGeom prst="triangle">
              <a:avLst>
                <a:gd name="adj" fmla="val 49995"/>
              </a:avLst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>
            <a:off x="4487760" y="3340080"/>
            <a:ext cx="1524240" cy="1106640"/>
          </a:xfrm>
          <a:prstGeom prst="rect">
            <a:avLst/>
          </a:prstGeom>
          <a:solidFill>
            <a:srgbClr val="ffff99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433040" y="3706920"/>
            <a:ext cx="16336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GOVERN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4677840" y="4471920"/>
            <a:ext cx="630360" cy="871560"/>
            <a:chOff x="4677840" y="4471920"/>
            <a:chExt cx="630360" cy="871560"/>
          </a:xfrm>
        </p:grpSpPr>
        <p:sp>
          <p:nvSpPr>
            <p:cNvPr id="410" name=""/>
            <p:cNvSpPr/>
            <p:nvPr/>
          </p:nvSpPr>
          <p:spPr>
            <a:xfrm>
              <a:off x="4994280" y="4471920"/>
              <a:ext cx="0" cy="812880"/>
            </a:xfrm>
            <a:prstGeom prst="line">
              <a:avLst/>
            </a:prstGeom>
            <a:ln w="139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rot="10800000">
              <a:off x="4677840" y="5032440"/>
              <a:ext cx="630360" cy="311040"/>
            </a:xfrm>
            <a:prstGeom prst="triangle">
              <a:avLst>
                <a:gd name="adj" fmla="val 49995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5275440" y="4433040"/>
            <a:ext cx="630000" cy="885240"/>
            <a:chOff x="5275440" y="4433040"/>
            <a:chExt cx="630000" cy="885240"/>
          </a:xfrm>
        </p:grpSpPr>
        <p:sp>
          <p:nvSpPr>
            <p:cNvPr id="413" name=""/>
            <p:cNvSpPr/>
            <p:nvPr/>
          </p:nvSpPr>
          <p:spPr>
            <a:xfrm flipV="1">
              <a:off x="5591160" y="4505400"/>
              <a:ext cx="0" cy="812880"/>
            </a:xfrm>
            <a:prstGeom prst="line">
              <a:avLst/>
            </a:prstGeom>
            <a:ln w="1396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 rot="10800000">
              <a:off x="5275440" y="4432680"/>
              <a:ext cx="630000" cy="311400"/>
            </a:xfrm>
            <a:prstGeom prst="triangle">
              <a:avLst>
                <a:gd name="adj" fmla="val 49995"/>
              </a:avLst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5" name=""/>
          <p:cNvGrpSpPr/>
          <p:nvPr/>
        </p:nvGrpSpPr>
        <p:grpSpPr>
          <a:xfrm>
            <a:off x="4677840" y="2464920"/>
            <a:ext cx="630360" cy="871560"/>
            <a:chOff x="4677840" y="2464920"/>
            <a:chExt cx="630360" cy="871560"/>
          </a:xfrm>
        </p:grpSpPr>
        <p:sp>
          <p:nvSpPr>
            <p:cNvPr id="416" name=""/>
            <p:cNvSpPr/>
            <p:nvPr/>
          </p:nvSpPr>
          <p:spPr>
            <a:xfrm flipV="1">
              <a:off x="4994280" y="2523600"/>
              <a:ext cx="0" cy="812880"/>
            </a:xfrm>
            <a:prstGeom prst="line">
              <a:avLst/>
            </a:prstGeom>
            <a:ln w="139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V="1" rot="10800000">
              <a:off x="4677840" y="2464920"/>
              <a:ext cx="630360" cy="311040"/>
            </a:xfrm>
            <a:prstGeom prst="triangle">
              <a:avLst>
                <a:gd name="adj" fmla="val 49995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5275440" y="2440080"/>
            <a:ext cx="630000" cy="871560"/>
            <a:chOff x="5275440" y="2440080"/>
            <a:chExt cx="630000" cy="871560"/>
          </a:xfrm>
        </p:grpSpPr>
        <p:sp>
          <p:nvSpPr>
            <p:cNvPr id="419" name=""/>
            <p:cNvSpPr/>
            <p:nvPr/>
          </p:nvSpPr>
          <p:spPr>
            <a:xfrm>
              <a:off x="5591160" y="2440080"/>
              <a:ext cx="0" cy="812880"/>
            </a:xfrm>
            <a:prstGeom prst="line">
              <a:avLst/>
            </a:prstGeom>
            <a:ln w="1396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rot="10800000">
              <a:off x="5275440" y="3000600"/>
              <a:ext cx="630000" cy="311040"/>
            </a:xfrm>
            <a:prstGeom prst="triangle">
              <a:avLst>
                <a:gd name="adj" fmla="val 49995"/>
              </a:avLst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1" name=""/>
          <p:cNvSpPr/>
          <p:nvPr/>
        </p:nvSpPr>
        <p:spPr>
          <a:xfrm>
            <a:off x="4500720" y="1374840"/>
            <a:ext cx="1525320" cy="1106280"/>
          </a:xfrm>
          <a:prstGeom prst="rect">
            <a:avLst/>
          </a:prstGeom>
          <a:solidFill>
            <a:srgbClr val="ffff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610880" y="1627200"/>
            <a:ext cx="133056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rot="5400000">
            <a:off x="4070880" y="1426320"/>
            <a:ext cx="630360" cy="31104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rot="16200000">
            <a:off x="5829120" y="2036520"/>
            <a:ext cx="628560" cy="311400"/>
          </a:xfrm>
          <a:prstGeom prst="triangle">
            <a:avLst>
              <a:gd name="adj" fmla="val 49995"/>
            </a:avLst>
          </a:prstGeom>
          <a:solidFill>
            <a:srgbClr val="cc0000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838080" y="534960"/>
            <a:ext cx="4268880" cy="2185920"/>
            <a:chOff x="838080" y="534960"/>
            <a:chExt cx="4268880" cy="2185920"/>
          </a:xfrm>
        </p:grpSpPr>
        <p:sp>
          <p:nvSpPr>
            <p:cNvPr id="426" name=""/>
            <p:cNvSpPr/>
            <p:nvPr/>
          </p:nvSpPr>
          <p:spPr>
            <a:xfrm>
              <a:off x="838080" y="534960"/>
              <a:ext cx="4268880" cy="2185920"/>
            </a:xfrm>
            <a:custGeom>
              <a:avLst/>
              <a:gdLst>
                <a:gd name="textAreaLeft" fmla="*/ 974520 w 4268880"/>
                <a:gd name="textAreaRight" fmla="*/ 3294360 w 4268880"/>
                <a:gd name="textAreaTop" fmla="*/ 498960 h 2185920"/>
                <a:gd name="textAreaBottom" fmla="*/ 1686960 h 2185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afd0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677960" y="1025640"/>
              <a:ext cx="2601720" cy="130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GOVERN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EXPENDITUR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FLOW T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PRODUCT MARK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8" name=""/>
          <p:cNvGrpSpPr/>
          <p:nvPr/>
        </p:nvGrpSpPr>
        <p:grpSpPr>
          <a:xfrm>
            <a:off x="4875120" y="349200"/>
            <a:ext cx="4268520" cy="2185920"/>
            <a:chOff x="4875120" y="349200"/>
            <a:chExt cx="4268520" cy="2185920"/>
          </a:xfrm>
        </p:grpSpPr>
        <p:sp>
          <p:nvSpPr>
            <p:cNvPr id="429" name=""/>
            <p:cNvSpPr/>
            <p:nvPr/>
          </p:nvSpPr>
          <p:spPr>
            <a:xfrm>
              <a:off x="4875120" y="349200"/>
              <a:ext cx="4268520" cy="2185920"/>
            </a:xfrm>
            <a:custGeom>
              <a:avLst/>
              <a:gdLst>
                <a:gd name="textAreaLeft" fmla="*/ 974520 w 4268520"/>
                <a:gd name="textAreaRight" fmla="*/ 3294000 w 4268520"/>
                <a:gd name="textAreaTop" fmla="*/ 498960 h 2185920"/>
                <a:gd name="textAreaBottom" fmla="*/ 1686960 h 2185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afd0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644080" y="950760"/>
              <a:ext cx="2738880" cy="100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GOODS &amp; SERVIC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FLOW T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GOVERN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39" dur="indefinite" restart="never" nodeType="tmRoot">
          <p:childTnLst>
            <p:seq>
              <p:cTn id="840" dur="indefinite" nodeType="mainSeq">
                <p:childTnLst>
                  <p:par>
                    <p:cTn id="841" fill="hold">
                      <p:stCondLst>
                        <p:cond delay="0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1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6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500"/>
                            </p:stCondLst>
                            <p:childTnLst>
                              <p:par>
                                <p:cTn id="8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1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2163600" y="185760"/>
            <a:ext cx="636264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GOVERNMENT FINA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946080" y="816120"/>
            <a:ext cx="73807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0000"/>
                </a:solidFill>
                <a:latin typeface="Brush Script MT"/>
              </a:rPr>
              <a:t>Purchases &amp; Transfer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917720" y="2631960"/>
            <a:ext cx="541008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Transfer Pay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0000"/>
                </a:solidFill>
                <a:latin typeface="Arial"/>
              </a:rPr>
              <a:t>Nonexhausti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918080" y="1498680"/>
            <a:ext cx="665208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Government Purcha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0000"/>
                </a:solidFill>
                <a:latin typeface="Arial"/>
              </a:rPr>
              <a:t>Exhausti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017880" y="4040280"/>
            <a:ext cx="441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204440" y="6313320"/>
            <a:ext cx="696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96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185880" y="6313320"/>
            <a:ext cx="696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rot="16200000">
            <a:off x="1536840" y="4943520"/>
            <a:ext cx="2626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cent of U.S. 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9" name=""/>
          <p:cNvGrpSpPr/>
          <p:nvPr/>
        </p:nvGrpSpPr>
        <p:grpSpPr>
          <a:xfrm>
            <a:off x="3441600" y="4013280"/>
            <a:ext cx="4127400" cy="2387520"/>
            <a:chOff x="3441600" y="4013280"/>
            <a:chExt cx="4127400" cy="2387520"/>
          </a:xfrm>
        </p:grpSpPr>
        <p:sp>
          <p:nvSpPr>
            <p:cNvPr id="440" name=""/>
            <p:cNvSpPr/>
            <p:nvPr/>
          </p:nvSpPr>
          <p:spPr>
            <a:xfrm>
              <a:off x="3441600" y="4013280"/>
              <a:ext cx="0" cy="2387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441600" y="6388200"/>
              <a:ext cx="4127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2" name=""/>
          <p:cNvSpPr/>
          <p:nvPr/>
        </p:nvSpPr>
        <p:spPr>
          <a:xfrm>
            <a:off x="3911760" y="5073480"/>
            <a:ext cx="1282680" cy="130176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50000">
                <a:srgbClr val="ffffff"/>
              </a:gs>
              <a:gs pos="100000">
                <a:srgbClr val="cc00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911760" y="4749840"/>
            <a:ext cx="1282680" cy="32544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ffffff"/>
              </a:gs>
              <a:gs pos="100000">
                <a:srgbClr val="000099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892840" y="5334120"/>
            <a:ext cx="1282680" cy="104112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50000">
                <a:srgbClr val="ffffff"/>
              </a:gs>
              <a:gs pos="100000">
                <a:srgbClr val="cc00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892840" y="4537080"/>
            <a:ext cx="1282680" cy="79704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ffffff"/>
              </a:gs>
              <a:gs pos="100000">
                <a:srgbClr val="000099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6105600" y="4662360"/>
            <a:ext cx="792360" cy="434880"/>
            <a:chOff x="6105600" y="4662360"/>
            <a:chExt cx="792360" cy="434880"/>
          </a:xfrm>
        </p:grpSpPr>
        <p:sp>
          <p:nvSpPr>
            <p:cNvPr id="447" name=""/>
            <p:cNvSpPr/>
            <p:nvPr/>
          </p:nvSpPr>
          <p:spPr>
            <a:xfrm>
              <a:off x="6244920" y="4694400"/>
              <a:ext cx="6530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2%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8" name=""/>
            <p:cNvGrpSpPr/>
            <p:nvPr/>
          </p:nvGrpSpPr>
          <p:grpSpPr>
            <a:xfrm>
              <a:off x="6105600" y="4662360"/>
              <a:ext cx="322200" cy="434880"/>
              <a:chOff x="6105600" y="4662360"/>
              <a:chExt cx="322200" cy="434880"/>
            </a:xfrm>
          </p:grpSpPr>
          <p:sp>
            <p:nvSpPr>
              <p:cNvPr id="449" name=""/>
              <p:cNvSpPr/>
              <p:nvPr/>
            </p:nvSpPr>
            <p:spPr>
              <a:xfrm>
                <a:off x="6105600" y="4662360"/>
                <a:ext cx="32220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6118200" y="4700520"/>
                <a:ext cx="18432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51" name=""/>
          <p:cNvGrpSpPr/>
          <p:nvPr/>
        </p:nvGrpSpPr>
        <p:grpSpPr>
          <a:xfrm>
            <a:off x="6093000" y="5551560"/>
            <a:ext cx="804960" cy="441720"/>
            <a:chOff x="6093000" y="5551560"/>
            <a:chExt cx="804960" cy="441720"/>
          </a:xfrm>
        </p:grpSpPr>
        <p:sp>
          <p:nvSpPr>
            <p:cNvPr id="452" name=""/>
            <p:cNvSpPr/>
            <p:nvPr/>
          </p:nvSpPr>
          <p:spPr>
            <a:xfrm>
              <a:off x="6244920" y="5595840"/>
              <a:ext cx="6530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8%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3" name=""/>
            <p:cNvGrpSpPr/>
            <p:nvPr/>
          </p:nvGrpSpPr>
          <p:grpSpPr>
            <a:xfrm>
              <a:off x="6093000" y="5551560"/>
              <a:ext cx="322200" cy="434880"/>
              <a:chOff x="6093000" y="5551560"/>
              <a:chExt cx="322200" cy="434880"/>
            </a:xfrm>
          </p:grpSpPr>
          <p:sp>
            <p:nvSpPr>
              <p:cNvPr id="454" name=""/>
              <p:cNvSpPr/>
              <p:nvPr/>
            </p:nvSpPr>
            <p:spPr>
              <a:xfrm>
                <a:off x="6093000" y="5551560"/>
                <a:ext cx="32220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6105600" y="5589720"/>
                <a:ext cx="18432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56" name=""/>
          <p:cNvGrpSpPr/>
          <p:nvPr/>
        </p:nvGrpSpPr>
        <p:grpSpPr>
          <a:xfrm>
            <a:off x="4124160" y="4649760"/>
            <a:ext cx="703080" cy="442080"/>
            <a:chOff x="4124160" y="4649760"/>
            <a:chExt cx="703080" cy="442080"/>
          </a:xfrm>
        </p:grpSpPr>
        <p:sp>
          <p:nvSpPr>
            <p:cNvPr id="457" name=""/>
            <p:cNvSpPr/>
            <p:nvPr/>
          </p:nvSpPr>
          <p:spPr>
            <a:xfrm>
              <a:off x="4302360" y="4694400"/>
              <a:ext cx="524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%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8" name=""/>
            <p:cNvGrpSpPr/>
            <p:nvPr/>
          </p:nvGrpSpPr>
          <p:grpSpPr>
            <a:xfrm>
              <a:off x="4124160" y="4649760"/>
              <a:ext cx="322200" cy="434880"/>
              <a:chOff x="4124160" y="4649760"/>
              <a:chExt cx="322200" cy="434880"/>
            </a:xfrm>
          </p:grpSpPr>
          <p:sp>
            <p:nvSpPr>
              <p:cNvPr id="459" name=""/>
              <p:cNvSpPr/>
              <p:nvPr/>
            </p:nvSpPr>
            <p:spPr>
              <a:xfrm>
                <a:off x="4124160" y="4649760"/>
                <a:ext cx="32220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4136760" y="4687920"/>
                <a:ext cx="18432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61" name=""/>
          <p:cNvGrpSpPr/>
          <p:nvPr/>
        </p:nvGrpSpPr>
        <p:grpSpPr>
          <a:xfrm>
            <a:off x="4124160" y="5564160"/>
            <a:ext cx="805320" cy="434880"/>
            <a:chOff x="4124160" y="5564160"/>
            <a:chExt cx="805320" cy="434880"/>
          </a:xfrm>
        </p:grpSpPr>
        <p:sp>
          <p:nvSpPr>
            <p:cNvPr id="462" name=""/>
            <p:cNvSpPr/>
            <p:nvPr/>
          </p:nvSpPr>
          <p:spPr>
            <a:xfrm>
              <a:off x="4276440" y="5595840"/>
              <a:ext cx="6530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2%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3" name=""/>
            <p:cNvGrpSpPr/>
            <p:nvPr/>
          </p:nvGrpSpPr>
          <p:grpSpPr>
            <a:xfrm>
              <a:off x="4124160" y="5564160"/>
              <a:ext cx="322200" cy="434880"/>
              <a:chOff x="4124160" y="5564160"/>
              <a:chExt cx="322200" cy="434880"/>
            </a:xfrm>
          </p:grpSpPr>
          <p:sp>
            <p:nvSpPr>
              <p:cNvPr id="464" name=""/>
              <p:cNvSpPr/>
              <p:nvPr/>
            </p:nvSpPr>
            <p:spPr>
              <a:xfrm>
                <a:off x="4124160" y="5564160"/>
                <a:ext cx="32220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4136760" y="5602320"/>
                <a:ext cx="18432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66" name=""/>
          <p:cNvSpPr/>
          <p:nvPr/>
        </p:nvSpPr>
        <p:spPr>
          <a:xfrm>
            <a:off x="7651080" y="6326280"/>
            <a:ext cx="12715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2002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62" dur="indefinite" restart="never" nodeType="tmRoot">
          <p:childTnLst>
            <p:seq>
              <p:cTn id="863" dur="indefinite" nodeType="mainSeq">
                <p:childTnLst>
                  <p:par>
                    <p:cTn id="864" fill="hold">
                      <p:stCondLst>
                        <p:cond delay="0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8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9" fill="hold">
                            <p:stCondLst>
                              <p:cond delay="500"/>
                            </p:stCondLst>
                            <p:childTnLst>
                              <p:par>
                                <p:cTn id="8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2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7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8" fill="hold">
                            <p:stCondLst>
                              <p:cond delay="500"/>
                            </p:stCondLst>
                            <p:childTnLst>
                              <p:par>
                                <p:cTn id="8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1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3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  <p:par>
                          <p:cTn id="883" fill="hold">
                            <p:stCondLst>
                              <p:cond delay="1000"/>
                            </p:stCondLst>
                            <p:childTnLst>
                              <p:par>
                                <p:cTn id="8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6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fill="hold">
                            <p:stCondLst>
                              <p:cond delay="1500"/>
                            </p:stCondLst>
                            <p:childTnLst>
                              <p:par>
                                <p:cTn id="8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0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1" fill="hold">
                            <p:stCondLst>
                              <p:cond delay="2000"/>
                            </p:stCondLst>
                            <p:childTnLst>
                              <p:par>
                                <p:cTn id="8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4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5" fill="hold">
                            <p:stCondLst>
                              <p:cond delay="2500"/>
                            </p:stCondLst>
                            <p:childTnLst>
                              <p:par>
                                <p:cTn id="8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8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9" fill="hold">
                            <p:stCondLst>
                              <p:cond delay="3000"/>
                            </p:stCondLst>
                            <p:childTnLst>
                              <p:par>
                                <p:cTn id="9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2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3" fill="hold">
                            <p:stCondLst>
                              <p:cond delay="3500"/>
                            </p:stCondLst>
                            <p:childTnLst>
                              <p:par>
                                <p:cTn id="9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6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7" fill="hold">
                            <p:stCondLst>
                              <p:cond delay="4000"/>
                            </p:stCondLst>
                            <p:childTnLst>
                              <p:par>
                                <p:cTn id="9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0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1" fill="hold">
                            <p:stCondLst>
                              <p:cond delay="4500"/>
                            </p:stCondLst>
                            <p:childTnLst>
                              <p:par>
                                <p:cTn id="9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9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0" fill="hold">
                            <p:stCondLst>
                              <p:cond delay="500"/>
                            </p:stCondLst>
                            <p:childTnLst>
                              <p:par>
                                <p:cTn id="9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3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4" fill="hold">
                            <p:stCondLst>
                              <p:cond delay="1000"/>
                            </p:stCondLst>
                            <p:childTnLst>
                              <p:par>
                                <p:cTn id="9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7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fill="hold">
                            <p:stCondLst>
                              <p:cond delay="1500"/>
                            </p:stCondLst>
                            <p:childTnLst>
                              <p:par>
                                <p:cTn id="9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1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fill="hold">
                            <p:stCondLst>
                              <p:cond delay="2000"/>
                            </p:stCondLst>
                            <p:childTnLst>
                              <p:par>
                                <p:cTn id="9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5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2809800" y="147600"/>
            <a:ext cx="503856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FEDERAL FINA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952560" y="612720"/>
            <a:ext cx="70027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0000"/>
                </a:solidFill>
                <a:latin typeface="Brush Script MT"/>
              </a:rPr>
              <a:t>Federal Expenditur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735560" y="1397160"/>
            <a:ext cx="7187400" cy="24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Arial"/>
              </a:rPr>
              <a:t>Pensions and Income Security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Arial"/>
              </a:rPr>
              <a:t>National Defens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Arial"/>
              </a:rPr>
              <a:t>Health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Arial"/>
              </a:rPr>
              <a:t>Interest on Public Debt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0" name=""/>
          <p:cNvGraphicFramePr/>
          <p:nvPr/>
        </p:nvGraphicFramePr>
        <p:xfrm>
          <a:off x="2511360" y="3552840"/>
          <a:ext cx="5427720" cy="3151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1360" y="3552840"/>
                    <a:ext cx="5427720" cy="315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2" name=""/>
          <p:cNvSpPr/>
          <p:nvPr/>
        </p:nvSpPr>
        <p:spPr>
          <a:xfrm>
            <a:off x="4115160" y="4087800"/>
            <a:ext cx="1780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ensions &am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come Secur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605200" y="4660920"/>
            <a:ext cx="8420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atio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efen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7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326920" y="5460840"/>
            <a:ext cx="8463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eal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1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985920" y="5141880"/>
            <a:ext cx="91368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ll Oth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5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510080" y="5662440"/>
            <a:ext cx="78084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ter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9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7651080" y="6326280"/>
            <a:ext cx="12715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2002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323760" y="4417920"/>
            <a:ext cx="256248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Expendi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Times New Roman"/>
              </a:rPr>
              <a:t>$2,011 Bill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36" dur="indefinite" restart="never" nodeType="tmRoot">
          <p:childTnLst>
            <p:seq>
              <p:cTn id="937" dur="indefinite" nodeType="mainSeq">
                <p:childTnLst>
                  <p:par>
                    <p:cTn id="938" fill="hold">
                      <p:stCondLst>
                        <p:cond delay="0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2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3" fill="hold">
                            <p:stCondLst>
                              <p:cond delay="500"/>
                            </p:stCondLst>
                            <p:childTnLst>
                              <p:par>
                                <p:cTn id="9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6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7" fill="hold">
                            <p:stCondLst>
                              <p:cond delay="1000"/>
                            </p:stCondLst>
                            <p:childTnLst>
                              <p:par>
                                <p:cTn id="9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0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5" dur="1000"/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6" fill="hold">
                            <p:stCondLst>
                              <p:cond delay="1000"/>
                            </p:stCondLst>
                            <p:childTnLst>
                              <p:par>
                                <p:cTn id="9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9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4" dur="1000"/>
                                        <p:tgtEl>
                                          <p:spTgt spid="4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7" fill="hold">
                            <p:stCondLst>
                              <p:cond delay="1000"/>
                            </p:stCondLst>
                            <p:childTnLst>
                              <p:par>
                                <p:cTn id="9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0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8" dur="1000"/>
                                        <p:tgtEl>
                                          <p:spTgt spid="4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9" fill="hold">
                            <p:stCondLst>
                              <p:cond delay="1000"/>
                            </p:stCondLst>
                            <p:childTnLst>
                              <p:par>
                                <p:cTn id="9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2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0" dur="1000"/>
                                        <p:tgtEl>
                                          <p:spTgt spid="4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4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  <p:par>
                          <p:cTn id="996" fill="hold">
                            <p:stCondLst>
                              <p:cond delay="1500"/>
                            </p:stCondLst>
                            <p:childTnLst>
                              <p:par>
                                <p:cTn id="9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9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3" dur="1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1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9" name=""/>
          <p:cNvGraphicFramePr/>
          <p:nvPr/>
        </p:nvGraphicFramePr>
        <p:xfrm>
          <a:off x="2370240" y="3519360"/>
          <a:ext cx="5683320" cy="329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0240" y="3519360"/>
                    <a:ext cx="5683320" cy="32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1" name=""/>
          <p:cNvSpPr/>
          <p:nvPr/>
        </p:nvSpPr>
        <p:spPr>
          <a:xfrm>
            <a:off x="2809800" y="147600"/>
            <a:ext cx="503856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FEDERAL FINA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975960" y="612720"/>
            <a:ext cx="717660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0000"/>
                </a:solidFill>
                <a:latin typeface="Brush Script MT"/>
              </a:rPr>
              <a:t>Federal Tax Revenu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4311000" y="3935520"/>
            <a:ext cx="17348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ers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come T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6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737000" y="1397160"/>
            <a:ext cx="5012640" cy="182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Arial"/>
              </a:rPr>
              <a:t>Personal Income Tax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Arial"/>
              </a:rPr>
              <a:t>Marginal Tax Rat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Arial"/>
              </a:rPr>
              <a:t>Average Tax Rat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651080" y="6326280"/>
            <a:ext cx="12715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2002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1005" dur="indefinite" restart="never" nodeType="tmRoot">
          <p:childTnLst>
            <p:seq>
              <p:cTn id="1006" dur="indefinite" nodeType="mainSeq">
                <p:childTnLst>
                  <p:par>
                    <p:cTn id="1007" fill="hold">
                      <p:stCondLst>
                        <p:cond delay="0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1" dur="1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5" dur="1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3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3" dur="1000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2" dur="1000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6" name=""/>
          <p:cNvGraphicFramePr/>
          <p:nvPr/>
        </p:nvGraphicFramePr>
        <p:xfrm>
          <a:off x="2370240" y="3519360"/>
          <a:ext cx="5683320" cy="329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0240" y="3519360"/>
                    <a:ext cx="5683320" cy="32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8" name=""/>
          <p:cNvSpPr/>
          <p:nvPr/>
        </p:nvSpPr>
        <p:spPr>
          <a:xfrm>
            <a:off x="2809800" y="147600"/>
            <a:ext cx="503856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FEDERAL FINA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975960" y="612720"/>
            <a:ext cx="717660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0000"/>
                </a:solidFill>
                <a:latin typeface="Brush Script MT"/>
              </a:rPr>
              <a:t>Federal Tax Revenu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311000" y="3935520"/>
            <a:ext cx="17348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ers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come T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6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133600" y="5208480"/>
            <a:ext cx="97740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ayro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ax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8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842200" y="5753160"/>
            <a:ext cx="148032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rpor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come T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8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2200320" y="5442120"/>
            <a:ext cx="1120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ll Ot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247480" y="4861080"/>
            <a:ext cx="15778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xcise Tax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V="1">
            <a:off x="3352680" y="5283360"/>
            <a:ext cx="774720" cy="25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20520" bIns="-20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3073320" y="5549400"/>
            <a:ext cx="1143000" cy="279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V="1">
            <a:off x="4064040" y="5803560"/>
            <a:ext cx="507960" cy="330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736640" y="1397160"/>
            <a:ext cx="5818680" cy="24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Personal Income Tax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Arial"/>
              </a:rPr>
              <a:t>Payroll Tax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Arial"/>
              </a:rPr>
              <a:t>Corporate Income Taxe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Arial"/>
              </a:rPr>
              <a:t>Excise Taxe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7651080" y="6326280"/>
            <a:ext cx="12715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2002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395400" y="4417920"/>
            <a:ext cx="256248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ax Reven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Times New Roman"/>
              </a:rPr>
              <a:t>$1,853 Bill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1044" dur="indefinite" restart="never" nodeType="tmRoot">
          <p:childTnLst>
            <p:seq>
              <p:cTn id="1045" dur="indefinite" nodeType="mainSeq">
                <p:childTnLst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0" dur="1000"/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4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2" dur="1000"/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6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0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  <p:par>
                          <p:cTn id="10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2" dur="1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9" dur="1000"/>
                                        <p:tgtEl>
                                          <p:spTgt spid="4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3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  <p:par>
                          <p:cTn id="1085" fill="hold">
                            <p:stCondLst>
                              <p:cond delay="1500"/>
                            </p:stCondLst>
                            <p:childTnLst>
                              <p:par>
                                <p:cTn id="10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8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2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3" fill="hold">
                            <p:stCondLst>
                              <p:cond delay="2500"/>
                            </p:stCondLst>
                            <p:childTnLst>
                              <p:par>
                                <p:cTn id="10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6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7" fill="hold">
                            <p:stCondLst>
                              <p:cond delay="3000"/>
                            </p:stCondLst>
                            <p:childTnLst>
                              <p:par>
                                <p:cTn id="10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0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2029320" y="147600"/>
            <a:ext cx="67269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STATE AND LOCAL FINA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253520" y="612720"/>
            <a:ext cx="51145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0000"/>
                </a:solidFill>
                <a:latin typeface="Brush Script MT"/>
              </a:rPr>
              <a:t>State Revenu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992240" y="1635120"/>
            <a:ext cx="6656400" cy="53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Arial"/>
              </a:rPr>
              <a:t>Sales &amp; Excise Taxes</a:t>
            </a:r>
            <a:r>
              <a:rPr b="1" lang="en-US" sz="38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US" sz="3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~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800" spc="-1" strike="noStrike">
                <a:solidFill>
                  <a:srgbClr val="cc0000"/>
                </a:solidFill>
                <a:latin typeface="Arial"/>
              </a:rPr>
              <a:t>47%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Arial"/>
              </a:rPr>
              <a:t>State Income Taxes</a:t>
            </a:r>
            <a:r>
              <a:rPr b="1" lang="en-US" sz="38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US" sz="3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~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800" spc="-1" strike="noStrike">
                <a:solidFill>
                  <a:srgbClr val="cc0000"/>
                </a:solidFill>
                <a:latin typeface="Arial"/>
              </a:rPr>
              <a:t>36%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Arial"/>
              </a:rPr>
              <a:t>Corporate Income Taxe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Arial"/>
              </a:rPr>
              <a:t>License Fee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Arial"/>
              </a:rPr>
              <a:t>Lotterie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Arial"/>
              </a:rPr>
              <a:t>Intergovernmental 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US" sz="3800" spc="-1" strike="noStrike">
                <a:solidFill>
                  <a:srgbClr val="cc0000"/>
                </a:solidFill>
                <a:latin typeface="Arial"/>
              </a:rPr>
              <a:t>Grants                     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~</a:t>
            </a:r>
            <a:r>
              <a:rPr b="1" i="1" lang="en-US" sz="3800" spc="-1" strike="noStrike">
                <a:solidFill>
                  <a:srgbClr val="cc0000"/>
                </a:solidFill>
                <a:latin typeface="Arial"/>
              </a:rPr>
              <a:t>22%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Arial"/>
              </a:rPr>
              <a:t>State Owned Utilities/Stores 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02" dur="indefinite" restart="never" nodeType="tmRoot">
          <p:childTnLst>
            <p:seq>
              <p:cTn id="1103" dur="indefinite" nodeType="mainSeq">
                <p:childTnLst>
                  <p:par>
                    <p:cTn id="1104" fill="hold">
                      <p:stCondLst>
                        <p:cond delay="0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8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9" fill="hold">
                            <p:stCondLst>
                              <p:cond delay="500"/>
                            </p:stCondLst>
                            <p:childTnLst>
                              <p:par>
                                <p:cTn id="11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2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7" dur="1000"/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8" fill="hold">
                      <p:stCondLst>
                        <p:cond delay="indefinite"/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2" dur="1000"/>
                                        <p:tgtEl>
                                          <p:spTgt spid="5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24" fill="hold">
                      <p:stCondLst>
                        <p:cond delay="indefinite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8" dur="1000"/>
                                        <p:tgtEl>
                                          <p:spTgt spid="5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4" dur="1000"/>
                                        <p:tgtEl>
                                          <p:spTgt spid="5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36" fill="hold">
                      <p:stCondLst>
                        <p:cond delay="indefinite"/>
                      </p:stCondLst>
                      <p:childTnLst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0" dur="1000"/>
                                        <p:tgtEl>
                                          <p:spTgt spid="5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42" fill="hold">
                      <p:stCondLst>
                        <p:cond delay="indefinite"/>
                      </p:stCondLst>
                      <p:childTnLst>
                        <p:par>
                          <p:cTn id="1143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6" dur="1000"/>
                                        <p:tgtEl>
                                          <p:spTgt spid="5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48" fill="hold">
                      <p:stCondLst>
                        <p:cond delay="indefinite"/>
                      </p:stCondLst>
                      <p:childTnLst>
                        <p:par>
                          <p:cTn id="1149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2" dur="1000"/>
                                        <p:tgtEl>
                                          <p:spTgt spid="5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3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54" fill="hold">
                      <p:stCondLst>
                        <p:cond delay="indefinite"/>
                      </p:stCondLst>
                      <p:childTnLst>
                        <p:par>
                          <p:cTn id="1155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8" dur="1000"/>
                                        <p:tgtEl>
                                          <p:spTgt spid="5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2029320" y="147600"/>
            <a:ext cx="67269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STATE AND LOCAL FINA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108800" y="612720"/>
            <a:ext cx="62470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0000"/>
                </a:solidFill>
                <a:latin typeface="Brush Script MT"/>
              </a:rPr>
              <a:t>State Expenditur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992240" y="1635120"/>
            <a:ext cx="6656400" cy="37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10000"/>
              </a:lnSpc>
              <a:spcBef>
                <a:spcPts val="950"/>
              </a:spcBef>
              <a:tabLst>
                <a:tab algn="l" pos="0"/>
                <a:tab algn="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Arial"/>
              </a:rPr>
              <a:t>Education </a:t>
            </a:r>
            <a:r>
              <a:rPr b="1" lang="en-US" sz="38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US" sz="3800" spc="-1" strike="noStrike">
                <a:solidFill>
                  <a:srgbClr val="cc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~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800" spc="-1" strike="noStrike">
                <a:solidFill>
                  <a:srgbClr val="cc0000"/>
                </a:solidFill>
                <a:latin typeface="Arial"/>
              </a:rPr>
              <a:t>36%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950"/>
              </a:spcBef>
              <a:tabLst>
                <a:tab algn="l" pos="0"/>
                <a:tab algn="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Arial"/>
              </a:rPr>
              <a:t>Public Welfare</a:t>
            </a:r>
            <a:r>
              <a:rPr b="1" lang="en-US" sz="38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US" sz="3800" spc="-1" strike="noStrike">
                <a:solidFill>
                  <a:srgbClr val="cc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~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800" spc="-1" strike="noStrike">
                <a:solidFill>
                  <a:srgbClr val="cc0000"/>
                </a:solidFill>
                <a:latin typeface="Arial"/>
              </a:rPr>
              <a:t>25%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950"/>
              </a:spcBef>
              <a:tabLst>
                <a:tab algn="l" pos="0"/>
                <a:tab algn="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Arial"/>
              </a:rPr>
              <a:t>Health and Hospitals  </a:t>
            </a:r>
            <a:r>
              <a:rPr b="1" lang="en-US" sz="38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~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800" spc="-1" strike="noStrike">
                <a:solidFill>
                  <a:srgbClr val="cc0000"/>
                </a:solidFill>
                <a:latin typeface="Arial"/>
              </a:rPr>
              <a:t>8%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950"/>
              </a:spcBef>
              <a:tabLst>
                <a:tab algn="l" pos="0"/>
                <a:tab algn="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Arial"/>
              </a:rPr>
              <a:t>Highways </a:t>
            </a:r>
            <a:r>
              <a:rPr b="1" lang="en-US" sz="38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~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800" spc="-1" strike="noStrike">
                <a:solidFill>
                  <a:srgbClr val="cc0000"/>
                </a:solidFill>
                <a:latin typeface="Arial"/>
              </a:rPr>
              <a:t>8%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950"/>
              </a:spcBef>
              <a:tabLst>
                <a:tab algn="l" pos="0"/>
                <a:tab algn="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Arial"/>
              </a:rPr>
              <a:t>Public Safety</a:t>
            </a:r>
            <a:r>
              <a:rPr b="1" lang="en-US" sz="38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US" sz="3800" spc="-1" strike="noStrike">
                <a:solidFill>
                  <a:srgbClr val="cc00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~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800" spc="-1" strike="noStrike">
                <a:solidFill>
                  <a:srgbClr val="cc0000"/>
                </a:solidFill>
                <a:latin typeface="Arial"/>
              </a:rPr>
              <a:t>5%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0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6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0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5" dur="1000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fill="hold">
                      <p:stCondLst>
                        <p:cond delay="indefinite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0" dur="1000"/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82" fill="hold">
                      <p:stCondLst>
                        <p:cond delay="indefinite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6" dur="1000"/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88" fill="hold">
                      <p:stCondLst>
                        <p:cond delay="indefinite"/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2" dur="1000"/>
                                        <p:tgtEl>
                                          <p:spTgt spid="5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94" fill="hold">
                      <p:stCondLst>
                        <p:cond delay="indefinite"/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8" dur="1000"/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/>
          <p:nvPr/>
        </p:nvSpPr>
        <p:spPr>
          <a:xfrm>
            <a:off x="2029320" y="147600"/>
            <a:ext cx="67269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STATE AND LOCAL FINA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238760" y="612720"/>
            <a:ext cx="513756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0000"/>
                </a:solidFill>
                <a:latin typeface="Brush Script MT"/>
              </a:rPr>
              <a:t>Local Revenu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739880" y="1468440"/>
            <a:ext cx="6966000" cy="11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Arial"/>
              </a:rPr>
              <a:t>Property Taxes </a:t>
            </a:r>
            <a:r>
              <a:rPr b="1" lang="en-US" sz="38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US" sz="3800" spc="-1" strike="noStrike">
                <a:solidFill>
                  <a:srgbClr val="cc0000"/>
                </a:solidFill>
                <a:latin typeface="Arial"/>
              </a:rPr>
              <a:t>72%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Arial"/>
              </a:rPr>
              <a:t>Sales &amp; Excise Taxes </a:t>
            </a:r>
            <a:r>
              <a:rPr b="1" lang="en-US" sz="38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US" sz="3800" spc="-1" strike="noStrike">
                <a:solidFill>
                  <a:srgbClr val="cc0000"/>
                </a:solidFill>
                <a:latin typeface="Arial"/>
              </a:rPr>
              <a:t>17%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735200" y="3321000"/>
            <a:ext cx="6966000" cy="79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04640" indent="-404640">
              <a:lnSpc>
                <a:spcPct val="80000"/>
              </a:lnSpc>
              <a:tabLst>
                <a:tab algn="l" pos="0"/>
                <a:tab algn="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Arial"/>
              </a:rPr>
              <a:t>Education </a:t>
            </a:r>
            <a:r>
              <a:rPr b="1" lang="en-US" sz="38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US" sz="3800" spc="-1" strike="noStrike">
                <a:solidFill>
                  <a:srgbClr val="cc0000"/>
                </a:solidFill>
                <a:latin typeface="Arial"/>
              </a:rPr>
              <a:t>44%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404640" indent="-404640">
              <a:lnSpc>
                <a:spcPct val="80000"/>
              </a:lnSpc>
              <a:tabLst>
                <a:tab algn="l" pos="0"/>
                <a:tab algn="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Arial"/>
              </a:rPr>
              <a:t>Welfare, Health, and                    Hospitals  </a:t>
            </a:r>
            <a:r>
              <a:rPr b="1" lang="en-US" sz="38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US" sz="3800" spc="-1" strike="noStrike">
                <a:solidFill>
                  <a:srgbClr val="cc0000"/>
                </a:solidFill>
                <a:latin typeface="Arial"/>
              </a:rPr>
              <a:t>12%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404640" indent="-404640">
              <a:lnSpc>
                <a:spcPct val="80000"/>
              </a:lnSpc>
              <a:tabLst>
                <a:tab algn="l" pos="0"/>
                <a:tab algn="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Arial"/>
              </a:rPr>
              <a:t>Public Safety</a:t>
            </a:r>
            <a:r>
              <a:rPr b="1" lang="en-US" sz="38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US" sz="3800" spc="-1" strike="noStrike">
                <a:solidFill>
                  <a:srgbClr val="cc0000"/>
                </a:solidFill>
                <a:latin typeface="Arial"/>
              </a:rPr>
              <a:t>11%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404640" indent="-404640">
              <a:lnSpc>
                <a:spcPct val="80000"/>
              </a:lnSpc>
              <a:tabLst>
                <a:tab algn="l" pos="0"/>
                <a:tab algn="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Arial"/>
              </a:rPr>
              <a:t>Housing, Parks, and Sewerage</a:t>
            </a:r>
            <a:r>
              <a:rPr b="1" lang="en-US" sz="38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US" sz="3800" spc="-1" strike="noStrike">
                <a:solidFill>
                  <a:srgbClr val="cc0000"/>
                </a:solidFill>
                <a:latin typeface="Arial"/>
              </a:rPr>
              <a:t>8%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404640" indent="-404640">
              <a:lnSpc>
                <a:spcPct val="80000"/>
              </a:lnSpc>
              <a:tabLst>
                <a:tab algn="l" pos="0"/>
                <a:tab algn="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Arial"/>
              </a:rPr>
              <a:t>Highways</a:t>
            </a:r>
            <a:r>
              <a:rPr b="1" lang="en-US" sz="38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US" sz="3800" spc="-1" strike="noStrike">
                <a:solidFill>
                  <a:srgbClr val="cc0000"/>
                </a:solidFill>
                <a:latin typeface="Arial"/>
              </a:rPr>
              <a:t>5%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1089720" y="2436840"/>
            <a:ext cx="626976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0000"/>
                </a:solidFill>
                <a:latin typeface="Brush Script MT"/>
              </a:rPr>
              <a:t>Local Expenditur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00" dur="indefinite" restart="never" nodeType="tmRoot">
          <p:childTnLst>
            <p:seq>
              <p:cTn id="1201" dur="indefinite" nodeType="mainSeq">
                <p:childTnLst>
                  <p:par>
                    <p:cTn id="1202" fill="hold">
                      <p:stCondLst>
                        <p:cond delay="0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6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7" fill="hold">
                      <p:stCondLst>
                        <p:cond delay="indefinite"/>
                      </p:stCondLst>
                      <p:childTnLst>
                        <p:par>
                          <p:cTn id="1208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1" dur="1000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fill="hold">
                      <p:stCondLst>
                        <p:cond delay="indefinite"/>
                      </p:stCondLst>
                      <p:childTnLst>
                        <p:par>
                          <p:cTn id="1213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6" dur="1000"/>
                                        <p:tgtEl>
                                          <p:spTgt spid="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18" fill="hold">
                      <p:stCondLst>
                        <p:cond delay="indefinite"/>
                      </p:stCondLst>
                      <p:childTnLst>
                        <p:par>
                          <p:cTn id="1219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2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8" dur="1000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fill="hold">
                      <p:stCondLst>
                        <p:cond delay="indefinite"/>
                      </p:stCondLst>
                      <p:childTnLst>
                        <p:par>
                          <p:cTn id="1230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3" dur="1000"/>
                                        <p:tgtEl>
                                          <p:spTgt spid="5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9" dur="1000"/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41" fill="hold">
                      <p:stCondLst>
                        <p:cond delay="indefinite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5" dur="1000"/>
                                        <p:tgtEl>
                                          <p:spTgt spid="5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47" fill="hold">
                      <p:stCondLst>
                        <p:cond delay="indefinite"/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1" dur="1000"/>
                                        <p:tgtEl>
                                          <p:spTgt spid="5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928880" y="1766880"/>
            <a:ext cx="70405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r" pos="4572000"/>
                <a:tab algn="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WAGES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$5,977 Billion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72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928880" y="2408400"/>
            <a:ext cx="706428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r" pos="4572000"/>
                <a:tab algn="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PROPRIETOR’S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757 Billion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9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4572000"/>
                <a:tab algn="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INC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28880" y="3422520"/>
            <a:ext cx="708984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r" pos="4572000"/>
                <a:tab algn="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CORPORATE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787 Billion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9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4572000"/>
                <a:tab algn="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PROF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28880" y="4435560"/>
            <a:ext cx="71103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r" pos="4572000"/>
                <a:tab algn="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INTEREST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684 Billion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8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28880" y="5084640"/>
            <a:ext cx="70437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r" pos="4572000"/>
                <a:tab algn="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RENTS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142 Billion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2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22480" y="846000"/>
            <a:ext cx="6607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Arial"/>
              </a:rPr>
              <a:t>FUNCTIONAL DISTRIB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41640" y="5689440"/>
            <a:ext cx="24746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2002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774440" y="192240"/>
            <a:ext cx="7225920" cy="5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99"/>
                </a:solidFill>
                <a:latin typeface="Times New Roman"/>
              </a:rPr>
              <a:t>HOUSEHOLDS AS INCOME RECEIVER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/>
          <p:nvPr/>
        </p:nvSpPr>
        <p:spPr>
          <a:xfrm>
            <a:off x="2029320" y="147600"/>
            <a:ext cx="67269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STATE AND LOCAL FINA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238760" y="612720"/>
            <a:ext cx="513756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0000"/>
                </a:solidFill>
                <a:latin typeface="Brush Script MT"/>
              </a:rPr>
              <a:t>Local Revenu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739880" y="1468440"/>
            <a:ext cx="6966000" cy="11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Property Taxes 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72%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Sales &amp; Excise Taxes 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17%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735200" y="3321000"/>
            <a:ext cx="6966000" cy="79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04640" indent="-404640">
              <a:lnSpc>
                <a:spcPct val="80000"/>
              </a:lnSpc>
              <a:tabLst>
                <a:tab algn="l" pos="0"/>
                <a:tab algn="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Education 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44%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404640" indent="-404640">
              <a:lnSpc>
                <a:spcPct val="80000"/>
              </a:lnSpc>
              <a:tabLst>
                <a:tab algn="l" pos="0"/>
                <a:tab algn="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Welfare, Health, and                    Hospitals  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12%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404640" indent="-404640">
              <a:lnSpc>
                <a:spcPct val="80000"/>
              </a:lnSpc>
              <a:tabLst>
                <a:tab algn="l" pos="0"/>
                <a:tab algn="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Public Safety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11%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404640" indent="-404640">
              <a:lnSpc>
                <a:spcPct val="80000"/>
              </a:lnSpc>
              <a:tabLst>
                <a:tab algn="l" pos="0"/>
                <a:tab algn="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Housing, Parks, and Sewerage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8%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404640" indent="-404640">
              <a:lnSpc>
                <a:spcPct val="80000"/>
              </a:lnSpc>
              <a:tabLst>
                <a:tab algn="l" pos="0"/>
                <a:tab algn="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Highways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5%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089720" y="2436840"/>
            <a:ext cx="626976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0000"/>
                </a:solidFill>
                <a:latin typeface="Brush Script MT"/>
              </a:rPr>
              <a:t>Local Expenditur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528920" y="690480"/>
            <a:ext cx="7345080" cy="5484960"/>
          </a:xfrm>
          <a:prstGeom prst="irregularSeal2">
            <a:avLst/>
          </a:prstGeom>
          <a:gradFill rotWithShape="0">
            <a:gsLst>
              <a:gs pos="0">
                <a:srgbClr val="ffffff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700" spc="-1" strike="noStrike">
                <a:solidFill>
                  <a:srgbClr val="000000"/>
                </a:solidFill>
                <a:latin typeface="Times New Roman"/>
              </a:rPr>
              <a:t>Sources of</a:t>
            </a:r>
            <a:endParaRPr b="0" lang="en-US" sz="5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700" spc="-1" strike="noStrike">
                <a:solidFill>
                  <a:srgbClr val="000000"/>
                </a:solidFill>
                <a:latin typeface="Times New Roman"/>
              </a:rPr>
              <a:t>Proprietary</a:t>
            </a:r>
            <a:endParaRPr b="0" lang="en-US" sz="5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700" spc="-1" strike="noStrike">
                <a:solidFill>
                  <a:srgbClr val="000000"/>
                </a:solidFill>
                <a:latin typeface="Times New Roman"/>
              </a:rPr>
              <a:t>Incomes</a:t>
            </a:r>
            <a:endParaRPr b="0" lang="en-US" sz="5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53" dur="indefinite" restart="never" nodeType="tmRoot">
          <p:childTnLst>
            <p:seq>
              <p:cTn id="1254" dur="indefinite" nodeType="mainSeq">
                <p:childTnLst>
                  <p:par>
                    <p:cTn id="1255" fill="hold">
                      <p:stCondLst>
                        <p:cond delay="0"/>
                      </p:stCondLst>
                      <p:childTnLst>
                        <p:par>
                          <p:cTn id="1256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9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/>
          <p:nvPr/>
        </p:nvSpPr>
        <p:spPr>
          <a:xfrm>
            <a:off x="2460960" y="147600"/>
            <a:ext cx="569844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FISCAL TRANSF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739880" y="1363680"/>
            <a:ext cx="7404120" cy="31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630360" indent="-6303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c0000"/>
                </a:solidFill>
                <a:latin typeface="Arial"/>
              </a:rPr>
              <a:t>Intergovernmental Grant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marL="630360" indent="-6303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c0000"/>
                </a:solidFill>
                <a:latin typeface="Arial"/>
              </a:rPr>
              <a:t>Federal Transfers &amp; Grant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marL="630360" indent="-6303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c0000"/>
                </a:solidFill>
                <a:latin typeface="Arial"/>
              </a:rPr>
              <a:t>State Grants to Local Government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61" dur="indefinite" restart="never" nodeType="tmRoot">
          <p:childTnLst>
            <p:seq>
              <p:cTn id="1262" dur="indefinite" nodeType="mainSeq">
                <p:childTnLst>
                  <p:par>
                    <p:cTn id="1263" fill="hold">
                      <p:stCondLst>
                        <p:cond delay="0"/>
                      </p:stCondLst>
                      <p:childTnLst>
                        <p:par>
                          <p:cTn id="1264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7" dur="500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8" fill="hold">
                      <p:stCondLst>
                        <p:cond delay="indefinite"/>
                      </p:stCondLst>
                      <p:childTnLst>
                        <p:par>
                          <p:cTn id="1269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2" dur="500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3" fill="hold">
                      <p:stCondLst>
                        <p:cond delay="indefinite"/>
                      </p:stCondLst>
                      <p:childTnLst>
                        <p:par>
                          <p:cTn id="1274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7" dur="500"/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3" dur="500"/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85" fill="hold">
                      <p:stCondLst>
                        <p:cond delay="indefinite"/>
                      </p:stCondLst>
                      <p:childTnLst>
                        <p:par>
                          <p:cTn id="128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287" dur="1" fill="hold"/>
                                  <p:tgtEl>
                                    <p:spTgt spid="51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99"/>
            </a:gs>
            <a:gs pos="100000">
              <a:srgbClr val="00004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/>
          <p:nvPr/>
        </p:nvSpPr>
        <p:spPr>
          <a:xfrm>
            <a:off x="190440" y="598680"/>
            <a:ext cx="4532400" cy="59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  <a:hlinkClick r:id="rId1" action="ppaction://hlinksldjump"/>
              </a:rPr>
              <a:t>functional distribution of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  <a:hlinkClick r:id="rId2" action="ppaction://hlinksldjump"/>
              </a:rPr>
              <a:t>personal distribution of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  <a:hlinkClick r:id="rId3" action="ppaction://hlinksldjump"/>
              </a:rPr>
              <a:t>durable go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  <a:hlinkClick r:id="rId4" action="ppaction://hlinksldjump"/>
              </a:rPr>
              <a:t>non-durable go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  <a:hlinkClick r:id="rId5" action="ppaction://hlinksldjump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  <a:hlinkClick r:id="rId6" action="ppaction://hlinksldjump"/>
              </a:rPr>
              <a:t>pl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  <a:hlinkClick r:id="rId7" action="ppaction://hlinksldjump"/>
              </a:rPr>
              <a:t>fi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  <a:hlinkClick r:id="rId8" action="ppaction://hlinksldjump"/>
              </a:rPr>
              <a:t>indus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  <a:hlinkClick r:id="rId9" action="ppaction://hlinksldjump"/>
              </a:rPr>
              <a:t>sole proprietorsh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  <a:hlinkClick r:id="rId10" action="ppaction://hlinksldjump"/>
              </a:rPr>
              <a:t>partnersh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  <a:hlinkClick r:id="rId11" action="ppaction://hlinksldjump"/>
              </a:rPr>
              <a:t>corp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  <a:hlinkClick r:id="rId12" action="ppaction://hlinksldjump"/>
              </a:rPr>
              <a:t>sto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  <a:hlinkClick r:id="rId13" action="ppaction://hlinksldjump"/>
              </a:rPr>
              <a:t>bo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  <a:hlinkClick r:id="rId14" action="ppaction://hlinksldjump"/>
              </a:rPr>
              <a:t>limited lia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  <a:hlinkClick r:id="rId15" action="ppaction://hlinksldjump"/>
              </a:rPr>
              <a:t>double tax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  <a:hlinkClick r:id="rId16" action="ppaction://hlinksldjump"/>
              </a:rPr>
              <a:t>principal-agent 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898880" y="600120"/>
            <a:ext cx="4245120" cy="55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  <a:hlinkClick r:id="rId17" action="ppaction://hlinksldjump"/>
              </a:rPr>
              <a:t>monopo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  <a:hlinkClick r:id="rId18" action="ppaction://hlinksldjump"/>
              </a:rPr>
              <a:t>spillover co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  <a:hlinkClick r:id="rId19" action="ppaction://hlinksldjump"/>
              </a:rPr>
              <a:t>spillover benef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  <a:hlinkClick r:id="rId20" action="ppaction://hlinksldjump"/>
              </a:rPr>
              <a:t>public go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  <a:hlinkClick r:id="rId21" action="ppaction://hlinksldjump"/>
              </a:rPr>
              <a:t>free-rider 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  <a:hlinkClick r:id="rId22" action="ppaction://hlinksldjump"/>
              </a:rPr>
              <a:t>quasi-public go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  <a:hlinkClick r:id="rId23" action="ppaction://hlinksldjump"/>
              </a:rPr>
              <a:t>government purch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  <a:hlinkClick r:id="rId24" action="ppaction://hlinksldjump"/>
              </a:rPr>
              <a:t>transfer pay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  <a:hlinkClick r:id="rId25" action="ppaction://hlinksldjump"/>
              </a:rPr>
              <a:t>personal income t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  <a:hlinkClick r:id="rId26" action="ppaction://hlinksldjump"/>
              </a:rPr>
              <a:t>marginal tax r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  <a:hlinkClick r:id="rId27" action="ppaction://hlinksldjump"/>
              </a:rPr>
              <a:t>average tax r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yroll tax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rporate income t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ales &amp; excise tax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erty tax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44440" y="6454800"/>
            <a:ext cx="31320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Copyright McGraw-Hill/Irwin 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1674720" y="135000"/>
            <a:ext cx="5911920" cy="438120"/>
          </a:xfrm>
          <a:prstGeom prst="rect">
            <a:avLst/>
          </a:prstGeom>
        </p:spPr>
        <p:txBody>
          <a:bodyPr wrap="none" lIns="91800" rIns="91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55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Key Terms</a:t>
            </a:r>
            <a:endParaRPr b="0" lang="en-US" sz="2400" spc="1" strike="noStrike">
              <a:ln w="255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24" name="">
            <a:hlinkClick r:id="" action="ppaction://hlinkshowjump?jump=previousslide"/>
          </p:cNvPr>
          <p:cNvSpPr/>
          <p:nvPr/>
        </p:nvSpPr>
        <p:spPr>
          <a:xfrm>
            <a:off x="7666200" y="6413400"/>
            <a:ext cx="384120" cy="228600"/>
          </a:xfrm>
          <a:custGeom>
            <a:avLst/>
            <a:gdLst>
              <a:gd name="textAreaLeft" fmla="*/ 14760 w 384120"/>
              <a:gd name="textAreaRight" fmla="*/ 369360 w 3841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6272" h="21600">
                <a:moveTo>
                  <a:pt x="0" y="0"/>
                </a:moveTo>
                <a:lnTo>
                  <a:pt x="36272" y="0"/>
                </a:lnTo>
                <a:lnTo>
                  <a:pt x="36272" y="21600"/>
                </a:lnTo>
                <a:lnTo>
                  <a:pt x="0" y="21600"/>
                </a:lnTo>
                <a:close/>
              </a:path>
              <a:path fill="lightenLess" w="36272" h="21600">
                <a:moveTo>
                  <a:pt x="0" y="0"/>
                </a:moveTo>
                <a:lnTo>
                  <a:pt x="36272" y="0"/>
                </a:lnTo>
                <a:lnTo>
                  <a:pt x="34872" y="1400"/>
                </a:lnTo>
                <a:lnTo>
                  <a:pt x="1400" y="1400"/>
                </a:lnTo>
                <a:close/>
              </a:path>
              <a:path fill="darken" w="36272" h="21600">
                <a:moveTo>
                  <a:pt x="36272" y="0"/>
                </a:moveTo>
                <a:lnTo>
                  <a:pt x="36272" y="21600"/>
                </a:lnTo>
                <a:lnTo>
                  <a:pt x="34872" y="20200"/>
                </a:lnTo>
                <a:lnTo>
                  <a:pt x="34872" y="1400"/>
                </a:lnTo>
                <a:close/>
              </a:path>
              <a:path fill="darkenLess" w="36272" h="21600">
                <a:moveTo>
                  <a:pt x="362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872" y="20200"/>
                </a:lnTo>
                <a:close/>
              </a:path>
              <a:path fill="lighten" w="362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272" h="21600">
                <a:moveTo>
                  <a:pt x="11129" y="10800"/>
                </a:moveTo>
                <a:lnTo>
                  <a:pt x="25142" y="3794"/>
                </a:lnTo>
                <a:lnTo>
                  <a:pt x="25142" y="17806"/>
                </a:lnTo>
                <a:close/>
              </a:path>
            </a:pathLst>
          </a:custGeom>
          <a:solidFill>
            <a:srgbClr val="cc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>
            <a:hlinkClick r:id="" action="ppaction://hlinkshowjump?jump=previousslide"/>
          </p:cNvPr>
          <p:cNvSpPr/>
          <p:nvPr/>
        </p:nvSpPr>
        <p:spPr>
          <a:xfrm>
            <a:off x="7446960" y="6618240"/>
            <a:ext cx="71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>
            <a:hlinkClick r:id="" action="ppaction://hlinkshowjump?jump=endshow"/>
          </p:cNvPr>
          <p:cNvSpPr/>
          <p:nvPr/>
        </p:nvSpPr>
        <p:spPr>
          <a:xfrm>
            <a:off x="8201160" y="6413400"/>
            <a:ext cx="366480" cy="230400"/>
          </a:xfrm>
          <a:custGeom>
            <a:avLst/>
            <a:gdLst>
              <a:gd name="textAreaLeft" fmla="*/ 14760 w 366480"/>
              <a:gd name="textAreaRight" fmla="*/ 351720 w 366480"/>
              <a:gd name="textAreaTop" fmla="*/ 14760 h 230400"/>
              <a:gd name="textAreaBottom" fmla="*/ 215640 h 230400"/>
            </a:gdLst>
            <a:ahLst/>
            <a:rect l="textAreaLeft" t="textAreaTop" r="textAreaRight" b="textAreaBottom"/>
            <a:pathLst>
              <a:path w="34338" h="21600">
                <a:moveTo>
                  <a:pt x="0" y="0"/>
                </a:moveTo>
                <a:lnTo>
                  <a:pt x="34338" y="0"/>
                </a:lnTo>
                <a:lnTo>
                  <a:pt x="34338" y="21600"/>
                </a:lnTo>
                <a:lnTo>
                  <a:pt x="0" y="21600"/>
                </a:lnTo>
                <a:close/>
              </a:path>
              <a:path fill="lightenLess" w="34338" h="21600">
                <a:moveTo>
                  <a:pt x="0" y="0"/>
                </a:moveTo>
                <a:lnTo>
                  <a:pt x="34338" y="0"/>
                </a:lnTo>
                <a:lnTo>
                  <a:pt x="32938" y="1400"/>
                </a:lnTo>
                <a:lnTo>
                  <a:pt x="1400" y="1400"/>
                </a:lnTo>
                <a:close/>
              </a:path>
              <a:path fill="darken" w="34338" h="21600">
                <a:moveTo>
                  <a:pt x="34338" y="0"/>
                </a:moveTo>
                <a:lnTo>
                  <a:pt x="34338" y="21600"/>
                </a:lnTo>
                <a:lnTo>
                  <a:pt x="32938" y="20200"/>
                </a:lnTo>
                <a:lnTo>
                  <a:pt x="32938" y="1400"/>
                </a:lnTo>
                <a:close/>
              </a:path>
              <a:path fill="darkenLess" w="34338" h="21600">
                <a:moveTo>
                  <a:pt x="343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938" y="20200"/>
                </a:lnTo>
                <a:close/>
              </a:path>
              <a:path fill="lighten" w="343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338" h="21600">
                <a:moveTo>
                  <a:pt x="10162" y="3794"/>
                </a:moveTo>
                <a:lnTo>
                  <a:pt x="24175" y="10800"/>
                </a:lnTo>
                <a:lnTo>
                  <a:pt x="10162" y="17806"/>
                </a:lnTo>
                <a:close/>
              </a:path>
            </a:pathLst>
          </a:custGeom>
          <a:solidFill>
            <a:srgbClr val="cc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>
            <a:hlinkClick r:id="" action="ppaction://hlinkshowjump?jump=endshow"/>
          </p:cNvPr>
          <p:cNvSpPr/>
          <p:nvPr/>
        </p:nvSpPr>
        <p:spPr>
          <a:xfrm>
            <a:off x="8013600" y="6618240"/>
            <a:ext cx="75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88" dur="indefinite" restart="never" nodeType="tmRoot">
          <p:childTnLst>
            <p:seq>
              <p:cTn id="1289" dur="indefinite" nodeType="mainSeq">
                <p:childTnLst>
                  <p:par>
                    <p:cTn id="1290" fill="hold">
                      <p:stCondLst>
                        <p:cond delay="0"/>
                      </p:stCondLst>
                      <p:childTnLst>
                        <p:par>
                          <p:cTn id="1291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4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5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6" fill="hold">
                            <p:stCondLst>
                              <p:cond delay="500"/>
                            </p:stCondLst>
                            <p:childTnLst>
                              <p:par>
                                <p:cTn id="12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9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2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1652040" y="399960"/>
            <a:ext cx="20332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Brush Script MT"/>
              </a:rPr>
              <a:t>Next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1829160" y="2900520"/>
            <a:ext cx="4439520" cy="20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United St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 th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lobal Econom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5425200" y="5261040"/>
            <a:ext cx="35020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Brush Script MT"/>
              </a:rPr>
              <a:t>Chapter 6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1" name=""/>
          <p:cNvGrpSpPr/>
          <p:nvPr/>
        </p:nvGrpSpPr>
        <p:grpSpPr>
          <a:xfrm>
            <a:off x="4722840" y="458640"/>
            <a:ext cx="4269960" cy="3608280"/>
            <a:chOff x="4722840" y="458640"/>
            <a:chExt cx="4269960" cy="3608280"/>
          </a:xfrm>
        </p:grpSpPr>
        <p:sp>
          <p:nvSpPr>
            <p:cNvPr id="532" name=""/>
            <p:cNvSpPr/>
            <p:nvPr/>
          </p:nvSpPr>
          <p:spPr>
            <a:xfrm>
              <a:off x="5750640" y="1799280"/>
              <a:ext cx="2172600" cy="1901880"/>
            </a:xfrm>
            <a:custGeom>
              <a:avLst/>
              <a:gdLst/>
              <a:ahLst/>
              <a:rect l="l" t="t" r="r" b="b"/>
              <a:pathLst>
                <a:path w="1507" h="1434">
                  <a:moveTo>
                    <a:pt x="0" y="0"/>
                  </a:moveTo>
                  <a:lnTo>
                    <a:pt x="50" y="141"/>
                  </a:lnTo>
                  <a:lnTo>
                    <a:pt x="345" y="660"/>
                  </a:lnTo>
                  <a:lnTo>
                    <a:pt x="465" y="971"/>
                  </a:lnTo>
                  <a:lnTo>
                    <a:pt x="461" y="1052"/>
                  </a:lnTo>
                  <a:lnTo>
                    <a:pt x="466" y="1385"/>
                  </a:lnTo>
                  <a:lnTo>
                    <a:pt x="502" y="1433"/>
                  </a:lnTo>
                  <a:lnTo>
                    <a:pt x="844" y="1166"/>
                  </a:lnTo>
                  <a:lnTo>
                    <a:pt x="919" y="712"/>
                  </a:lnTo>
                  <a:lnTo>
                    <a:pt x="1198" y="854"/>
                  </a:lnTo>
                  <a:lnTo>
                    <a:pt x="1506" y="676"/>
                  </a:lnTo>
                  <a:lnTo>
                    <a:pt x="1465" y="642"/>
                  </a:lnTo>
                  <a:lnTo>
                    <a:pt x="1308" y="581"/>
                  </a:lnTo>
                  <a:lnTo>
                    <a:pt x="1258" y="651"/>
                  </a:lnTo>
                  <a:lnTo>
                    <a:pt x="1217" y="670"/>
                  </a:lnTo>
                  <a:lnTo>
                    <a:pt x="1163" y="658"/>
                  </a:lnTo>
                  <a:lnTo>
                    <a:pt x="901" y="579"/>
                  </a:lnTo>
                  <a:lnTo>
                    <a:pt x="423" y="355"/>
                  </a:lnTo>
                  <a:lnTo>
                    <a:pt x="211" y="143"/>
                  </a:lnTo>
                  <a:lnTo>
                    <a:pt x="166" y="138"/>
                  </a:lnTo>
                  <a:lnTo>
                    <a:pt x="0" y="0"/>
                  </a:lnTo>
                </a:path>
              </a:pathLst>
            </a:custGeom>
            <a:solidFill>
              <a:srgbClr val="7023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870160" y="3620160"/>
              <a:ext cx="559080" cy="215640"/>
            </a:xfrm>
            <a:custGeom>
              <a:avLst/>
              <a:gdLst/>
              <a:ahLst/>
              <a:rect l="l" t="t" r="r" b="b"/>
              <a:pathLst>
                <a:path w="388" h="163">
                  <a:moveTo>
                    <a:pt x="387" y="19"/>
                  </a:moveTo>
                  <a:lnTo>
                    <a:pt x="378" y="68"/>
                  </a:lnTo>
                  <a:lnTo>
                    <a:pt x="355" y="87"/>
                  </a:lnTo>
                  <a:lnTo>
                    <a:pt x="335" y="130"/>
                  </a:lnTo>
                  <a:lnTo>
                    <a:pt x="268" y="124"/>
                  </a:lnTo>
                  <a:lnTo>
                    <a:pt x="188" y="162"/>
                  </a:lnTo>
                  <a:lnTo>
                    <a:pt x="172" y="116"/>
                  </a:lnTo>
                  <a:lnTo>
                    <a:pt x="71" y="83"/>
                  </a:lnTo>
                  <a:lnTo>
                    <a:pt x="0" y="127"/>
                  </a:lnTo>
                  <a:lnTo>
                    <a:pt x="27" y="79"/>
                  </a:lnTo>
                  <a:lnTo>
                    <a:pt x="50" y="76"/>
                  </a:lnTo>
                  <a:lnTo>
                    <a:pt x="54" y="52"/>
                  </a:lnTo>
                  <a:lnTo>
                    <a:pt x="75" y="49"/>
                  </a:lnTo>
                  <a:lnTo>
                    <a:pt x="96" y="47"/>
                  </a:lnTo>
                  <a:lnTo>
                    <a:pt x="205" y="52"/>
                  </a:lnTo>
                  <a:lnTo>
                    <a:pt x="250" y="0"/>
                  </a:lnTo>
                  <a:lnTo>
                    <a:pt x="329" y="10"/>
                  </a:lnTo>
                  <a:lnTo>
                    <a:pt x="387" y="19"/>
                  </a:lnTo>
                </a:path>
              </a:pathLst>
            </a:custGeom>
            <a:solidFill>
              <a:srgbClr val="ffe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7110000" y="3305520"/>
              <a:ext cx="501840" cy="690840"/>
            </a:xfrm>
            <a:custGeom>
              <a:avLst/>
              <a:gdLst/>
              <a:ahLst/>
              <a:rect l="l" t="t" r="r" b="b"/>
              <a:pathLst>
                <a:path w="348" h="521">
                  <a:moveTo>
                    <a:pt x="66" y="28"/>
                  </a:moveTo>
                  <a:lnTo>
                    <a:pt x="104" y="111"/>
                  </a:lnTo>
                  <a:lnTo>
                    <a:pt x="114" y="246"/>
                  </a:lnTo>
                  <a:lnTo>
                    <a:pt x="256" y="406"/>
                  </a:lnTo>
                  <a:lnTo>
                    <a:pt x="347" y="506"/>
                  </a:lnTo>
                  <a:lnTo>
                    <a:pt x="292" y="520"/>
                  </a:lnTo>
                  <a:lnTo>
                    <a:pt x="214" y="466"/>
                  </a:lnTo>
                  <a:lnTo>
                    <a:pt x="197" y="492"/>
                  </a:lnTo>
                  <a:lnTo>
                    <a:pt x="117" y="428"/>
                  </a:lnTo>
                  <a:lnTo>
                    <a:pt x="60" y="344"/>
                  </a:lnTo>
                  <a:lnTo>
                    <a:pt x="0" y="0"/>
                  </a:lnTo>
                  <a:lnTo>
                    <a:pt x="66" y="2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144120" y="2265840"/>
              <a:ext cx="719280" cy="559440"/>
            </a:xfrm>
            <a:custGeom>
              <a:avLst/>
              <a:gdLst/>
              <a:ahLst/>
              <a:rect l="l" t="t" r="r" b="b"/>
              <a:pathLst>
                <a:path w="499" h="422">
                  <a:moveTo>
                    <a:pt x="425" y="74"/>
                  </a:moveTo>
                  <a:lnTo>
                    <a:pt x="363" y="43"/>
                  </a:lnTo>
                  <a:lnTo>
                    <a:pt x="252" y="4"/>
                  </a:lnTo>
                  <a:lnTo>
                    <a:pt x="193" y="0"/>
                  </a:lnTo>
                  <a:lnTo>
                    <a:pt x="87" y="80"/>
                  </a:lnTo>
                  <a:lnTo>
                    <a:pt x="20" y="167"/>
                  </a:lnTo>
                  <a:lnTo>
                    <a:pt x="0" y="272"/>
                  </a:lnTo>
                  <a:lnTo>
                    <a:pt x="9" y="324"/>
                  </a:lnTo>
                  <a:lnTo>
                    <a:pt x="139" y="322"/>
                  </a:lnTo>
                  <a:lnTo>
                    <a:pt x="222" y="360"/>
                  </a:lnTo>
                  <a:lnTo>
                    <a:pt x="259" y="351"/>
                  </a:lnTo>
                  <a:lnTo>
                    <a:pt x="390" y="421"/>
                  </a:lnTo>
                  <a:lnTo>
                    <a:pt x="498" y="315"/>
                  </a:lnTo>
                  <a:lnTo>
                    <a:pt x="477" y="125"/>
                  </a:lnTo>
                  <a:lnTo>
                    <a:pt x="425" y="7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169400" y="3361680"/>
              <a:ext cx="117720" cy="244800"/>
            </a:xfrm>
            <a:custGeom>
              <a:avLst/>
              <a:gdLst/>
              <a:ahLst/>
              <a:rect l="l" t="t" r="r" b="b"/>
              <a:pathLst>
                <a:path w="82" h="185">
                  <a:moveTo>
                    <a:pt x="29" y="0"/>
                  </a:moveTo>
                  <a:lnTo>
                    <a:pt x="53" y="92"/>
                  </a:lnTo>
                  <a:lnTo>
                    <a:pt x="0" y="41"/>
                  </a:lnTo>
                  <a:lnTo>
                    <a:pt x="23" y="119"/>
                  </a:lnTo>
                  <a:lnTo>
                    <a:pt x="81" y="184"/>
                  </a:lnTo>
                  <a:lnTo>
                    <a:pt x="65" y="74"/>
                  </a:lnTo>
                  <a:lnTo>
                    <a:pt x="29" y="0"/>
                  </a:lnTo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201080" y="3746160"/>
              <a:ext cx="511560" cy="307440"/>
            </a:xfrm>
            <a:custGeom>
              <a:avLst/>
              <a:gdLst/>
              <a:ahLst/>
              <a:rect l="l" t="t" r="r" b="b"/>
              <a:pathLst>
                <a:path w="355" h="232">
                  <a:moveTo>
                    <a:pt x="170" y="66"/>
                  </a:moveTo>
                  <a:lnTo>
                    <a:pt x="266" y="159"/>
                  </a:lnTo>
                  <a:lnTo>
                    <a:pt x="224" y="166"/>
                  </a:lnTo>
                  <a:lnTo>
                    <a:pt x="232" y="195"/>
                  </a:lnTo>
                  <a:lnTo>
                    <a:pt x="130" y="112"/>
                  </a:lnTo>
                  <a:lnTo>
                    <a:pt x="117" y="126"/>
                  </a:lnTo>
                  <a:lnTo>
                    <a:pt x="0" y="24"/>
                  </a:lnTo>
                  <a:lnTo>
                    <a:pt x="67" y="112"/>
                  </a:lnTo>
                  <a:lnTo>
                    <a:pt x="143" y="173"/>
                  </a:lnTo>
                  <a:lnTo>
                    <a:pt x="152" y="149"/>
                  </a:lnTo>
                  <a:lnTo>
                    <a:pt x="250" y="217"/>
                  </a:lnTo>
                  <a:lnTo>
                    <a:pt x="278" y="208"/>
                  </a:lnTo>
                  <a:lnTo>
                    <a:pt x="341" y="231"/>
                  </a:lnTo>
                  <a:lnTo>
                    <a:pt x="354" y="204"/>
                  </a:lnTo>
                  <a:lnTo>
                    <a:pt x="120" y="0"/>
                  </a:lnTo>
                  <a:lnTo>
                    <a:pt x="170" y="66"/>
                  </a:lnTo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162840" y="2373480"/>
              <a:ext cx="680040" cy="417960"/>
            </a:xfrm>
            <a:custGeom>
              <a:avLst/>
              <a:gdLst/>
              <a:ahLst/>
              <a:rect l="l" t="t" r="r" b="b"/>
              <a:pathLst>
                <a:path w="472" h="315">
                  <a:moveTo>
                    <a:pt x="391" y="0"/>
                  </a:moveTo>
                  <a:lnTo>
                    <a:pt x="343" y="11"/>
                  </a:lnTo>
                  <a:lnTo>
                    <a:pt x="370" y="35"/>
                  </a:lnTo>
                  <a:lnTo>
                    <a:pt x="166" y="57"/>
                  </a:lnTo>
                  <a:lnTo>
                    <a:pt x="148" y="79"/>
                  </a:lnTo>
                  <a:lnTo>
                    <a:pt x="105" y="122"/>
                  </a:lnTo>
                  <a:lnTo>
                    <a:pt x="127" y="126"/>
                  </a:lnTo>
                  <a:lnTo>
                    <a:pt x="93" y="143"/>
                  </a:lnTo>
                  <a:lnTo>
                    <a:pt x="40" y="159"/>
                  </a:lnTo>
                  <a:lnTo>
                    <a:pt x="0" y="209"/>
                  </a:lnTo>
                  <a:lnTo>
                    <a:pt x="75" y="249"/>
                  </a:lnTo>
                  <a:lnTo>
                    <a:pt x="142" y="251"/>
                  </a:lnTo>
                  <a:lnTo>
                    <a:pt x="202" y="268"/>
                  </a:lnTo>
                  <a:lnTo>
                    <a:pt x="246" y="271"/>
                  </a:lnTo>
                  <a:lnTo>
                    <a:pt x="367" y="314"/>
                  </a:lnTo>
                  <a:lnTo>
                    <a:pt x="471" y="162"/>
                  </a:lnTo>
                  <a:lnTo>
                    <a:pt x="432" y="3"/>
                  </a:lnTo>
                  <a:lnTo>
                    <a:pt x="391" y="0"/>
                  </a:lnTo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115320" y="2650680"/>
              <a:ext cx="292680" cy="222840"/>
            </a:xfrm>
            <a:custGeom>
              <a:avLst/>
              <a:gdLst/>
              <a:ahLst/>
              <a:rect l="l" t="t" r="r" b="b"/>
              <a:pathLst>
                <a:path w="203" h="168">
                  <a:moveTo>
                    <a:pt x="29" y="2"/>
                  </a:moveTo>
                  <a:lnTo>
                    <a:pt x="40" y="0"/>
                  </a:lnTo>
                  <a:lnTo>
                    <a:pt x="79" y="25"/>
                  </a:lnTo>
                  <a:lnTo>
                    <a:pt x="110" y="35"/>
                  </a:lnTo>
                  <a:lnTo>
                    <a:pt x="180" y="13"/>
                  </a:lnTo>
                  <a:lnTo>
                    <a:pt x="202" y="23"/>
                  </a:lnTo>
                  <a:lnTo>
                    <a:pt x="178" y="37"/>
                  </a:lnTo>
                  <a:lnTo>
                    <a:pt x="123" y="68"/>
                  </a:lnTo>
                  <a:lnTo>
                    <a:pt x="62" y="96"/>
                  </a:lnTo>
                  <a:lnTo>
                    <a:pt x="42" y="167"/>
                  </a:lnTo>
                  <a:lnTo>
                    <a:pt x="13" y="132"/>
                  </a:lnTo>
                  <a:lnTo>
                    <a:pt x="0" y="102"/>
                  </a:lnTo>
                  <a:lnTo>
                    <a:pt x="4" y="63"/>
                  </a:lnTo>
                  <a:lnTo>
                    <a:pt x="16" y="24"/>
                  </a:lnTo>
                  <a:lnTo>
                    <a:pt x="29" y="2"/>
                  </a:lnTo>
                </a:path>
              </a:pathLst>
            </a:custGeom>
            <a:solidFill>
              <a:srgbClr val="ffe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303960" y="2588400"/>
              <a:ext cx="54720" cy="50040"/>
            </a:xfrm>
            <a:custGeom>
              <a:avLst/>
              <a:gdLst/>
              <a:ahLst/>
              <a:rect l="l" t="t" r="r" b="b"/>
              <a:pathLst>
                <a:path w="38" h="38">
                  <a:moveTo>
                    <a:pt x="37" y="0"/>
                  </a:moveTo>
                  <a:lnTo>
                    <a:pt x="30" y="28"/>
                  </a:lnTo>
                  <a:lnTo>
                    <a:pt x="8" y="37"/>
                  </a:lnTo>
                  <a:lnTo>
                    <a:pt x="0" y="14"/>
                  </a:lnTo>
                  <a:lnTo>
                    <a:pt x="10" y="0"/>
                  </a:lnTo>
                  <a:lnTo>
                    <a:pt x="37" y="0"/>
                  </a:lnTo>
                </a:path>
              </a:pathLst>
            </a:custGeom>
            <a:solidFill>
              <a:srgbClr val="ffe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947920" y="1986120"/>
              <a:ext cx="491400" cy="1182600"/>
            </a:xfrm>
            <a:custGeom>
              <a:avLst/>
              <a:gdLst/>
              <a:ahLst/>
              <a:rect l="l" t="t" r="r" b="b"/>
              <a:pathLst>
                <a:path w="341" h="892">
                  <a:moveTo>
                    <a:pt x="340" y="204"/>
                  </a:moveTo>
                  <a:lnTo>
                    <a:pt x="243" y="282"/>
                  </a:lnTo>
                  <a:lnTo>
                    <a:pt x="199" y="330"/>
                  </a:lnTo>
                  <a:lnTo>
                    <a:pt x="176" y="357"/>
                  </a:lnTo>
                  <a:lnTo>
                    <a:pt x="161" y="386"/>
                  </a:lnTo>
                  <a:lnTo>
                    <a:pt x="154" y="418"/>
                  </a:lnTo>
                  <a:lnTo>
                    <a:pt x="151" y="438"/>
                  </a:lnTo>
                  <a:lnTo>
                    <a:pt x="151" y="467"/>
                  </a:lnTo>
                  <a:lnTo>
                    <a:pt x="149" y="480"/>
                  </a:lnTo>
                  <a:lnTo>
                    <a:pt x="132" y="524"/>
                  </a:lnTo>
                  <a:lnTo>
                    <a:pt x="128" y="546"/>
                  </a:lnTo>
                  <a:lnTo>
                    <a:pt x="123" y="573"/>
                  </a:lnTo>
                  <a:lnTo>
                    <a:pt x="123" y="601"/>
                  </a:lnTo>
                  <a:lnTo>
                    <a:pt x="132" y="626"/>
                  </a:lnTo>
                  <a:lnTo>
                    <a:pt x="142" y="641"/>
                  </a:lnTo>
                  <a:lnTo>
                    <a:pt x="153" y="657"/>
                  </a:lnTo>
                  <a:lnTo>
                    <a:pt x="154" y="636"/>
                  </a:lnTo>
                  <a:lnTo>
                    <a:pt x="161" y="594"/>
                  </a:lnTo>
                  <a:lnTo>
                    <a:pt x="157" y="594"/>
                  </a:lnTo>
                  <a:lnTo>
                    <a:pt x="147" y="611"/>
                  </a:lnTo>
                  <a:lnTo>
                    <a:pt x="156" y="590"/>
                  </a:lnTo>
                  <a:lnTo>
                    <a:pt x="170" y="572"/>
                  </a:lnTo>
                  <a:lnTo>
                    <a:pt x="177" y="560"/>
                  </a:lnTo>
                  <a:lnTo>
                    <a:pt x="277" y="522"/>
                  </a:lnTo>
                  <a:lnTo>
                    <a:pt x="311" y="517"/>
                  </a:lnTo>
                  <a:lnTo>
                    <a:pt x="305" y="526"/>
                  </a:lnTo>
                  <a:lnTo>
                    <a:pt x="286" y="531"/>
                  </a:lnTo>
                  <a:lnTo>
                    <a:pt x="267" y="530"/>
                  </a:lnTo>
                  <a:lnTo>
                    <a:pt x="186" y="563"/>
                  </a:lnTo>
                  <a:lnTo>
                    <a:pt x="177" y="582"/>
                  </a:lnTo>
                  <a:lnTo>
                    <a:pt x="236" y="563"/>
                  </a:lnTo>
                  <a:lnTo>
                    <a:pt x="275" y="545"/>
                  </a:lnTo>
                  <a:lnTo>
                    <a:pt x="273" y="556"/>
                  </a:lnTo>
                  <a:lnTo>
                    <a:pt x="287" y="628"/>
                  </a:lnTo>
                  <a:lnTo>
                    <a:pt x="304" y="697"/>
                  </a:lnTo>
                  <a:lnTo>
                    <a:pt x="322" y="765"/>
                  </a:lnTo>
                  <a:lnTo>
                    <a:pt x="329" y="802"/>
                  </a:lnTo>
                  <a:lnTo>
                    <a:pt x="326" y="830"/>
                  </a:lnTo>
                  <a:lnTo>
                    <a:pt x="316" y="856"/>
                  </a:lnTo>
                  <a:lnTo>
                    <a:pt x="296" y="891"/>
                  </a:lnTo>
                  <a:lnTo>
                    <a:pt x="267" y="858"/>
                  </a:lnTo>
                  <a:lnTo>
                    <a:pt x="252" y="839"/>
                  </a:lnTo>
                  <a:lnTo>
                    <a:pt x="239" y="816"/>
                  </a:lnTo>
                  <a:lnTo>
                    <a:pt x="227" y="794"/>
                  </a:lnTo>
                  <a:lnTo>
                    <a:pt x="220" y="828"/>
                  </a:lnTo>
                  <a:lnTo>
                    <a:pt x="194" y="825"/>
                  </a:lnTo>
                  <a:lnTo>
                    <a:pt x="148" y="769"/>
                  </a:lnTo>
                  <a:lnTo>
                    <a:pt x="142" y="740"/>
                  </a:lnTo>
                  <a:lnTo>
                    <a:pt x="121" y="751"/>
                  </a:lnTo>
                  <a:lnTo>
                    <a:pt x="97" y="721"/>
                  </a:lnTo>
                  <a:lnTo>
                    <a:pt x="101" y="688"/>
                  </a:lnTo>
                  <a:lnTo>
                    <a:pt x="79" y="697"/>
                  </a:lnTo>
                  <a:lnTo>
                    <a:pt x="52" y="657"/>
                  </a:lnTo>
                  <a:lnTo>
                    <a:pt x="57" y="642"/>
                  </a:lnTo>
                  <a:lnTo>
                    <a:pt x="47" y="647"/>
                  </a:lnTo>
                  <a:lnTo>
                    <a:pt x="0" y="603"/>
                  </a:lnTo>
                  <a:lnTo>
                    <a:pt x="79" y="414"/>
                  </a:lnTo>
                  <a:lnTo>
                    <a:pt x="225" y="257"/>
                  </a:lnTo>
                  <a:lnTo>
                    <a:pt x="214" y="235"/>
                  </a:lnTo>
                  <a:lnTo>
                    <a:pt x="226" y="229"/>
                  </a:lnTo>
                  <a:lnTo>
                    <a:pt x="154" y="134"/>
                  </a:lnTo>
                  <a:lnTo>
                    <a:pt x="51" y="66"/>
                  </a:lnTo>
                  <a:lnTo>
                    <a:pt x="144" y="95"/>
                  </a:lnTo>
                  <a:lnTo>
                    <a:pt x="59" y="0"/>
                  </a:lnTo>
                  <a:lnTo>
                    <a:pt x="227" y="8"/>
                  </a:lnTo>
                  <a:lnTo>
                    <a:pt x="234" y="13"/>
                  </a:lnTo>
                  <a:lnTo>
                    <a:pt x="231" y="25"/>
                  </a:lnTo>
                  <a:lnTo>
                    <a:pt x="214" y="50"/>
                  </a:lnTo>
                  <a:lnTo>
                    <a:pt x="225" y="64"/>
                  </a:lnTo>
                  <a:lnTo>
                    <a:pt x="223" y="89"/>
                  </a:lnTo>
                  <a:lnTo>
                    <a:pt x="229" y="89"/>
                  </a:lnTo>
                  <a:lnTo>
                    <a:pt x="253" y="89"/>
                  </a:lnTo>
                  <a:lnTo>
                    <a:pt x="266" y="118"/>
                  </a:lnTo>
                  <a:lnTo>
                    <a:pt x="300" y="132"/>
                  </a:lnTo>
                  <a:lnTo>
                    <a:pt x="305" y="175"/>
                  </a:lnTo>
                  <a:lnTo>
                    <a:pt x="340" y="20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95960" y="2559240"/>
              <a:ext cx="206280" cy="123120"/>
            </a:xfrm>
            <a:custGeom>
              <a:avLst/>
              <a:gdLst/>
              <a:ahLst/>
              <a:rect l="l" t="t" r="r" b="b"/>
              <a:pathLst>
                <a:path w="143" h="93">
                  <a:moveTo>
                    <a:pt x="142" y="0"/>
                  </a:moveTo>
                  <a:lnTo>
                    <a:pt x="75" y="26"/>
                  </a:lnTo>
                  <a:lnTo>
                    <a:pt x="46" y="23"/>
                  </a:lnTo>
                  <a:lnTo>
                    <a:pt x="46" y="27"/>
                  </a:lnTo>
                  <a:lnTo>
                    <a:pt x="50" y="39"/>
                  </a:lnTo>
                  <a:lnTo>
                    <a:pt x="46" y="54"/>
                  </a:lnTo>
                  <a:lnTo>
                    <a:pt x="32" y="57"/>
                  </a:lnTo>
                  <a:lnTo>
                    <a:pt x="28" y="48"/>
                  </a:lnTo>
                  <a:lnTo>
                    <a:pt x="14" y="64"/>
                  </a:lnTo>
                  <a:lnTo>
                    <a:pt x="0" y="69"/>
                  </a:lnTo>
                  <a:lnTo>
                    <a:pt x="23" y="92"/>
                  </a:lnTo>
                  <a:lnTo>
                    <a:pt x="56" y="51"/>
                  </a:lnTo>
                  <a:lnTo>
                    <a:pt x="73" y="56"/>
                  </a:lnTo>
                  <a:lnTo>
                    <a:pt x="79" y="35"/>
                  </a:lnTo>
                  <a:lnTo>
                    <a:pt x="95" y="23"/>
                  </a:lnTo>
                  <a:lnTo>
                    <a:pt x="107" y="24"/>
                  </a:lnTo>
                  <a:lnTo>
                    <a:pt x="108" y="38"/>
                  </a:lnTo>
                  <a:lnTo>
                    <a:pt x="127" y="31"/>
                  </a:lnTo>
                  <a:lnTo>
                    <a:pt x="135" y="14"/>
                  </a:lnTo>
                  <a:lnTo>
                    <a:pt x="142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292800" y="2613600"/>
              <a:ext cx="59040" cy="34200"/>
            </a:xfrm>
            <a:custGeom>
              <a:avLst/>
              <a:gdLst/>
              <a:ahLst/>
              <a:rect l="l" t="t" r="r" b="b"/>
              <a:pathLst>
                <a:path w="41" h="26">
                  <a:moveTo>
                    <a:pt x="40" y="7"/>
                  </a:moveTo>
                  <a:lnTo>
                    <a:pt x="20" y="8"/>
                  </a:lnTo>
                  <a:lnTo>
                    <a:pt x="5" y="0"/>
                  </a:lnTo>
                  <a:lnTo>
                    <a:pt x="0" y="12"/>
                  </a:lnTo>
                  <a:lnTo>
                    <a:pt x="4" y="19"/>
                  </a:lnTo>
                  <a:lnTo>
                    <a:pt x="15" y="25"/>
                  </a:lnTo>
                  <a:lnTo>
                    <a:pt x="33" y="16"/>
                  </a:lnTo>
                  <a:lnTo>
                    <a:pt x="40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315480" y="2590920"/>
              <a:ext cx="18720" cy="24840"/>
            </a:xfrm>
            <a:custGeom>
              <a:avLst/>
              <a:gdLst/>
              <a:ahLst/>
              <a:rect l="l" t="t" r="r" b="b"/>
              <a:pathLst>
                <a:path w="13" h="19">
                  <a:moveTo>
                    <a:pt x="12" y="0"/>
                  </a:moveTo>
                  <a:lnTo>
                    <a:pt x="12" y="17"/>
                  </a:lnTo>
                  <a:lnTo>
                    <a:pt x="9" y="18"/>
                  </a:lnTo>
                  <a:lnTo>
                    <a:pt x="5" y="16"/>
                  </a:lnTo>
                  <a:lnTo>
                    <a:pt x="8" y="9"/>
                  </a:lnTo>
                  <a:lnTo>
                    <a:pt x="5" y="7"/>
                  </a:lnTo>
                  <a:lnTo>
                    <a:pt x="0" y="11"/>
                  </a:lnTo>
                  <a:lnTo>
                    <a:pt x="5" y="1"/>
                  </a:lnTo>
                  <a:lnTo>
                    <a:pt x="12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6380640" y="2630880"/>
              <a:ext cx="415080" cy="491760"/>
            </a:xfrm>
            <a:custGeom>
              <a:avLst/>
              <a:gdLst/>
              <a:ahLst/>
              <a:rect l="l" t="t" r="r" b="b"/>
              <a:pathLst>
                <a:path w="288" h="371">
                  <a:moveTo>
                    <a:pt x="0" y="61"/>
                  </a:moveTo>
                  <a:lnTo>
                    <a:pt x="24" y="69"/>
                  </a:lnTo>
                  <a:lnTo>
                    <a:pt x="43" y="76"/>
                  </a:lnTo>
                  <a:lnTo>
                    <a:pt x="45" y="50"/>
                  </a:lnTo>
                  <a:lnTo>
                    <a:pt x="62" y="50"/>
                  </a:lnTo>
                  <a:lnTo>
                    <a:pt x="43" y="26"/>
                  </a:lnTo>
                  <a:lnTo>
                    <a:pt x="66" y="24"/>
                  </a:lnTo>
                  <a:lnTo>
                    <a:pt x="82" y="13"/>
                  </a:lnTo>
                  <a:lnTo>
                    <a:pt x="74" y="0"/>
                  </a:lnTo>
                  <a:lnTo>
                    <a:pt x="112" y="18"/>
                  </a:lnTo>
                  <a:lnTo>
                    <a:pt x="90" y="19"/>
                  </a:lnTo>
                  <a:lnTo>
                    <a:pt x="77" y="36"/>
                  </a:lnTo>
                  <a:lnTo>
                    <a:pt x="98" y="72"/>
                  </a:lnTo>
                  <a:lnTo>
                    <a:pt x="103" y="54"/>
                  </a:lnTo>
                  <a:lnTo>
                    <a:pt x="124" y="72"/>
                  </a:lnTo>
                  <a:lnTo>
                    <a:pt x="119" y="31"/>
                  </a:lnTo>
                  <a:lnTo>
                    <a:pt x="155" y="89"/>
                  </a:lnTo>
                  <a:lnTo>
                    <a:pt x="150" y="50"/>
                  </a:lnTo>
                  <a:lnTo>
                    <a:pt x="211" y="96"/>
                  </a:lnTo>
                  <a:lnTo>
                    <a:pt x="222" y="86"/>
                  </a:lnTo>
                  <a:lnTo>
                    <a:pt x="211" y="33"/>
                  </a:lnTo>
                  <a:lnTo>
                    <a:pt x="287" y="71"/>
                  </a:lnTo>
                  <a:lnTo>
                    <a:pt x="62" y="370"/>
                  </a:lnTo>
                  <a:lnTo>
                    <a:pt x="38" y="261"/>
                  </a:lnTo>
                  <a:lnTo>
                    <a:pt x="55" y="275"/>
                  </a:lnTo>
                  <a:lnTo>
                    <a:pt x="53" y="301"/>
                  </a:lnTo>
                  <a:lnTo>
                    <a:pt x="75" y="325"/>
                  </a:lnTo>
                  <a:lnTo>
                    <a:pt x="68" y="274"/>
                  </a:lnTo>
                  <a:lnTo>
                    <a:pt x="91" y="283"/>
                  </a:lnTo>
                  <a:lnTo>
                    <a:pt x="79" y="260"/>
                  </a:lnTo>
                  <a:lnTo>
                    <a:pt x="95" y="239"/>
                  </a:lnTo>
                  <a:lnTo>
                    <a:pt x="91" y="222"/>
                  </a:lnTo>
                  <a:lnTo>
                    <a:pt x="66" y="211"/>
                  </a:lnTo>
                  <a:lnTo>
                    <a:pt x="100" y="191"/>
                  </a:lnTo>
                  <a:lnTo>
                    <a:pt x="106" y="172"/>
                  </a:lnTo>
                  <a:lnTo>
                    <a:pt x="88" y="152"/>
                  </a:lnTo>
                  <a:lnTo>
                    <a:pt x="108" y="138"/>
                  </a:lnTo>
                  <a:lnTo>
                    <a:pt x="88" y="89"/>
                  </a:lnTo>
                  <a:lnTo>
                    <a:pt x="83" y="125"/>
                  </a:lnTo>
                  <a:lnTo>
                    <a:pt x="67" y="113"/>
                  </a:lnTo>
                  <a:lnTo>
                    <a:pt x="35" y="222"/>
                  </a:lnTo>
                  <a:lnTo>
                    <a:pt x="18" y="116"/>
                  </a:lnTo>
                  <a:lnTo>
                    <a:pt x="26" y="145"/>
                  </a:lnTo>
                  <a:lnTo>
                    <a:pt x="45" y="154"/>
                  </a:lnTo>
                  <a:lnTo>
                    <a:pt x="47" y="124"/>
                  </a:lnTo>
                  <a:lnTo>
                    <a:pt x="30" y="116"/>
                  </a:lnTo>
                  <a:lnTo>
                    <a:pt x="39" y="96"/>
                  </a:lnTo>
                  <a:lnTo>
                    <a:pt x="0" y="6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520320" y="2268720"/>
              <a:ext cx="136800" cy="42120"/>
            </a:xfrm>
            <a:custGeom>
              <a:avLst/>
              <a:gdLst/>
              <a:ahLst/>
              <a:rect l="l" t="t" r="r" b="b"/>
              <a:pathLst>
                <a:path w="95" h="32">
                  <a:moveTo>
                    <a:pt x="0" y="0"/>
                  </a:moveTo>
                  <a:lnTo>
                    <a:pt x="94" y="31"/>
                  </a:lnTo>
                  <a:lnTo>
                    <a:pt x="43" y="25"/>
                  </a:lnTo>
                  <a:lnTo>
                    <a:pt x="34" y="15"/>
                  </a:lnTo>
                  <a:lnTo>
                    <a:pt x="4" y="2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677640" y="2261880"/>
              <a:ext cx="2315160" cy="1805040"/>
            </a:xfrm>
            <a:custGeom>
              <a:avLst/>
              <a:gdLst/>
              <a:ahLst/>
              <a:rect l="l" t="t" r="r" b="b"/>
              <a:pathLst>
                <a:path w="1606" h="1361">
                  <a:moveTo>
                    <a:pt x="29" y="56"/>
                  </a:moveTo>
                  <a:lnTo>
                    <a:pt x="115" y="94"/>
                  </a:lnTo>
                  <a:lnTo>
                    <a:pt x="194" y="139"/>
                  </a:lnTo>
                  <a:lnTo>
                    <a:pt x="250" y="186"/>
                  </a:lnTo>
                  <a:lnTo>
                    <a:pt x="283" y="229"/>
                  </a:lnTo>
                  <a:lnTo>
                    <a:pt x="537" y="315"/>
                  </a:lnTo>
                  <a:lnTo>
                    <a:pt x="347" y="259"/>
                  </a:lnTo>
                  <a:lnTo>
                    <a:pt x="465" y="333"/>
                  </a:lnTo>
                  <a:lnTo>
                    <a:pt x="499" y="324"/>
                  </a:lnTo>
                  <a:lnTo>
                    <a:pt x="498" y="366"/>
                  </a:lnTo>
                  <a:lnTo>
                    <a:pt x="518" y="356"/>
                  </a:lnTo>
                  <a:lnTo>
                    <a:pt x="519" y="433"/>
                  </a:lnTo>
                  <a:lnTo>
                    <a:pt x="546" y="356"/>
                  </a:lnTo>
                  <a:lnTo>
                    <a:pt x="593" y="390"/>
                  </a:lnTo>
                  <a:lnTo>
                    <a:pt x="631" y="364"/>
                  </a:lnTo>
                  <a:lnTo>
                    <a:pt x="636" y="320"/>
                  </a:lnTo>
                  <a:lnTo>
                    <a:pt x="666" y="237"/>
                  </a:lnTo>
                  <a:lnTo>
                    <a:pt x="621" y="306"/>
                  </a:lnTo>
                  <a:lnTo>
                    <a:pt x="578" y="322"/>
                  </a:lnTo>
                  <a:lnTo>
                    <a:pt x="623" y="296"/>
                  </a:lnTo>
                  <a:lnTo>
                    <a:pt x="666" y="207"/>
                  </a:lnTo>
                  <a:lnTo>
                    <a:pt x="713" y="136"/>
                  </a:lnTo>
                  <a:lnTo>
                    <a:pt x="767" y="75"/>
                  </a:lnTo>
                  <a:lnTo>
                    <a:pt x="784" y="175"/>
                  </a:lnTo>
                  <a:lnTo>
                    <a:pt x="840" y="145"/>
                  </a:lnTo>
                  <a:lnTo>
                    <a:pt x="821" y="237"/>
                  </a:lnTo>
                  <a:lnTo>
                    <a:pt x="842" y="310"/>
                  </a:lnTo>
                  <a:lnTo>
                    <a:pt x="745" y="338"/>
                  </a:lnTo>
                  <a:lnTo>
                    <a:pt x="781" y="356"/>
                  </a:lnTo>
                  <a:lnTo>
                    <a:pt x="842" y="328"/>
                  </a:lnTo>
                  <a:lnTo>
                    <a:pt x="902" y="279"/>
                  </a:lnTo>
                  <a:lnTo>
                    <a:pt x="1018" y="118"/>
                  </a:lnTo>
                  <a:lnTo>
                    <a:pt x="1105" y="20"/>
                  </a:lnTo>
                  <a:lnTo>
                    <a:pt x="1123" y="20"/>
                  </a:lnTo>
                  <a:lnTo>
                    <a:pt x="1135" y="40"/>
                  </a:lnTo>
                  <a:lnTo>
                    <a:pt x="1068" y="169"/>
                  </a:lnTo>
                  <a:lnTo>
                    <a:pt x="999" y="256"/>
                  </a:lnTo>
                  <a:lnTo>
                    <a:pt x="947" y="306"/>
                  </a:lnTo>
                  <a:lnTo>
                    <a:pt x="955" y="317"/>
                  </a:lnTo>
                  <a:lnTo>
                    <a:pt x="1095" y="252"/>
                  </a:lnTo>
                  <a:lnTo>
                    <a:pt x="1218" y="150"/>
                  </a:lnTo>
                  <a:lnTo>
                    <a:pt x="1357" y="0"/>
                  </a:lnTo>
                  <a:lnTo>
                    <a:pt x="1369" y="5"/>
                  </a:lnTo>
                  <a:lnTo>
                    <a:pt x="1377" y="38"/>
                  </a:lnTo>
                  <a:lnTo>
                    <a:pt x="1310" y="158"/>
                  </a:lnTo>
                  <a:lnTo>
                    <a:pt x="1226" y="252"/>
                  </a:lnTo>
                  <a:lnTo>
                    <a:pt x="1064" y="344"/>
                  </a:lnTo>
                  <a:lnTo>
                    <a:pt x="1074" y="347"/>
                  </a:lnTo>
                  <a:lnTo>
                    <a:pt x="1188" y="327"/>
                  </a:lnTo>
                  <a:lnTo>
                    <a:pt x="1320" y="280"/>
                  </a:lnTo>
                  <a:lnTo>
                    <a:pt x="1488" y="174"/>
                  </a:lnTo>
                  <a:lnTo>
                    <a:pt x="1499" y="195"/>
                  </a:lnTo>
                  <a:lnTo>
                    <a:pt x="1480" y="229"/>
                  </a:lnTo>
                  <a:lnTo>
                    <a:pt x="1404" y="314"/>
                  </a:lnTo>
                  <a:lnTo>
                    <a:pt x="1288" y="369"/>
                  </a:lnTo>
                  <a:lnTo>
                    <a:pt x="1160" y="395"/>
                  </a:lnTo>
                  <a:lnTo>
                    <a:pt x="1157" y="410"/>
                  </a:lnTo>
                  <a:lnTo>
                    <a:pt x="1220" y="416"/>
                  </a:lnTo>
                  <a:lnTo>
                    <a:pt x="1318" y="414"/>
                  </a:lnTo>
                  <a:lnTo>
                    <a:pt x="1433" y="379"/>
                  </a:lnTo>
                  <a:lnTo>
                    <a:pt x="1515" y="336"/>
                  </a:lnTo>
                  <a:lnTo>
                    <a:pt x="1570" y="296"/>
                  </a:lnTo>
                  <a:lnTo>
                    <a:pt x="1587" y="301"/>
                  </a:lnTo>
                  <a:lnTo>
                    <a:pt x="1586" y="325"/>
                  </a:lnTo>
                  <a:lnTo>
                    <a:pt x="1535" y="396"/>
                  </a:lnTo>
                  <a:lnTo>
                    <a:pt x="1448" y="455"/>
                  </a:lnTo>
                  <a:lnTo>
                    <a:pt x="1343" y="478"/>
                  </a:lnTo>
                  <a:lnTo>
                    <a:pt x="1231" y="476"/>
                  </a:lnTo>
                  <a:lnTo>
                    <a:pt x="1236" y="495"/>
                  </a:lnTo>
                  <a:lnTo>
                    <a:pt x="1336" y="529"/>
                  </a:lnTo>
                  <a:lnTo>
                    <a:pt x="1433" y="534"/>
                  </a:lnTo>
                  <a:lnTo>
                    <a:pt x="1592" y="520"/>
                  </a:lnTo>
                  <a:lnTo>
                    <a:pt x="1605" y="542"/>
                  </a:lnTo>
                  <a:lnTo>
                    <a:pt x="1596" y="559"/>
                  </a:lnTo>
                  <a:lnTo>
                    <a:pt x="1504" y="601"/>
                  </a:lnTo>
                  <a:lnTo>
                    <a:pt x="1431" y="603"/>
                  </a:lnTo>
                  <a:lnTo>
                    <a:pt x="1341" y="594"/>
                  </a:lnTo>
                  <a:lnTo>
                    <a:pt x="1310" y="605"/>
                  </a:lnTo>
                  <a:lnTo>
                    <a:pt x="1401" y="650"/>
                  </a:lnTo>
                  <a:lnTo>
                    <a:pt x="1486" y="676"/>
                  </a:lnTo>
                  <a:lnTo>
                    <a:pt x="1603" y="695"/>
                  </a:lnTo>
                  <a:lnTo>
                    <a:pt x="1604" y="702"/>
                  </a:lnTo>
                  <a:lnTo>
                    <a:pt x="1592" y="719"/>
                  </a:lnTo>
                  <a:lnTo>
                    <a:pt x="1426" y="744"/>
                  </a:lnTo>
                  <a:lnTo>
                    <a:pt x="1519" y="806"/>
                  </a:lnTo>
                  <a:lnTo>
                    <a:pt x="1513" y="815"/>
                  </a:lnTo>
                  <a:lnTo>
                    <a:pt x="1444" y="838"/>
                  </a:lnTo>
                  <a:lnTo>
                    <a:pt x="1470" y="868"/>
                  </a:lnTo>
                  <a:lnTo>
                    <a:pt x="1464" y="880"/>
                  </a:lnTo>
                  <a:lnTo>
                    <a:pt x="1395" y="900"/>
                  </a:lnTo>
                  <a:lnTo>
                    <a:pt x="1403" y="923"/>
                  </a:lnTo>
                  <a:lnTo>
                    <a:pt x="1351" y="947"/>
                  </a:lnTo>
                  <a:lnTo>
                    <a:pt x="1347" y="975"/>
                  </a:lnTo>
                  <a:lnTo>
                    <a:pt x="1322" y="996"/>
                  </a:lnTo>
                  <a:lnTo>
                    <a:pt x="1291" y="981"/>
                  </a:lnTo>
                  <a:lnTo>
                    <a:pt x="1260" y="1003"/>
                  </a:lnTo>
                  <a:lnTo>
                    <a:pt x="1234" y="1004"/>
                  </a:lnTo>
                  <a:lnTo>
                    <a:pt x="1239" y="1054"/>
                  </a:lnTo>
                  <a:lnTo>
                    <a:pt x="1176" y="1057"/>
                  </a:lnTo>
                  <a:lnTo>
                    <a:pt x="1170" y="1093"/>
                  </a:lnTo>
                  <a:lnTo>
                    <a:pt x="1097" y="1093"/>
                  </a:lnTo>
                  <a:lnTo>
                    <a:pt x="1073" y="1127"/>
                  </a:lnTo>
                  <a:lnTo>
                    <a:pt x="970" y="1143"/>
                  </a:lnTo>
                  <a:lnTo>
                    <a:pt x="947" y="1129"/>
                  </a:lnTo>
                  <a:lnTo>
                    <a:pt x="924" y="1157"/>
                  </a:lnTo>
                  <a:lnTo>
                    <a:pt x="860" y="1154"/>
                  </a:lnTo>
                  <a:lnTo>
                    <a:pt x="827" y="1050"/>
                  </a:lnTo>
                  <a:lnTo>
                    <a:pt x="804" y="1125"/>
                  </a:lnTo>
                  <a:lnTo>
                    <a:pt x="733" y="1127"/>
                  </a:lnTo>
                  <a:lnTo>
                    <a:pt x="727" y="1071"/>
                  </a:lnTo>
                  <a:lnTo>
                    <a:pt x="709" y="1104"/>
                  </a:lnTo>
                  <a:lnTo>
                    <a:pt x="652" y="1103"/>
                  </a:lnTo>
                  <a:lnTo>
                    <a:pt x="650" y="1079"/>
                  </a:lnTo>
                  <a:lnTo>
                    <a:pt x="568" y="1061"/>
                  </a:lnTo>
                  <a:lnTo>
                    <a:pt x="565" y="1027"/>
                  </a:lnTo>
                  <a:lnTo>
                    <a:pt x="534" y="1023"/>
                  </a:lnTo>
                  <a:lnTo>
                    <a:pt x="517" y="892"/>
                  </a:lnTo>
                  <a:lnTo>
                    <a:pt x="483" y="818"/>
                  </a:lnTo>
                  <a:lnTo>
                    <a:pt x="455" y="688"/>
                  </a:lnTo>
                  <a:lnTo>
                    <a:pt x="439" y="685"/>
                  </a:lnTo>
                  <a:lnTo>
                    <a:pt x="433" y="586"/>
                  </a:lnTo>
                  <a:lnTo>
                    <a:pt x="374" y="476"/>
                  </a:lnTo>
                  <a:lnTo>
                    <a:pt x="329" y="433"/>
                  </a:lnTo>
                  <a:lnTo>
                    <a:pt x="307" y="425"/>
                  </a:lnTo>
                  <a:lnTo>
                    <a:pt x="331" y="461"/>
                  </a:lnTo>
                  <a:lnTo>
                    <a:pt x="315" y="575"/>
                  </a:lnTo>
                  <a:lnTo>
                    <a:pt x="284" y="572"/>
                  </a:lnTo>
                  <a:lnTo>
                    <a:pt x="296" y="601"/>
                  </a:lnTo>
                  <a:lnTo>
                    <a:pt x="324" y="638"/>
                  </a:lnTo>
                  <a:lnTo>
                    <a:pt x="317" y="647"/>
                  </a:lnTo>
                  <a:lnTo>
                    <a:pt x="296" y="644"/>
                  </a:lnTo>
                  <a:lnTo>
                    <a:pt x="299" y="684"/>
                  </a:lnTo>
                  <a:lnTo>
                    <a:pt x="317" y="731"/>
                  </a:lnTo>
                  <a:lnTo>
                    <a:pt x="342" y="768"/>
                  </a:lnTo>
                  <a:lnTo>
                    <a:pt x="364" y="792"/>
                  </a:lnTo>
                  <a:lnTo>
                    <a:pt x="404" y="901"/>
                  </a:lnTo>
                  <a:lnTo>
                    <a:pt x="368" y="823"/>
                  </a:lnTo>
                  <a:lnTo>
                    <a:pt x="352" y="873"/>
                  </a:lnTo>
                  <a:lnTo>
                    <a:pt x="378" y="907"/>
                  </a:lnTo>
                  <a:lnTo>
                    <a:pt x="358" y="896"/>
                  </a:lnTo>
                  <a:lnTo>
                    <a:pt x="380" y="946"/>
                  </a:lnTo>
                  <a:lnTo>
                    <a:pt x="416" y="999"/>
                  </a:lnTo>
                  <a:lnTo>
                    <a:pt x="414" y="938"/>
                  </a:lnTo>
                  <a:lnTo>
                    <a:pt x="435" y="1018"/>
                  </a:lnTo>
                  <a:lnTo>
                    <a:pt x="467" y="1079"/>
                  </a:lnTo>
                  <a:lnTo>
                    <a:pt x="544" y="1140"/>
                  </a:lnTo>
                  <a:lnTo>
                    <a:pt x="545" y="1154"/>
                  </a:lnTo>
                  <a:lnTo>
                    <a:pt x="658" y="1263"/>
                  </a:lnTo>
                  <a:lnTo>
                    <a:pt x="726" y="1331"/>
                  </a:lnTo>
                  <a:lnTo>
                    <a:pt x="706" y="1360"/>
                  </a:lnTo>
                  <a:lnTo>
                    <a:pt x="640" y="1331"/>
                  </a:lnTo>
                  <a:lnTo>
                    <a:pt x="613" y="1343"/>
                  </a:lnTo>
                  <a:lnTo>
                    <a:pt x="580" y="1300"/>
                  </a:lnTo>
                  <a:lnTo>
                    <a:pt x="616" y="1331"/>
                  </a:lnTo>
                  <a:lnTo>
                    <a:pt x="631" y="1323"/>
                  </a:lnTo>
                  <a:lnTo>
                    <a:pt x="616" y="1298"/>
                  </a:lnTo>
                  <a:lnTo>
                    <a:pt x="700" y="1343"/>
                  </a:lnTo>
                  <a:lnTo>
                    <a:pt x="708" y="1331"/>
                  </a:lnTo>
                  <a:lnTo>
                    <a:pt x="638" y="1279"/>
                  </a:lnTo>
                  <a:lnTo>
                    <a:pt x="625" y="1246"/>
                  </a:lnTo>
                  <a:lnTo>
                    <a:pt x="594" y="1231"/>
                  </a:lnTo>
                  <a:lnTo>
                    <a:pt x="514" y="1162"/>
                  </a:lnTo>
                  <a:lnTo>
                    <a:pt x="526" y="1212"/>
                  </a:lnTo>
                  <a:lnTo>
                    <a:pt x="455" y="1139"/>
                  </a:lnTo>
                  <a:lnTo>
                    <a:pt x="461" y="1187"/>
                  </a:lnTo>
                  <a:lnTo>
                    <a:pt x="439" y="1201"/>
                  </a:lnTo>
                  <a:lnTo>
                    <a:pt x="368" y="1146"/>
                  </a:lnTo>
                  <a:lnTo>
                    <a:pt x="443" y="1235"/>
                  </a:lnTo>
                  <a:lnTo>
                    <a:pt x="507" y="1284"/>
                  </a:lnTo>
                  <a:lnTo>
                    <a:pt x="512" y="1258"/>
                  </a:lnTo>
                  <a:lnTo>
                    <a:pt x="554" y="1285"/>
                  </a:lnTo>
                  <a:lnTo>
                    <a:pt x="517" y="1273"/>
                  </a:lnTo>
                  <a:lnTo>
                    <a:pt x="511" y="1300"/>
                  </a:lnTo>
                  <a:lnTo>
                    <a:pt x="425" y="1233"/>
                  </a:lnTo>
                  <a:lnTo>
                    <a:pt x="347" y="1140"/>
                  </a:lnTo>
                  <a:lnTo>
                    <a:pt x="248" y="1003"/>
                  </a:lnTo>
                  <a:lnTo>
                    <a:pt x="232" y="1041"/>
                  </a:lnTo>
                  <a:lnTo>
                    <a:pt x="202" y="1050"/>
                  </a:lnTo>
                  <a:lnTo>
                    <a:pt x="211" y="1002"/>
                  </a:lnTo>
                  <a:lnTo>
                    <a:pt x="196" y="946"/>
                  </a:lnTo>
                  <a:lnTo>
                    <a:pt x="187" y="810"/>
                  </a:lnTo>
                  <a:lnTo>
                    <a:pt x="41" y="298"/>
                  </a:lnTo>
                  <a:lnTo>
                    <a:pt x="64" y="301"/>
                  </a:lnTo>
                  <a:lnTo>
                    <a:pt x="34" y="256"/>
                  </a:lnTo>
                  <a:lnTo>
                    <a:pt x="64" y="263"/>
                  </a:lnTo>
                  <a:lnTo>
                    <a:pt x="43" y="229"/>
                  </a:lnTo>
                  <a:lnTo>
                    <a:pt x="52" y="202"/>
                  </a:lnTo>
                  <a:lnTo>
                    <a:pt x="47" y="181"/>
                  </a:lnTo>
                  <a:lnTo>
                    <a:pt x="86" y="161"/>
                  </a:lnTo>
                  <a:lnTo>
                    <a:pt x="47" y="142"/>
                  </a:lnTo>
                  <a:lnTo>
                    <a:pt x="69" y="126"/>
                  </a:lnTo>
                  <a:lnTo>
                    <a:pt x="65" y="102"/>
                  </a:lnTo>
                  <a:lnTo>
                    <a:pt x="40" y="95"/>
                  </a:lnTo>
                  <a:lnTo>
                    <a:pt x="42" y="81"/>
                  </a:lnTo>
                  <a:lnTo>
                    <a:pt x="0" y="43"/>
                  </a:lnTo>
                  <a:lnTo>
                    <a:pt x="29" y="5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194520" y="2719440"/>
              <a:ext cx="763920" cy="1222560"/>
            </a:xfrm>
            <a:custGeom>
              <a:avLst/>
              <a:gdLst/>
              <a:ahLst/>
              <a:rect l="l" t="t" r="r" b="b"/>
              <a:pathLst>
                <a:path w="530" h="922">
                  <a:moveTo>
                    <a:pt x="127" y="745"/>
                  </a:moveTo>
                  <a:lnTo>
                    <a:pt x="120" y="784"/>
                  </a:lnTo>
                  <a:lnTo>
                    <a:pt x="100" y="831"/>
                  </a:lnTo>
                  <a:lnTo>
                    <a:pt x="53" y="840"/>
                  </a:lnTo>
                  <a:lnTo>
                    <a:pt x="48" y="826"/>
                  </a:lnTo>
                  <a:lnTo>
                    <a:pt x="0" y="854"/>
                  </a:lnTo>
                  <a:lnTo>
                    <a:pt x="20" y="860"/>
                  </a:lnTo>
                  <a:lnTo>
                    <a:pt x="57" y="854"/>
                  </a:lnTo>
                  <a:lnTo>
                    <a:pt x="98" y="843"/>
                  </a:lnTo>
                  <a:lnTo>
                    <a:pt x="113" y="827"/>
                  </a:lnTo>
                  <a:lnTo>
                    <a:pt x="142" y="761"/>
                  </a:lnTo>
                  <a:lnTo>
                    <a:pt x="171" y="785"/>
                  </a:lnTo>
                  <a:lnTo>
                    <a:pt x="187" y="775"/>
                  </a:lnTo>
                  <a:lnTo>
                    <a:pt x="204" y="798"/>
                  </a:lnTo>
                  <a:lnTo>
                    <a:pt x="208" y="827"/>
                  </a:lnTo>
                  <a:lnTo>
                    <a:pt x="191" y="870"/>
                  </a:lnTo>
                  <a:lnTo>
                    <a:pt x="198" y="877"/>
                  </a:lnTo>
                  <a:lnTo>
                    <a:pt x="208" y="870"/>
                  </a:lnTo>
                  <a:lnTo>
                    <a:pt x="204" y="910"/>
                  </a:lnTo>
                  <a:lnTo>
                    <a:pt x="232" y="893"/>
                  </a:lnTo>
                  <a:lnTo>
                    <a:pt x="231" y="918"/>
                  </a:lnTo>
                  <a:lnTo>
                    <a:pt x="247" y="921"/>
                  </a:lnTo>
                  <a:lnTo>
                    <a:pt x="328" y="808"/>
                  </a:lnTo>
                  <a:lnTo>
                    <a:pt x="325" y="916"/>
                  </a:lnTo>
                  <a:lnTo>
                    <a:pt x="344" y="891"/>
                  </a:lnTo>
                  <a:lnTo>
                    <a:pt x="392" y="747"/>
                  </a:lnTo>
                  <a:lnTo>
                    <a:pt x="396" y="822"/>
                  </a:lnTo>
                  <a:lnTo>
                    <a:pt x="418" y="780"/>
                  </a:lnTo>
                  <a:lnTo>
                    <a:pt x="447" y="693"/>
                  </a:lnTo>
                  <a:lnTo>
                    <a:pt x="456" y="709"/>
                  </a:lnTo>
                  <a:lnTo>
                    <a:pt x="456" y="749"/>
                  </a:lnTo>
                  <a:lnTo>
                    <a:pt x="482" y="715"/>
                  </a:lnTo>
                  <a:lnTo>
                    <a:pt x="498" y="648"/>
                  </a:lnTo>
                  <a:lnTo>
                    <a:pt x="529" y="474"/>
                  </a:lnTo>
                  <a:lnTo>
                    <a:pt x="409" y="0"/>
                  </a:lnTo>
                  <a:lnTo>
                    <a:pt x="290" y="146"/>
                  </a:lnTo>
                  <a:lnTo>
                    <a:pt x="355" y="411"/>
                  </a:lnTo>
                  <a:lnTo>
                    <a:pt x="334" y="425"/>
                  </a:lnTo>
                  <a:lnTo>
                    <a:pt x="340" y="442"/>
                  </a:lnTo>
                  <a:lnTo>
                    <a:pt x="284" y="515"/>
                  </a:lnTo>
                  <a:lnTo>
                    <a:pt x="294" y="522"/>
                  </a:lnTo>
                  <a:lnTo>
                    <a:pt x="253" y="590"/>
                  </a:lnTo>
                  <a:lnTo>
                    <a:pt x="261" y="597"/>
                  </a:lnTo>
                  <a:lnTo>
                    <a:pt x="199" y="685"/>
                  </a:lnTo>
                  <a:lnTo>
                    <a:pt x="162" y="699"/>
                  </a:lnTo>
                  <a:lnTo>
                    <a:pt x="148" y="742"/>
                  </a:lnTo>
                  <a:lnTo>
                    <a:pt x="127" y="74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128280" y="2882880"/>
              <a:ext cx="570600" cy="974520"/>
            </a:xfrm>
            <a:custGeom>
              <a:avLst/>
              <a:gdLst/>
              <a:ahLst/>
              <a:rect l="l" t="t" r="r" b="b"/>
              <a:pathLst>
                <a:path w="396" h="735">
                  <a:moveTo>
                    <a:pt x="388" y="222"/>
                  </a:moveTo>
                  <a:lnTo>
                    <a:pt x="379" y="259"/>
                  </a:lnTo>
                  <a:lnTo>
                    <a:pt x="365" y="250"/>
                  </a:lnTo>
                  <a:lnTo>
                    <a:pt x="365" y="289"/>
                  </a:lnTo>
                  <a:lnTo>
                    <a:pt x="312" y="406"/>
                  </a:lnTo>
                  <a:lnTo>
                    <a:pt x="244" y="515"/>
                  </a:lnTo>
                  <a:lnTo>
                    <a:pt x="246" y="519"/>
                  </a:lnTo>
                  <a:lnTo>
                    <a:pt x="228" y="558"/>
                  </a:lnTo>
                  <a:lnTo>
                    <a:pt x="196" y="578"/>
                  </a:lnTo>
                  <a:lnTo>
                    <a:pt x="69" y="562"/>
                  </a:lnTo>
                  <a:lnTo>
                    <a:pt x="48" y="586"/>
                  </a:lnTo>
                  <a:lnTo>
                    <a:pt x="47" y="622"/>
                  </a:lnTo>
                  <a:lnTo>
                    <a:pt x="53" y="603"/>
                  </a:lnTo>
                  <a:lnTo>
                    <a:pt x="61" y="603"/>
                  </a:lnTo>
                  <a:lnTo>
                    <a:pt x="61" y="628"/>
                  </a:lnTo>
                  <a:lnTo>
                    <a:pt x="78" y="618"/>
                  </a:lnTo>
                  <a:lnTo>
                    <a:pt x="87" y="633"/>
                  </a:lnTo>
                  <a:lnTo>
                    <a:pt x="43" y="689"/>
                  </a:lnTo>
                  <a:lnTo>
                    <a:pt x="97" y="705"/>
                  </a:lnTo>
                  <a:lnTo>
                    <a:pt x="48" y="734"/>
                  </a:lnTo>
                  <a:lnTo>
                    <a:pt x="3" y="715"/>
                  </a:lnTo>
                  <a:lnTo>
                    <a:pt x="31" y="693"/>
                  </a:lnTo>
                  <a:lnTo>
                    <a:pt x="74" y="641"/>
                  </a:lnTo>
                  <a:lnTo>
                    <a:pt x="74" y="628"/>
                  </a:lnTo>
                  <a:lnTo>
                    <a:pt x="57" y="634"/>
                  </a:lnTo>
                  <a:lnTo>
                    <a:pt x="16" y="685"/>
                  </a:lnTo>
                  <a:lnTo>
                    <a:pt x="0" y="660"/>
                  </a:lnTo>
                  <a:lnTo>
                    <a:pt x="36" y="576"/>
                  </a:lnTo>
                  <a:lnTo>
                    <a:pt x="66" y="534"/>
                  </a:lnTo>
                  <a:lnTo>
                    <a:pt x="81" y="531"/>
                  </a:lnTo>
                  <a:lnTo>
                    <a:pt x="89" y="497"/>
                  </a:lnTo>
                  <a:lnTo>
                    <a:pt x="129" y="428"/>
                  </a:lnTo>
                  <a:lnTo>
                    <a:pt x="144" y="367"/>
                  </a:lnTo>
                  <a:lnTo>
                    <a:pt x="161" y="342"/>
                  </a:lnTo>
                  <a:lnTo>
                    <a:pt x="165" y="311"/>
                  </a:lnTo>
                  <a:lnTo>
                    <a:pt x="177" y="294"/>
                  </a:lnTo>
                  <a:lnTo>
                    <a:pt x="172" y="280"/>
                  </a:lnTo>
                  <a:lnTo>
                    <a:pt x="190" y="261"/>
                  </a:lnTo>
                  <a:lnTo>
                    <a:pt x="198" y="229"/>
                  </a:lnTo>
                  <a:lnTo>
                    <a:pt x="210" y="238"/>
                  </a:lnTo>
                  <a:lnTo>
                    <a:pt x="221" y="170"/>
                  </a:lnTo>
                  <a:lnTo>
                    <a:pt x="236" y="181"/>
                  </a:lnTo>
                  <a:lnTo>
                    <a:pt x="314" y="32"/>
                  </a:lnTo>
                  <a:lnTo>
                    <a:pt x="395" y="0"/>
                  </a:lnTo>
                  <a:lnTo>
                    <a:pt x="388" y="22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180120" y="3646800"/>
              <a:ext cx="211680" cy="187920"/>
            </a:xfrm>
            <a:custGeom>
              <a:avLst/>
              <a:gdLst/>
              <a:ahLst/>
              <a:rect l="l" t="t" r="r" b="b"/>
              <a:pathLst>
                <a:path w="147" h="142">
                  <a:moveTo>
                    <a:pt x="79" y="139"/>
                  </a:moveTo>
                  <a:lnTo>
                    <a:pt x="87" y="114"/>
                  </a:lnTo>
                  <a:lnTo>
                    <a:pt x="48" y="132"/>
                  </a:lnTo>
                  <a:lnTo>
                    <a:pt x="7" y="126"/>
                  </a:lnTo>
                  <a:lnTo>
                    <a:pt x="5" y="113"/>
                  </a:lnTo>
                  <a:lnTo>
                    <a:pt x="44" y="62"/>
                  </a:lnTo>
                  <a:lnTo>
                    <a:pt x="73" y="45"/>
                  </a:lnTo>
                  <a:lnTo>
                    <a:pt x="67" y="34"/>
                  </a:lnTo>
                  <a:lnTo>
                    <a:pt x="32" y="53"/>
                  </a:lnTo>
                  <a:lnTo>
                    <a:pt x="0" y="62"/>
                  </a:lnTo>
                  <a:lnTo>
                    <a:pt x="9" y="20"/>
                  </a:lnTo>
                  <a:lnTo>
                    <a:pt x="35" y="0"/>
                  </a:lnTo>
                  <a:lnTo>
                    <a:pt x="146" y="19"/>
                  </a:lnTo>
                  <a:lnTo>
                    <a:pt x="126" y="48"/>
                  </a:lnTo>
                  <a:lnTo>
                    <a:pt x="116" y="113"/>
                  </a:lnTo>
                  <a:lnTo>
                    <a:pt x="106" y="141"/>
                  </a:lnTo>
                  <a:lnTo>
                    <a:pt x="79" y="13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855760" y="3683880"/>
              <a:ext cx="327240" cy="261000"/>
            </a:xfrm>
            <a:custGeom>
              <a:avLst/>
              <a:gdLst/>
              <a:ahLst/>
              <a:rect l="l" t="t" r="r" b="b"/>
              <a:pathLst>
                <a:path w="227" h="197">
                  <a:moveTo>
                    <a:pt x="221" y="123"/>
                  </a:moveTo>
                  <a:lnTo>
                    <a:pt x="217" y="141"/>
                  </a:lnTo>
                  <a:lnTo>
                    <a:pt x="209" y="166"/>
                  </a:lnTo>
                  <a:lnTo>
                    <a:pt x="195" y="184"/>
                  </a:lnTo>
                  <a:lnTo>
                    <a:pt x="176" y="196"/>
                  </a:lnTo>
                  <a:lnTo>
                    <a:pt x="158" y="190"/>
                  </a:lnTo>
                  <a:lnTo>
                    <a:pt x="139" y="174"/>
                  </a:lnTo>
                  <a:lnTo>
                    <a:pt x="160" y="183"/>
                  </a:lnTo>
                  <a:lnTo>
                    <a:pt x="179" y="180"/>
                  </a:lnTo>
                  <a:lnTo>
                    <a:pt x="193" y="167"/>
                  </a:lnTo>
                  <a:lnTo>
                    <a:pt x="193" y="154"/>
                  </a:lnTo>
                  <a:lnTo>
                    <a:pt x="183" y="138"/>
                  </a:lnTo>
                  <a:lnTo>
                    <a:pt x="174" y="124"/>
                  </a:lnTo>
                  <a:lnTo>
                    <a:pt x="165" y="84"/>
                  </a:lnTo>
                  <a:lnTo>
                    <a:pt x="149" y="87"/>
                  </a:lnTo>
                  <a:lnTo>
                    <a:pt x="119" y="65"/>
                  </a:lnTo>
                  <a:lnTo>
                    <a:pt x="82" y="82"/>
                  </a:lnTo>
                  <a:lnTo>
                    <a:pt x="64" y="98"/>
                  </a:lnTo>
                  <a:lnTo>
                    <a:pt x="60" y="112"/>
                  </a:lnTo>
                  <a:lnTo>
                    <a:pt x="59" y="129"/>
                  </a:lnTo>
                  <a:lnTo>
                    <a:pt x="63" y="138"/>
                  </a:lnTo>
                  <a:lnTo>
                    <a:pt x="75" y="143"/>
                  </a:lnTo>
                  <a:lnTo>
                    <a:pt x="62" y="146"/>
                  </a:lnTo>
                  <a:lnTo>
                    <a:pt x="45" y="137"/>
                  </a:lnTo>
                  <a:lnTo>
                    <a:pt x="39" y="127"/>
                  </a:lnTo>
                  <a:lnTo>
                    <a:pt x="37" y="111"/>
                  </a:lnTo>
                  <a:lnTo>
                    <a:pt x="37" y="105"/>
                  </a:lnTo>
                  <a:lnTo>
                    <a:pt x="26" y="129"/>
                  </a:lnTo>
                  <a:lnTo>
                    <a:pt x="20" y="119"/>
                  </a:lnTo>
                  <a:lnTo>
                    <a:pt x="17" y="101"/>
                  </a:lnTo>
                  <a:lnTo>
                    <a:pt x="9" y="119"/>
                  </a:lnTo>
                  <a:lnTo>
                    <a:pt x="9" y="137"/>
                  </a:lnTo>
                  <a:lnTo>
                    <a:pt x="16" y="151"/>
                  </a:lnTo>
                  <a:lnTo>
                    <a:pt x="26" y="165"/>
                  </a:lnTo>
                  <a:lnTo>
                    <a:pt x="45" y="172"/>
                  </a:lnTo>
                  <a:lnTo>
                    <a:pt x="25" y="169"/>
                  </a:lnTo>
                  <a:lnTo>
                    <a:pt x="9" y="159"/>
                  </a:lnTo>
                  <a:lnTo>
                    <a:pt x="2" y="143"/>
                  </a:lnTo>
                  <a:lnTo>
                    <a:pt x="0" y="120"/>
                  </a:lnTo>
                  <a:lnTo>
                    <a:pt x="4" y="98"/>
                  </a:lnTo>
                  <a:lnTo>
                    <a:pt x="17" y="77"/>
                  </a:lnTo>
                  <a:lnTo>
                    <a:pt x="34" y="65"/>
                  </a:lnTo>
                  <a:lnTo>
                    <a:pt x="37" y="46"/>
                  </a:lnTo>
                  <a:lnTo>
                    <a:pt x="64" y="38"/>
                  </a:lnTo>
                  <a:lnTo>
                    <a:pt x="73" y="14"/>
                  </a:lnTo>
                  <a:lnTo>
                    <a:pt x="85" y="10"/>
                  </a:lnTo>
                  <a:lnTo>
                    <a:pt x="137" y="16"/>
                  </a:lnTo>
                  <a:lnTo>
                    <a:pt x="186" y="16"/>
                  </a:lnTo>
                  <a:lnTo>
                    <a:pt x="179" y="34"/>
                  </a:lnTo>
                  <a:lnTo>
                    <a:pt x="201" y="33"/>
                  </a:lnTo>
                  <a:lnTo>
                    <a:pt x="209" y="10"/>
                  </a:lnTo>
                  <a:lnTo>
                    <a:pt x="152" y="7"/>
                  </a:lnTo>
                  <a:lnTo>
                    <a:pt x="96" y="2"/>
                  </a:lnTo>
                  <a:lnTo>
                    <a:pt x="71" y="7"/>
                  </a:lnTo>
                  <a:lnTo>
                    <a:pt x="63" y="14"/>
                  </a:lnTo>
                  <a:lnTo>
                    <a:pt x="59" y="30"/>
                  </a:lnTo>
                  <a:lnTo>
                    <a:pt x="62" y="14"/>
                  </a:lnTo>
                  <a:lnTo>
                    <a:pt x="72" y="5"/>
                  </a:lnTo>
                  <a:lnTo>
                    <a:pt x="89" y="0"/>
                  </a:lnTo>
                  <a:lnTo>
                    <a:pt x="156" y="2"/>
                  </a:lnTo>
                  <a:lnTo>
                    <a:pt x="216" y="5"/>
                  </a:lnTo>
                  <a:lnTo>
                    <a:pt x="226" y="25"/>
                  </a:lnTo>
                  <a:lnTo>
                    <a:pt x="206" y="78"/>
                  </a:lnTo>
                  <a:lnTo>
                    <a:pt x="204" y="94"/>
                  </a:lnTo>
                  <a:lnTo>
                    <a:pt x="211" y="103"/>
                  </a:lnTo>
                  <a:lnTo>
                    <a:pt x="221" y="12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855760" y="3724920"/>
              <a:ext cx="67320" cy="93960"/>
            </a:xfrm>
            <a:custGeom>
              <a:avLst/>
              <a:gdLst/>
              <a:ahLst/>
              <a:rect l="l" t="t" r="r" b="b"/>
              <a:pathLst>
                <a:path w="47" h="71">
                  <a:moveTo>
                    <a:pt x="46" y="1"/>
                  </a:moveTo>
                  <a:lnTo>
                    <a:pt x="34" y="4"/>
                  </a:lnTo>
                  <a:lnTo>
                    <a:pt x="26" y="20"/>
                  </a:lnTo>
                  <a:lnTo>
                    <a:pt x="13" y="38"/>
                  </a:lnTo>
                  <a:lnTo>
                    <a:pt x="7" y="52"/>
                  </a:lnTo>
                  <a:lnTo>
                    <a:pt x="4" y="70"/>
                  </a:lnTo>
                  <a:lnTo>
                    <a:pt x="0" y="57"/>
                  </a:lnTo>
                  <a:lnTo>
                    <a:pt x="4" y="41"/>
                  </a:lnTo>
                  <a:lnTo>
                    <a:pt x="20" y="25"/>
                  </a:lnTo>
                  <a:lnTo>
                    <a:pt x="29" y="7"/>
                  </a:lnTo>
                  <a:lnTo>
                    <a:pt x="34" y="0"/>
                  </a:lnTo>
                  <a:lnTo>
                    <a:pt x="46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722840" y="458640"/>
              <a:ext cx="1493280" cy="2348280"/>
            </a:xfrm>
            <a:custGeom>
              <a:avLst/>
              <a:gdLst/>
              <a:ahLst/>
              <a:rect l="l" t="t" r="r" b="b"/>
              <a:pathLst>
                <a:path w="1036" h="1771">
                  <a:moveTo>
                    <a:pt x="420" y="531"/>
                  </a:moveTo>
                  <a:lnTo>
                    <a:pt x="430" y="633"/>
                  </a:lnTo>
                  <a:lnTo>
                    <a:pt x="457" y="690"/>
                  </a:lnTo>
                  <a:lnTo>
                    <a:pt x="550" y="815"/>
                  </a:lnTo>
                  <a:lnTo>
                    <a:pt x="676" y="954"/>
                  </a:lnTo>
                  <a:lnTo>
                    <a:pt x="883" y="1142"/>
                  </a:lnTo>
                  <a:lnTo>
                    <a:pt x="713" y="1013"/>
                  </a:lnTo>
                  <a:lnTo>
                    <a:pt x="838" y="1146"/>
                  </a:lnTo>
                  <a:lnTo>
                    <a:pt x="1008" y="1265"/>
                  </a:lnTo>
                  <a:lnTo>
                    <a:pt x="916" y="1245"/>
                  </a:lnTo>
                  <a:lnTo>
                    <a:pt x="1032" y="1378"/>
                  </a:lnTo>
                  <a:lnTo>
                    <a:pt x="999" y="1410"/>
                  </a:lnTo>
                  <a:lnTo>
                    <a:pt x="1035" y="1437"/>
                  </a:lnTo>
                  <a:lnTo>
                    <a:pt x="999" y="1456"/>
                  </a:lnTo>
                  <a:lnTo>
                    <a:pt x="1026" y="1485"/>
                  </a:lnTo>
                  <a:lnTo>
                    <a:pt x="870" y="1770"/>
                  </a:lnTo>
                  <a:lnTo>
                    <a:pt x="831" y="1726"/>
                  </a:lnTo>
                  <a:lnTo>
                    <a:pt x="846" y="1650"/>
                  </a:lnTo>
                  <a:lnTo>
                    <a:pt x="808" y="1712"/>
                  </a:lnTo>
                  <a:lnTo>
                    <a:pt x="713" y="1576"/>
                  </a:lnTo>
                  <a:lnTo>
                    <a:pt x="729" y="1505"/>
                  </a:lnTo>
                  <a:lnTo>
                    <a:pt x="698" y="1548"/>
                  </a:lnTo>
                  <a:lnTo>
                    <a:pt x="652" y="1478"/>
                  </a:lnTo>
                  <a:lnTo>
                    <a:pt x="670" y="1392"/>
                  </a:lnTo>
                  <a:lnTo>
                    <a:pt x="638" y="1427"/>
                  </a:lnTo>
                  <a:lnTo>
                    <a:pt x="611" y="1374"/>
                  </a:lnTo>
                  <a:lnTo>
                    <a:pt x="623" y="1276"/>
                  </a:lnTo>
                  <a:lnTo>
                    <a:pt x="589" y="1312"/>
                  </a:lnTo>
                  <a:lnTo>
                    <a:pt x="558" y="1303"/>
                  </a:lnTo>
                  <a:lnTo>
                    <a:pt x="550" y="1228"/>
                  </a:lnTo>
                  <a:lnTo>
                    <a:pt x="505" y="1235"/>
                  </a:lnTo>
                  <a:lnTo>
                    <a:pt x="483" y="1188"/>
                  </a:lnTo>
                  <a:lnTo>
                    <a:pt x="518" y="1134"/>
                  </a:lnTo>
                  <a:lnTo>
                    <a:pt x="453" y="1145"/>
                  </a:lnTo>
                  <a:lnTo>
                    <a:pt x="396" y="1065"/>
                  </a:lnTo>
                  <a:lnTo>
                    <a:pt x="416" y="1036"/>
                  </a:lnTo>
                  <a:lnTo>
                    <a:pt x="371" y="1015"/>
                  </a:lnTo>
                  <a:lnTo>
                    <a:pt x="298" y="943"/>
                  </a:lnTo>
                  <a:lnTo>
                    <a:pt x="337" y="933"/>
                  </a:lnTo>
                  <a:lnTo>
                    <a:pt x="284" y="887"/>
                  </a:lnTo>
                  <a:lnTo>
                    <a:pt x="294" y="862"/>
                  </a:lnTo>
                  <a:lnTo>
                    <a:pt x="254" y="850"/>
                  </a:lnTo>
                  <a:lnTo>
                    <a:pt x="205" y="801"/>
                  </a:lnTo>
                  <a:lnTo>
                    <a:pt x="233" y="771"/>
                  </a:lnTo>
                  <a:lnTo>
                    <a:pt x="158" y="701"/>
                  </a:lnTo>
                  <a:lnTo>
                    <a:pt x="209" y="682"/>
                  </a:lnTo>
                  <a:lnTo>
                    <a:pt x="139" y="592"/>
                  </a:lnTo>
                  <a:lnTo>
                    <a:pt x="202" y="618"/>
                  </a:lnTo>
                  <a:lnTo>
                    <a:pt x="120" y="506"/>
                  </a:lnTo>
                  <a:lnTo>
                    <a:pt x="66" y="404"/>
                  </a:lnTo>
                  <a:lnTo>
                    <a:pt x="25" y="301"/>
                  </a:lnTo>
                  <a:lnTo>
                    <a:pt x="9" y="211"/>
                  </a:lnTo>
                  <a:lnTo>
                    <a:pt x="0" y="108"/>
                  </a:lnTo>
                  <a:lnTo>
                    <a:pt x="15" y="214"/>
                  </a:lnTo>
                  <a:lnTo>
                    <a:pt x="34" y="265"/>
                  </a:lnTo>
                  <a:lnTo>
                    <a:pt x="36" y="184"/>
                  </a:lnTo>
                  <a:lnTo>
                    <a:pt x="53" y="91"/>
                  </a:lnTo>
                  <a:lnTo>
                    <a:pt x="78" y="0"/>
                  </a:lnTo>
                  <a:lnTo>
                    <a:pt x="67" y="68"/>
                  </a:lnTo>
                  <a:lnTo>
                    <a:pt x="62" y="164"/>
                  </a:lnTo>
                  <a:lnTo>
                    <a:pt x="68" y="232"/>
                  </a:lnTo>
                  <a:lnTo>
                    <a:pt x="82" y="305"/>
                  </a:lnTo>
                  <a:lnTo>
                    <a:pt x="94" y="216"/>
                  </a:lnTo>
                  <a:lnTo>
                    <a:pt x="118" y="129"/>
                  </a:lnTo>
                  <a:lnTo>
                    <a:pt x="107" y="203"/>
                  </a:lnTo>
                  <a:lnTo>
                    <a:pt x="101" y="264"/>
                  </a:lnTo>
                  <a:lnTo>
                    <a:pt x="106" y="324"/>
                  </a:lnTo>
                  <a:lnTo>
                    <a:pt x="120" y="396"/>
                  </a:lnTo>
                  <a:lnTo>
                    <a:pt x="143" y="458"/>
                  </a:lnTo>
                  <a:lnTo>
                    <a:pt x="170" y="508"/>
                  </a:lnTo>
                  <a:lnTo>
                    <a:pt x="206" y="573"/>
                  </a:lnTo>
                  <a:lnTo>
                    <a:pt x="266" y="624"/>
                  </a:lnTo>
                  <a:lnTo>
                    <a:pt x="462" y="789"/>
                  </a:lnTo>
                  <a:lnTo>
                    <a:pt x="433" y="720"/>
                  </a:lnTo>
                  <a:lnTo>
                    <a:pt x="414" y="662"/>
                  </a:lnTo>
                  <a:lnTo>
                    <a:pt x="411" y="606"/>
                  </a:lnTo>
                  <a:lnTo>
                    <a:pt x="412" y="559"/>
                  </a:lnTo>
                  <a:lnTo>
                    <a:pt x="420" y="53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03" dur="indefinite" restart="never" nodeType="tmRoot">
          <p:childTnLst>
            <p:seq>
              <p:cTn id="1304" dur="indefinite" nodeType="mainSeq">
                <p:childTnLst>
                  <p:par>
                    <p:cTn id="1305" fill="hold">
                      <p:stCondLst>
                        <p:cond delay="0"/>
                      </p:stCondLst>
                      <p:childTnLst>
                        <p:par>
                          <p:cTn id="1306" fill="hold">
                            <p:stCondLst>
                              <p:cond delay="0"/>
                            </p:stCondLst>
                            <p:childTnLst>
                              <p:par>
                                <p:cTn id="13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9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3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5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7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8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9" fill="hold">
                            <p:stCondLst>
                              <p:cond delay="1500"/>
                            </p:stCondLst>
                            <p:childTnLst>
                              <p:par>
                                <p:cTn id="13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2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925640" y="952560"/>
            <a:ext cx="60991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Arial"/>
              </a:rPr>
              <a:t>PERSONAL DISTRIBU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26360" y="1549440"/>
            <a:ext cx="52592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Personal Income (Percent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887480" y="2335320"/>
            <a:ext cx="662040" cy="50940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100000">
                <a:srgbClr val="ffff99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897200" y="3083040"/>
            <a:ext cx="1519200" cy="50940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100000">
                <a:srgbClr val="ffff99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905120" y="3830760"/>
            <a:ext cx="2536560" cy="51120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100000">
                <a:srgbClr val="ffff99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913040" y="4579920"/>
            <a:ext cx="3124080" cy="50976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100000">
                <a:srgbClr val="ffff99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920960" y="5327640"/>
            <a:ext cx="5854680" cy="50976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100000">
                <a:srgbClr val="ffff99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823760" y="2378160"/>
            <a:ext cx="81072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Times New Roman"/>
              </a:rPr>
              <a:t>3.5%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836360" y="3125880"/>
            <a:ext cx="81072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Times New Roman"/>
              </a:rPr>
              <a:t>8.7%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836000" y="3873600"/>
            <a:ext cx="95112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Times New Roman"/>
              </a:rPr>
              <a:t>14.6%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61560" y="4622760"/>
            <a:ext cx="95112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Times New Roman"/>
              </a:rPr>
              <a:t>23.0%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861560" y="5370480"/>
            <a:ext cx="95112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Times New Roman"/>
              </a:rPr>
              <a:t>50.2%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505960" y="2349360"/>
            <a:ext cx="4078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Lowest 20% Income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370680" y="3111480"/>
            <a:ext cx="4127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econd 20% Income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400640" y="3859200"/>
            <a:ext cx="3994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iddle 20% Income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789640" y="5900760"/>
            <a:ext cx="19278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2002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69440" y="4594320"/>
            <a:ext cx="3993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ourth 20% Income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600360" y="5370480"/>
            <a:ext cx="4145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Highest 20% Income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774440" y="192240"/>
            <a:ext cx="7225920" cy="5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99"/>
                </a:solidFill>
                <a:latin typeface="Times New Roman"/>
              </a:rPr>
              <a:t>HOUSEHOLDS AS INCOME RECEIVER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500"/>
                            </p:stCondLst>
                            <p:childTnLst>
                              <p:par>
                                <p:cTn id="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500"/>
                            </p:stCondLst>
                            <p:childTnLst>
                              <p:par>
                                <p:cTn id="1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1940040" y="1928880"/>
            <a:ext cx="6888600" cy="3924720"/>
            <a:chOff x="1940040" y="1928880"/>
            <a:chExt cx="6888600" cy="3924720"/>
          </a:xfrm>
        </p:grpSpPr>
        <p:sp>
          <p:nvSpPr>
            <p:cNvPr id="105" name=""/>
            <p:cNvSpPr/>
            <p:nvPr/>
          </p:nvSpPr>
          <p:spPr>
            <a:xfrm>
              <a:off x="1940040" y="1928880"/>
              <a:ext cx="6821280" cy="385128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150680" y="5398920"/>
              <a:ext cx="16779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2002 DA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2041200" y="2006640"/>
            <a:ext cx="7149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3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786040" y="2006640"/>
            <a:ext cx="29307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 personal sav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997640" y="1101600"/>
            <a:ext cx="67208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WHERE DOES OUR INCOME G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001960" y="262080"/>
            <a:ext cx="6948720" cy="6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99"/>
                </a:solidFill>
                <a:latin typeface="Times New Roman"/>
              </a:rPr>
              <a:t>HOUSEHOLDS AS SPENDER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850040" y="5740560"/>
            <a:ext cx="9007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$29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Bill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239920" y="2595600"/>
            <a:ext cx="6383520" cy="2890800"/>
            <a:chOff x="2239920" y="2595600"/>
            <a:chExt cx="6383520" cy="2890800"/>
          </a:xfrm>
        </p:grpSpPr>
        <p:grpSp>
          <p:nvGrpSpPr>
            <p:cNvPr id="113" name=""/>
            <p:cNvGrpSpPr/>
            <p:nvPr/>
          </p:nvGrpSpPr>
          <p:grpSpPr>
            <a:xfrm>
              <a:off x="2239920" y="2684520"/>
              <a:ext cx="6188040" cy="2786040"/>
              <a:chOff x="2239920" y="2684520"/>
              <a:chExt cx="6188040" cy="2786040"/>
            </a:xfrm>
          </p:grpSpPr>
          <p:sp>
            <p:nvSpPr>
              <p:cNvPr id="114" name=""/>
              <p:cNvSpPr/>
              <p:nvPr/>
            </p:nvSpPr>
            <p:spPr>
              <a:xfrm>
                <a:off x="2239920" y="2684520"/>
                <a:ext cx="6188040" cy="2786040"/>
              </a:xfrm>
              <a:custGeom>
                <a:avLst/>
                <a:gdLst/>
                <a:ahLst/>
                <a:rect l="l" t="t" r="r" b="b"/>
                <a:pathLst>
                  <a:path w="4113" h="1840">
                    <a:moveTo>
                      <a:pt x="0" y="1839"/>
                    </a:moveTo>
                    <a:lnTo>
                      <a:pt x="0" y="0"/>
                    </a:lnTo>
                    <a:lnTo>
                      <a:pt x="4112" y="0"/>
                    </a:lnTo>
                    <a:lnTo>
                      <a:pt x="4112" y="1839"/>
                    </a:lnTo>
                    <a:lnTo>
                      <a:pt x="0" y="1839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525760" y="2972160"/>
                <a:ext cx="5616000" cy="2210400"/>
              </a:xfrm>
              <a:custGeom>
                <a:avLst/>
                <a:gdLst/>
                <a:ahLst/>
                <a:rect l="l" t="t" r="r" b="b"/>
                <a:pathLst>
                  <a:path w="3733" h="1460">
                    <a:moveTo>
                      <a:pt x="0" y="302"/>
                    </a:moveTo>
                    <a:lnTo>
                      <a:pt x="296" y="0"/>
                    </a:lnTo>
                    <a:lnTo>
                      <a:pt x="3457" y="0"/>
                    </a:lnTo>
                    <a:lnTo>
                      <a:pt x="3732" y="302"/>
                    </a:lnTo>
                    <a:lnTo>
                      <a:pt x="3732" y="1181"/>
                    </a:lnTo>
                    <a:lnTo>
                      <a:pt x="3457" y="1459"/>
                    </a:lnTo>
                    <a:lnTo>
                      <a:pt x="296" y="1459"/>
                    </a:lnTo>
                    <a:lnTo>
                      <a:pt x="0" y="1181"/>
                    </a:lnTo>
                    <a:lnTo>
                      <a:pt x="0" y="302"/>
                    </a:lnTo>
                  </a:path>
                </a:pathLst>
              </a:custGeom>
              <a:solidFill>
                <a:srgbClr val="ffff9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4452840" y="3144960"/>
                <a:ext cx="1797480" cy="1825920"/>
              </a:xfrm>
              <a:custGeom>
                <a:avLst/>
                <a:gdLst/>
                <a:ahLst/>
                <a:rect l="l" t="t" r="r" b="b"/>
                <a:pathLst>
                  <a:path w="1195" h="1206">
                    <a:moveTo>
                      <a:pt x="1194" y="601"/>
                    </a:moveTo>
                    <a:lnTo>
                      <a:pt x="1192" y="551"/>
                    </a:lnTo>
                    <a:lnTo>
                      <a:pt x="1182" y="501"/>
                    </a:lnTo>
                    <a:lnTo>
                      <a:pt x="1173" y="452"/>
                    </a:lnTo>
                    <a:lnTo>
                      <a:pt x="1158" y="404"/>
                    </a:lnTo>
                    <a:lnTo>
                      <a:pt x="1142" y="356"/>
                    </a:lnTo>
                    <a:lnTo>
                      <a:pt x="1118" y="311"/>
                    </a:lnTo>
                    <a:lnTo>
                      <a:pt x="1091" y="268"/>
                    </a:lnTo>
                    <a:lnTo>
                      <a:pt x="1065" y="226"/>
                    </a:lnTo>
                    <a:lnTo>
                      <a:pt x="1032" y="188"/>
                    </a:lnTo>
                    <a:lnTo>
                      <a:pt x="996" y="154"/>
                    </a:lnTo>
                    <a:lnTo>
                      <a:pt x="958" y="121"/>
                    </a:lnTo>
                    <a:lnTo>
                      <a:pt x="918" y="93"/>
                    </a:lnTo>
                    <a:lnTo>
                      <a:pt x="874" y="69"/>
                    </a:lnTo>
                    <a:lnTo>
                      <a:pt x="832" y="47"/>
                    </a:lnTo>
                    <a:lnTo>
                      <a:pt x="784" y="28"/>
                    </a:lnTo>
                    <a:lnTo>
                      <a:pt x="736" y="17"/>
                    </a:lnTo>
                    <a:lnTo>
                      <a:pt x="687" y="7"/>
                    </a:lnTo>
                    <a:lnTo>
                      <a:pt x="636" y="0"/>
                    </a:lnTo>
                    <a:lnTo>
                      <a:pt x="589" y="0"/>
                    </a:lnTo>
                    <a:lnTo>
                      <a:pt x="538" y="0"/>
                    </a:lnTo>
                    <a:lnTo>
                      <a:pt x="486" y="7"/>
                    </a:lnTo>
                    <a:lnTo>
                      <a:pt x="441" y="19"/>
                    </a:lnTo>
                    <a:lnTo>
                      <a:pt x="393" y="35"/>
                    </a:lnTo>
                    <a:lnTo>
                      <a:pt x="345" y="50"/>
                    </a:lnTo>
                    <a:lnTo>
                      <a:pt x="303" y="73"/>
                    </a:lnTo>
                    <a:lnTo>
                      <a:pt x="260" y="104"/>
                    </a:lnTo>
                    <a:lnTo>
                      <a:pt x="219" y="133"/>
                    </a:lnTo>
                    <a:lnTo>
                      <a:pt x="183" y="164"/>
                    </a:lnTo>
                    <a:lnTo>
                      <a:pt x="148" y="202"/>
                    </a:lnTo>
                    <a:lnTo>
                      <a:pt x="117" y="242"/>
                    </a:lnTo>
                    <a:lnTo>
                      <a:pt x="88" y="283"/>
                    </a:lnTo>
                    <a:lnTo>
                      <a:pt x="64" y="328"/>
                    </a:lnTo>
                    <a:lnTo>
                      <a:pt x="43" y="373"/>
                    </a:lnTo>
                    <a:lnTo>
                      <a:pt x="26" y="420"/>
                    </a:lnTo>
                    <a:lnTo>
                      <a:pt x="14" y="470"/>
                    </a:lnTo>
                    <a:lnTo>
                      <a:pt x="5" y="515"/>
                    </a:lnTo>
                    <a:lnTo>
                      <a:pt x="0" y="568"/>
                    </a:lnTo>
                    <a:lnTo>
                      <a:pt x="0" y="620"/>
                    </a:lnTo>
                    <a:lnTo>
                      <a:pt x="2" y="670"/>
                    </a:lnTo>
                    <a:lnTo>
                      <a:pt x="11" y="717"/>
                    </a:lnTo>
                    <a:lnTo>
                      <a:pt x="21" y="770"/>
                    </a:lnTo>
                    <a:lnTo>
                      <a:pt x="38" y="818"/>
                    </a:lnTo>
                    <a:lnTo>
                      <a:pt x="57" y="860"/>
                    </a:lnTo>
                    <a:lnTo>
                      <a:pt x="81" y="908"/>
                    </a:lnTo>
                    <a:lnTo>
                      <a:pt x="107" y="948"/>
                    </a:lnTo>
                    <a:lnTo>
                      <a:pt x="136" y="991"/>
                    </a:lnTo>
                    <a:lnTo>
                      <a:pt x="169" y="1024"/>
                    </a:lnTo>
                    <a:lnTo>
                      <a:pt x="207" y="1062"/>
                    </a:lnTo>
                    <a:lnTo>
                      <a:pt x="245" y="1093"/>
                    </a:lnTo>
                    <a:lnTo>
                      <a:pt x="288" y="1117"/>
                    </a:lnTo>
                    <a:lnTo>
                      <a:pt x="331" y="1141"/>
                    </a:lnTo>
                    <a:lnTo>
                      <a:pt x="377" y="1167"/>
                    </a:lnTo>
                    <a:lnTo>
                      <a:pt x="424" y="1181"/>
                    </a:lnTo>
                    <a:lnTo>
                      <a:pt x="474" y="1193"/>
                    </a:lnTo>
                    <a:lnTo>
                      <a:pt x="522" y="1203"/>
                    </a:lnTo>
                    <a:lnTo>
                      <a:pt x="570" y="1205"/>
                    </a:lnTo>
                    <a:lnTo>
                      <a:pt x="617" y="1205"/>
                    </a:lnTo>
                    <a:lnTo>
                      <a:pt x="670" y="1203"/>
                    </a:lnTo>
                    <a:lnTo>
                      <a:pt x="722" y="1193"/>
                    </a:lnTo>
                    <a:lnTo>
                      <a:pt x="768" y="1178"/>
                    </a:lnTo>
                    <a:lnTo>
                      <a:pt x="813" y="1167"/>
                    </a:lnTo>
                    <a:lnTo>
                      <a:pt x="863" y="1141"/>
                    </a:lnTo>
                    <a:lnTo>
                      <a:pt x="906" y="1117"/>
                    </a:lnTo>
                    <a:lnTo>
                      <a:pt x="949" y="1090"/>
                    </a:lnTo>
                    <a:lnTo>
                      <a:pt x="985" y="1060"/>
                    </a:lnTo>
                    <a:lnTo>
                      <a:pt x="1020" y="1024"/>
                    </a:lnTo>
                    <a:lnTo>
                      <a:pt x="1053" y="986"/>
                    </a:lnTo>
                    <a:lnTo>
                      <a:pt x="1084" y="948"/>
                    </a:lnTo>
                    <a:lnTo>
                      <a:pt x="1111" y="908"/>
                    </a:lnTo>
                    <a:lnTo>
                      <a:pt x="1135" y="860"/>
                    </a:lnTo>
                    <a:lnTo>
                      <a:pt x="1154" y="818"/>
                    </a:lnTo>
                    <a:lnTo>
                      <a:pt x="1173" y="770"/>
                    </a:lnTo>
                    <a:lnTo>
                      <a:pt x="1180" y="715"/>
                    </a:lnTo>
                    <a:lnTo>
                      <a:pt x="1189" y="668"/>
                    </a:lnTo>
                    <a:lnTo>
                      <a:pt x="1192" y="620"/>
                    </a:lnTo>
                    <a:lnTo>
                      <a:pt x="1194" y="601"/>
                    </a:lnTo>
                  </a:path>
                </a:pathLst>
              </a:custGeom>
              <a:solidFill>
                <a:srgbClr val="ffff9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4574880" y="3270600"/>
                <a:ext cx="1550880" cy="1577160"/>
              </a:xfrm>
              <a:custGeom>
                <a:avLst/>
                <a:gdLst/>
                <a:ahLst/>
                <a:rect l="l" t="t" r="r" b="b"/>
                <a:pathLst>
                  <a:path w="1031" h="1042">
                    <a:moveTo>
                      <a:pt x="1030" y="518"/>
                    </a:moveTo>
                    <a:lnTo>
                      <a:pt x="1030" y="473"/>
                    </a:lnTo>
                    <a:lnTo>
                      <a:pt x="1023" y="425"/>
                    </a:lnTo>
                    <a:lnTo>
                      <a:pt x="1010" y="380"/>
                    </a:lnTo>
                    <a:lnTo>
                      <a:pt x="999" y="335"/>
                    </a:lnTo>
                    <a:lnTo>
                      <a:pt x="980" y="293"/>
                    </a:lnTo>
                    <a:lnTo>
                      <a:pt x="961" y="250"/>
                    </a:lnTo>
                    <a:lnTo>
                      <a:pt x="930" y="212"/>
                    </a:lnTo>
                    <a:lnTo>
                      <a:pt x="904" y="176"/>
                    </a:lnTo>
                    <a:lnTo>
                      <a:pt x="870" y="143"/>
                    </a:lnTo>
                    <a:lnTo>
                      <a:pt x="837" y="112"/>
                    </a:lnTo>
                    <a:lnTo>
                      <a:pt x="796" y="81"/>
                    </a:lnTo>
                    <a:lnTo>
                      <a:pt x="760" y="59"/>
                    </a:lnTo>
                    <a:lnTo>
                      <a:pt x="717" y="38"/>
                    </a:lnTo>
                    <a:lnTo>
                      <a:pt x="675" y="21"/>
                    </a:lnTo>
                    <a:lnTo>
                      <a:pt x="629" y="10"/>
                    </a:lnTo>
                    <a:lnTo>
                      <a:pt x="586" y="2"/>
                    </a:lnTo>
                    <a:lnTo>
                      <a:pt x="536" y="0"/>
                    </a:lnTo>
                    <a:lnTo>
                      <a:pt x="491" y="0"/>
                    </a:lnTo>
                    <a:lnTo>
                      <a:pt x="446" y="2"/>
                    </a:lnTo>
                    <a:lnTo>
                      <a:pt x="398" y="10"/>
                    </a:lnTo>
                    <a:lnTo>
                      <a:pt x="355" y="21"/>
                    </a:lnTo>
                    <a:lnTo>
                      <a:pt x="312" y="38"/>
                    </a:lnTo>
                    <a:lnTo>
                      <a:pt x="269" y="59"/>
                    </a:lnTo>
                    <a:lnTo>
                      <a:pt x="229" y="81"/>
                    </a:lnTo>
                    <a:lnTo>
                      <a:pt x="196" y="112"/>
                    </a:lnTo>
                    <a:lnTo>
                      <a:pt x="159" y="143"/>
                    </a:lnTo>
                    <a:lnTo>
                      <a:pt x="126" y="176"/>
                    </a:lnTo>
                    <a:lnTo>
                      <a:pt x="98" y="212"/>
                    </a:lnTo>
                    <a:lnTo>
                      <a:pt x="74" y="250"/>
                    </a:lnTo>
                    <a:lnTo>
                      <a:pt x="50" y="293"/>
                    </a:lnTo>
                    <a:lnTo>
                      <a:pt x="31" y="335"/>
                    </a:lnTo>
                    <a:lnTo>
                      <a:pt x="19" y="380"/>
                    </a:lnTo>
                    <a:lnTo>
                      <a:pt x="7" y="425"/>
                    </a:lnTo>
                    <a:lnTo>
                      <a:pt x="0" y="473"/>
                    </a:lnTo>
                    <a:lnTo>
                      <a:pt x="0" y="518"/>
                    </a:lnTo>
                    <a:lnTo>
                      <a:pt x="0" y="566"/>
                    </a:lnTo>
                    <a:lnTo>
                      <a:pt x="7" y="611"/>
                    </a:lnTo>
                    <a:lnTo>
                      <a:pt x="19" y="659"/>
                    </a:lnTo>
                    <a:lnTo>
                      <a:pt x="31" y="701"/>
                    </a:lnTo>
                    <a:lnTo>
                      <a:pt x="50" y="744"/>
                    </a:lnTo>
                    <a:lnTo>
                      <a:pt x="74" y="785"/>
                    </a:lnTo>
                    <a:lnTo>
                      <a:pt x="98" y="825"/>
                    </a:lnTo>
                    <a:lnTo>
                      <a:pt x="126" y="863"/>
                    </a:lnTo>
                    <a:lnTo>
                      <a:pt x="159" y="896"/>
                    </a:lnTo>
                    <a:lnTo>
                      <a:pt x="196" y="929"/>
                    </a:lnTo>
                    <a:lnTo>
                      <a:pt x="229" y="953"/>
                    </a:lnTo>
                    <a:lnTo>
                      <a:pt x="269" y="979"/>
                    </a:lnTo>
                    <a:lnTo>
                      <a:pt x="312" y="998"/>
                    </a:lnTo>
                    <a:lnTo>
                      <a:pt x="355" y="1017"/>
                    </a:lnTo>
                    <a:lnTo>
                      <a:pt x="398" y="1027"/>
                    </a:lnTo>
                    <a:lnTo>
                      <a:pt x="446" y="1034"/>
                    </a:lnTo>
                    <a:lnTo>
                      <a:pt x="491" y="1041"/>
                    </a:lnTo>
                    <a:lnTo>
                      <a:pt x="536" y="1041"/>
                    </a:lnTo>
                    <a:lnTo>
                      <a:pt x="586" y="1034"/>
                    </a:lnTo>
                    <a:lnTo>
                      <a:pt x="629" y="1027"/>
                    </a:lnTo>
                    <a:lnTo>
                      <a:pt x="675" y="1017"/>
                    </a:lnTo>
                    <a:lnTo>
                      <a:pt x="717" y="998"/>
                    </a:lnTo>
                    <a:lnTo>
                      <a:pt x="760" y="979"/>
                    </a:lnTo>
                    <a:lnTo>
                      <a:pt x="796" y="953"/>
                    </a:lnTo>
                    <a:lnTo>
                      <a:pt x="837" y="929"/>
                    </a:lnTo>
                    <a:lnTo>
                      <a:pt x="870" y="896"/>
                    </a:lnTo>
                    <a:lnTo>
                      <a:pt x="904" y="863"/>
                    </a:lnTo>
                    <a:lnTo>
                      <a:pt x="930" y="825"/>
                    </a:lnTo>
                    <a:lnTo>
                      <a:pt x="961" y="785"/>
                    </a:lnTo>
                    <a:lnTo>
                      <a:pt x="980" y="744"/>
                    </a:lnTo>
                    <a:lnTo>
                      <a:pt x="999" y="701"/>
                    </a:lnTo>
                    <a:lnTo>
                      <a:pt x="1010" y="659"/>
                    </a:lnTo>
                    <a:lnTo>
                      <a:pt x="1023" y="611"/>
                    </a:lnTo>
                    <a:lnTo>
                      <a:pt x="1030" y="566"/>
                    </a:lnTo>
                    <a:lnTo>
                      <a:pt x="1030" y="518"/>
                    </a:lnTo>
                  </a:path>
                </a:pathLst>
              </a:custGeom>
              <a:solidFill>
                <a:srgbClr val="ffff9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5280480" y="3349080"/>
                <a:ext cx="114120" cy="1412280"/>
              </a:xfrm>
              <a:custGeom>
                <a:avLst/>
                <a:gdLst/>
                <a:ahLst/>
                <a:rect l="l" t="t" r="r" b="b"/>
                <a:pathLst>
                  <a:path w="76" h="933">
                    <a:moveTo>
                      <a:pt x="0" y="932"/>
                    </a:moveTo>
                    <a:lnTo>
                      <a:pt x="75" y="932"/>
                    </a:lnTo>
                    <a:lnTo>
                      <a:pt x="75" y="0"/>
                    </a:lnTo>
                    <a:lnTo>
                      <a:pt x="0" y="0"/>
                    </a:lnTo>
                    <a:lnTo>
                      <a:pt x="0" y="932"/>
                    </a:lnTo>
                  </a:path>
                </a:pathLst>
              </a:custGeom>
              <a:solidFill>
                <a:srgbClr val="ffff9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4971960" y="3476160"/>
                <a:ext cx="729720" cy="1159560"/>
              </a:xfrm>
              <a:custGeom>
                <a:avLst/>
                <a:gdLst/>
                <a:ahLst/>
                <a:rect l="l" t="t" r="r" b="b"/>
                <a:pathLst>
                  <a:path w="485" h="766">
                    <a:moveTo>
                      <a:pt x="129" y="544"/>
                    </a:moveTo>
                    <a:lnTo>
                      <a:pt x="129" y="551"/>
                    </a:lnTo>
                    <a:lnTo>
                      <a:pt x="131" y="561"/>
                    </a:lnTo>
                    <a:lnTo>
                      <a:pt x="134" y="574"/>
                    </a:lnTo>
                    <a:lnTo>
                      <a:pt x="139" y="584"/>
                    </a:lnTo>
                    <a:lnTo>
                      <a:pt x="146" y="599"/>
                    </a:lnTo>
                    <a:lnTo>
                      <a:pt x="151" y="606"/>
                    </a:lnTo>
                    <a:lnTo>
                      <a:pt x="160" y="617"/>
                    </a:lnTo>
                    <a:lnTo>
                      <a:pt x="170" y="627"/>
                    </a:lnTo>
                    <a:lnTo>
                      <a:pt x="184" y="632"/>
                    </a:lnTo>
                    <a:lnTo>
                      <a:pt x="196" y="639"/>
                    </a:lnTo>
                    <a:lnTo>
                      <a:pt x="210" y="644"/>
                    </a:lnTo>
                    <a:lnTo>
                      <a:pt x="222" y="649"/>
                    </a:lnTo>
                    <a:lnTo>
                      <a:pt x="236" y="649"/>
                    </a:lnTo>
                    <a:lnTo>
                      <a:pt x="253" y="649"/>
                    </a:lnTo>
                    <a:lnTo>
                      <a:pt x="265" y="644"/>
                    </a:lnTo>
                    <a:lnTo>
                      <a:pt x="280" y="641"/>
                    </a:lnTo>
                    <a:lnTo>
                      <a:pt x="291" y="639"/>
                    </a:lnTo>
                    <a:lnTo>
                      <a:pt x="303" y="627"/>
                    </a:lnTo>
                    <a:lnTo>
                      <a:pt x="315" y="622"/>
                    </a:lnTo>
                    <a:lnTo>
                      <a:pt x="325" y="611"/>
                    </a:lnTo>
                    <a:lnTo>
                      <a:pt x="332" y="601"/>
                    </a:lnTo>
                    <a:lnTo>
                      <a:pt x="342" y="589"/>
                    </a:lnTo>
                    <a:lnTo>
                      <a:pt x="346" y="579"/>
                    </a:lnTo>
                    <a:lnTo>
                      <a:pt x="348" y="565"/>
                    </a:lnTo>
                    <a:lnTo>
                      <a:pt x="351" y="556"/>
                    </a:lnTo>
                    <a:lnTo>
                      <a:pt x="351" y="541"/>
                    </a:lnTo>
                    <a:lnTo>
                      <a:pt x="348" y="527"/>
                    </a:lnTo>
                    <a:lnTo>
                      <a:pt x="346" y="515"/>
                    </a:lnTo>
                    <a:lnTo>
                      <a:pt x="336" y="506"/>
                    </a:lnTo>
                    <a:lnTo>
                      <a:pt x="329" y="494"/>
                    </a:lnTo>
                    <a:lnTo>
                      <a:pt x="322" y="484"/>
                    </a:lnTo>
                    <a:lnTo>
                      <a:pt x="310" y="475"/>
                    </a:lnTo>
                    <a:lnTo>
                      <a:pt x="301" y="465"/>
                    </a:lnTo>
                    <a:lnTo>
                      <a:pt x="289" y="463"/>
                    </a:lnTo>
                    <a:lnTo>
                      <a:pt x="272" y="456"/>
                    </a:lnTo>
                    <a:lnTo>
                      <a:pt x="139" y="408"/>
                    </a:lnTo>
                    <a:lnTo>
                      <a:pt x="117" y="404"/>
                    </a:lnTo>
                    <a:lnTo>
                      <a:pt x="103" y="394"/>
                    </a:lnTo>
                    <a:lnTo>
                      <a:pt x="86" y="382"/>
                    </a:lnTo>
                    <a:lnTo>
                      <a:pt x="70" y="368"/>
                    </a:lnTo>
                    <a:lnTo>
                      <a:pt x="58" y="356"/>
                    </a:lnTo>
                    <a:lnTo>
                      <a:pt x="43" y="339"/>
                    </a:lnTo>
                    <a:lnTo>
                      <a:pt x="29" y="327"/>
                    </a:lnTo>
                    <a:lnTo>
                      <a:pt x="22" y="309"/>
                    </a:lnTo>
                    <a:lnTo>
                      <a:pt x="17" y="289"/>
                    </a:lnTo>
                    <a:lnTo>
                      <a:pt x="8" y="273"/>
                    </a:lnTo>
                    <a:lnTo>
                      <a:pt x="5" y="254"/>
                    </a:lnTo>
                    <a:lnTo>
                      <a:pt x="0" y="233"/>
                    </a:lnTo>
                    <a:lnTo>
                      <a:pt x="0" y="216"/>
                    </a:lnTo>
                    <a:lnTo>
                      <a:pt x="0" y="197"/>
                    </a:lnTo>
                    <a:lnTo>
                      <a:pt x="5" y="178"/>
                    </a:lnTo>
                    <a:lnTo>
                      <a:pt x="8" y="161"/>
                    </a:lnTo>
                    <a:lnTo>
                      <a:pt x="17" y="142"/>
                    </a:lnTo>
                    <a:lnTo>
                      <a:pt x="22" y="128"/>
                    </a:lnTo>
                    <a:lnTo>
                      <a:pt x="32" y="109"/>
                    </a:lnTo>
                    <a:lnTo>
                      <a:pt x="46" y="92"/>
                    </a:lnTo>
                    <a:lnTo>
                      <a:pt x="58" y="78"/>
                    </a:lnTo>
                    <a:lnTo>
                      <a:pt x="70" y="64"/>
                    </a:lnTo>
                    <a:lnTo>
                      <a:pt x="86" y="49"/>
                    </a:lnTo>
                    <a:lnTo>
                      <a:pt x="103" y="40"/>
                    </a:lnTo>
                    <a:lnTo>
                      <a:pt x="122" y="28"/>
                    </a:lnTo>
                    <a:lnTo>
                      <a:pt x="139" y="20"/>
                    </a:lnTo>
                    <a:lnTo>
                      <a:pt x="160" y="11"/>
                    </a:lnTo>
                    <a:lnTo>
                      <a:pt x="182" y="7"/>
                    </a:lnTo>
                    <a:lnTo>
                      <a:pt x="201" y="4"/>
                    </a:lnTo>
                    <a:lnTo>
                      <a:pt x="222" y="2"/>
                    </a:lnTo>
                    <a:lnTo>
                      <a:pt x="244" y="0"/>
                    </a:lnTo>
                    <a:lnTo>
                      <a:pt x="263" y="2"/>
                    </a:lnTo>
                    <a:lnTo>
                      <a:pt x="284" y="4"/>
                    </a:lnTo>
                    <a:lnTo>
                      <a:pt x="303" y="7"/>
                    </a:lnTo>
                    <a:lnTo>
                      <a:pt x="325" y="11"/>
                    </a:lnTo>
                    <a:lnTo>
                      <a:pt x="346" y="20"/>
                    </a:lnTo>
                    <a:lnTo>
                      <a:pt x="365" y="31"/>
                    </a:lnTo>
                    <a:lnTo>
                      <a:pt x="380" y="40"/>
                    </a:lnTo>
                    <a:lnTo>
                      <a:pt x="396" y="52"/>
                    </a:lnTo>
                    <a:lnTo>
                      <a:pt x="415" y="64"/>
                    </a:lnTo>
                    <a:lnTo>
                      <a:pt x="425" y="78"/>
                    </a:lnTo>
                    <a:lnTo>
                      <a:pt x="439" y="95"/>
                    </a:lnTo>
                    <a:lnTo>
                      <a:pt x="451" y="111"/>
                    </a:lnTo>
                    <a:lnTo>
                      <a:pt x="461" y="128"/>
                    </a:lnTo>
                    <a:lnTo>
                      <a:pt x="468" y="142"/>
                    </a:lnTo>
                    <a:lnTo>
                      <a:pt x="477" y="163"/>
                    </a:lnTo>
                    <a:lnTo>
                      <a:pt x="480" y="180"/>
                    </a:lnTo>
                    <a:lnTo>
                      <a:pt x="482" y="199"/>
                    </a:lnTo>
                    <a:lnTo>
                      <a:pt x="484" y="218"/>
                    </a:lnTo>
                    <a:lnTo>
                      <a:pt x="484" y="223"/>
                    </a:lnTo>
                    <a:lnTo>
                      <a:pt x="351" y="223"/>
                    </a:lnTo>
                    <a:lnTo>
                      <a:pt x="351" y="220"/>
                    </a:lnTo>
                    <a:lnTo>
                      <a:pt x="351" y="206"/>
                    </a:lnTo>
                    <a:lnTo>
                      <a:pt x="348" y="195"/>
                    </a:lnTo>
                    <a:lnTo>
                      <a:pt x="346" y="185"/>
                    </a:lnTo>
                    <a:lnTo>
                      <a:pt x="336" y="173"/>
                    </a:lnTo>
                    <a:lnTo>
                      <a:pt x="329" y="159"/>
                    </a:lnTo>
                    <a:lnTo>
                      <a:pt x="322" y="152"/>
                    </a:lnTo>
                    <a:lnTo>
                      <a:pt x="310" y="142"/>
                    </a:lnTo>
                    <a:lnTo>
                      <a:pt x="301" y="135"/>
                    </a:lnTo>
                    <a:lnTo>
                      <a:pt x="287" y="128"/>
                    </a:lnTo>
                    <a:lnTo>
                      <a:pt x="272" y="121"/>
                    </a:lnTo>
                    <a:lnTo>
                      <a:pt x="260" y="121"/>
                    </a:lnTo>
                    <a:lnTo>
                      <a:pt x="244" y="118"/>
                    </a:lnTo>
                    <a:lnTo>
                      <a:pt x="232" y="121"/>
                    </a:lnTo>
                    <a:lnTo>
                      <a:pt x="217" y="121"/>
                    </a:lnTo>
                    <a:lnTo>
                      <a:pt x="203" y="128"/>
                    </a:lnTo>
                    <a:lnTo>
                      <a:pt x="191" y="130"/>
                    </a:lnTo>
                    <a:lnTo>
                      <a:pt x="179" y="137"/>
                    </a:lnTo>
                    <a:lnTo>
                      <a:pt x="167" y="145"/>
                    </a:lnTo>
                    <a:lnTo>
                      <a:pt x="158" y="154"/>
                    </a:lnTo>
                    <a:lnTo>
                      <a:pt x="151" y="163"/>
                    </a:lnTo>
                    <a:lnTo>
                      <a:pt x="141" y="178"/>
                    </a:lnTo>
                    <a:lnTo>
                      <a:pt x="136" y="188"/>
                    </a:lnTo>
                    <a:lnTo>
                      <a:pt x="131" y="201"/>
                    </a:lnTo>
                    <a:lnTo>
                      <a:pt x="131" y="216"/>
                    </a:lnTo>
                    <a:lnTo>
                      <a:pt x="131" y="225"/>
                    </a:lnTo>
                    <a:lnTo>
                      <a:pt x="134" y="239"/>
                    </a:lnTo>
                    <a:lnTo>
                      <a:pt x="139" y="251"/>
                    </a:lnTo>
                    <a:lnTo>
                      <a:pt x="146" y="261"/>
                    </a:lnTo>
                    <a:lnTo>
                      <a:pt x="151" y="273"/>
                    </a:lnTo>
                    <a:lnTo>
                      <a:pt x="160" y="282"/>
                    </a:lnTo>
                    <a:lnTo>
                      <a:pt x="170" y="292"/>
                    </a:lnTo>
                    <a:lnTo>
                      <a:pt x="182" y="296"/>
                    </a:lnTo>
                    <a:lnTo>
                      <a:pt x="193" y="309"/>
                    </a:lnTo>
                    <a:lnTo>
                      <a:pt x="220" y="316"/>
                    </a:lnTo>
                    <a:lnTo>
                      <a:pt x="342" y="354"/>
                    </a:lnTo>
                    <a:lnTo>
                      <a:pt x="346" y="358"/>
                    </a:lnTo>
                    <a:lnTo>
                      <a:pt x="363" y="363"/>
                    </a:lnTo>
                    <a:lnTo>
                      <a:pt x="380" y="373"/>
                    </a:lnTo>
                    <a:lnTo>
                      <a:pt x="396" y="384"/>
                    </a:lnTo>
                    <a:lnTo>
                      <a:pt x="413" y="396"/>
                    </a:lnTo>
                    <a:lnTo>
                      <a:pt x="425" y="408"/>
                    </a:lnTo>
                    <a:lnTo>
                      <a:pt x="439" y="425"/>
                    </a:lnTo>
                    <a:lnTo>
                      <a:pt x="451" y="444"/>
                    </a:lnTo>
                    <a:lnTo>
                      <a:pt x="461" y="460"/>
                    </a:lnTo>
                    <a:lnTo>
                      <a:pt x="468" y="475"/>
                    </a:lnTo>
                    <a:lnTo>
                      <a:pt x="475" y="494"/>
                    </a:lnTo>
                    <a:lnTo>
                      <a:pt x="480" y="513"/>
                    </a:lnTo>
                    <a:lnTo>
                      <a:pt x="482" y="532"/>
                    </a:lnTo>
                    <a:lnTo>
                      <a:pt x="482" y="551"/>
                    </a:lnTo>
                    <a:lnTo>
                      <a:pt x="482" y="568"/>
                    </a:lnTo>
                    <a:lnTo>
                      <a:pt x="480" y="586"/>
                    </a:lnTo>
                    <a:lnTo>
                      <a:pt x="475" y="606"/>
                    </a:lnTo>
                    <a:lnTo>
                      <a:pt x="468" y="622"/>
                    </a:lnTo>
                    <a:lnTo>
                      <a:pt x="461" y="641"/>
                    </a:lnTo>
                    <a:lnTo>
                      <a:pt x="451" y="660"/>
                    </a:lnTo>
                    <a:lnTo>
                      <a:pt x="439" y="674"/>
                    </a:lnTo>
                    <a:lnTo>
                      <a:pt x="425" y="689"/>
                    </a:lnTo>
                    <a:lnTo>
                      <a:pt x="411" y="701"/>
                    </a:lnTo>
                    <a:lnTo>
                      <a:pt x="396" y="715"/>
                    </a:lnTo>
                    <a:lnTo>
                      <a:pt x="377" y="727"/>
                    </a:lnTo>
                    <a:lnTo>
                      <a:pt x="358" y="736"/>
                    </a:lnTo>
                    <a:lnTo>
                      <a:pt x="344" y="743"/>
                    </a:lnTo>
                    <a:lnTo>
                      <a:pt x="322" y="753"/>
                    </a:lnTo>
                    <a:lnTo>
                      <a:pt x="303" y="757"/>
                    </a:lnTo>
                    <a:lnTo>
                      <a:pt x="282" y="760"/>
                    </a:lnTo>
                    <a:lnTo>
                      <a:pt x="263" y="763"/>
                    </a:lnTo>
                    <a:lnTo>
                      <a:pt x="241" y="765"/>
                    </a:lnTo>
                    <a:lnTo>
                      <a:pt x="220" y="763"/>
                    </a:lnTo>
                    <a:lnTo>
                      <a:pt x="198" y="760"/>
                    </a:lnTo>
                    <a:lnTo>
                      <a:pt x="177" y="757"/>
                    </a:lnTo>
                    <a:lnTo>
                      <a:pt x="158" y="753"/>
                    </a:lnTo>
                    <a:lnTo>
                      <a:pt x="139" y="743"/>
                    </a:lnTo>
                    <a:lnTo>
                      <a:pt x="122" y="736"/>
                    </a:lnTo>
                    <a:lnTo>
                      <a:pt x="103" y="727"/>
                    </a:lnTo>
                    <a:lnTo>
                      <a:pt x="86" y="715"/>
                    </a:lnTo>
                    <a:lnTo>
                      <a:pt x="67" y="701"/>
                    </a:lnTo>
                    <a:lnTo>
                      <a:pt x="58" y="689"/>
                    </a:lnTo>
                    <a:lnTo>
                      <a:pt x="43" y="672"/>
                    </a:lnTo>
                    <a:lnTo>
                      <a:pt x="29" y="660"/>
                    </a:lnTo>
                    <a:lnTo>
                      <a:pt x="22" y="641"/>
                    </a:lnTo>
                    <a:lnTo>
                      <a:pt x="14" y="622"/>
                    </a:lnTo>
                    <a:lnTo>
                      <a:pt x="5" y="606"/>
                    </a:lnTo>
                    <a:lnTo>
                      <a:pt x="3" y="584"/>
                    </a:lnTo>
                    <a:lnTo>
                      <a:pt x="0" y="565"/>
                    </a:lnTo>
                    <a:lnTo>
                      <a:pt x="0" y="551"/>
                    </a:lnTo>
                    <a:lnTo>
                      <a:pt x="0" y="544"/>
                    </a:lnTo>
                    <a:lnTo>
                      <a:pt x="129" y="544"/>
                    </a:lnTo>
                  </a:path>
                </a:pathLst>
              </a:custGeom>
              <a:solidFill>
                <a:srgbClr val="ffff9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2301840" y="2595600"/>
              <a:ext cx="6321600" cy="28908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2300400" y="2525760"/>
            <a:ext cx="0" cy="311616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500"/>
                            </p:stCondLst>
                            <p:childTnLst>
                              <p:par>
                                <p:cTn id="1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2000"/>
                            </p:stCondLst>
                            <p:childTnLst>
                              <p:par>
                                <p:cTn id="1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2500"/>
                            </p:stCondLst>
                            <p:childTnLst>
                              <p:par>
                                <p:cTn id="1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3000"/>
                            </p:stCondLst>
                            <p:childTnLst>
                              <p:par>
                                <p:cTn id="1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3500"/>
                            </p:stCondLst>
                            <p:childTnLst>
                              <p:par>
                                <p:cTn id="1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1940040" y="1928880"/>
            <a:ext cx="6888600" cy="3924720"/>
            <a:chOff x="1940040" y="1928880"/>
            <a:chExt cx="6888600" cy="3924720"/>
          </a:xfrm>
        </p:grpSpPr>
        <p:sp>
          <p:nvSpPr>
            <p:cNvPr id="123" name=""/>
            <p:cNvSpPr/>
            <p:nvPr/>
          </p:nvSpPr>
          <p:spPr>
            <a:xfrm>
              <a:off x="1940040" y="1928880"/>
              <a:ext cx="6821280" cy="385128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150680" y="5398920"/>
              <a:ext cx="16779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2002 DA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239920" y="2684520"/>
            <a:ext cx="6188040" cy="2786040"/>
            <a:chOff x="2239920" y="2684520"/>
            <a:chExt cx="6188040" cy="2786040"/>
          </a:xfrm>
        </p:grpSpPr>
        <p:sp>
          <p:nvSpPr>
            <p:cNvPr id="126" name=""/>
            <p:cNvSpPr/>
            <p:nvPr/>
          </p:nvSpPr>
          <p:spPr>
            <a:xfrm>
              <a:off x="2239920" y="2684520"/>
              <a:ext cx="6188040" cy="2786040"/>
            </a:xfrm>
            <a:custGeom>
              <a:avLst/>
              <a:gdLst/>
              <a:ahLst/>
              <a:rect l="l" t="t" r="r" b="b"/>
              <a:pathLst>
                <a:path w="4113" h="1840">
                  <a:moveTo>
                    <a:pt x="0" y="1839"/>
                  </a:moveTo>
                  <a:lnTo>
                    <a:pt x="0" y="0"/>
                  </a:lnTo>
                  <a:lnTo>
                    <a:pt x="4112" y="0"/>
                  </a:lnTo>
                  <a:lnTo>
                    <a:pt x="4112" y="1839"/>
                  </a:lnTo>
                  <a:lnTo>
                    <a:pt x="0" y="183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525760" y="2972160"/>
              <a:ext cx="5616000" cy="2210400"/>
            </a:xfrm>
            <a:custGeom>
              <a:avLst/>
              <a:gdLst/>
              <a:ahLst/>
              <a:rect l="l" t="t" r="r" b="b"/>
              <a:pathLst>
                <a:path w="3733" h="1460">
                  <a:moveTo>
                    <a:pt x="0" y="302"/>
                  </a:moveTo>
                  <a:lnTo>
                    <a:pt x="296" y="0"/>
                  </a:lnTo>
                  <a:lnTo>
                    <a:pt x="3457" y="0"/>
                  </a:lnTo>
                  <a:lnTo>
                    <a:pt x="3732" y="302"/>
                  </a:lnTo>
                  <a:lnTo>
                    <a:pt x="3732" y="1181"/>
                  </a:lnTo>
                  <a:lnTo>
                    <a:pt x="3457" y="1459"/>
                  </a:lnTo>
                  <a:lnTo>
                    <a:pt x="296" y="1459"/>
                  </a:lnTo>
                  <a:lnTo>
                    <a:pt x="0" y="1181"/>
                  </a:lnTo>
                  <a:lnTo>
                    <a:pt x="0" y="302"/>
                  </a:lnTo>
                </a:path>
              </a:pathLst>
            </a:custGeom>
            <a:solidFill>
              <a:srgbClr val="0cc10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52840" y="3144960"/>
              <a:ext cx="1797480" cy="1825920"/>
            </a:xfrm>
            <a:custGeom>
              <a:avLst/>
              <a:gdLst/>
              <a:ahLst/>
              <a:rect l="l" t="t" r="r" b="b"/>
              <a:pathLst>
                <a:path w="1195" h="1206">
                  <a:moveTo>
                    <a:pt x="1194" y="601"/>
                  </a:moveTo>
                  <a:lnTo>
                    <a:pt x="1192" y="551"/>
                  </a:lnTo>
                  <a:lnTo>
                    <a:pt x="1182" y="501"/>
                  </a:lnTo>
                  <a:lnTo>
                    <a:pt x="1173" y="452"/>
                  </a:lnTo>
                  <a:lnTo>
                    <a:pt x="1158" y="404"/>
                  </a:lnTo>
                  <a:lnTo>
                    <a:pt x="1142" y="356"/>
                  </a:lnTo>
                  <a:lnTo>
                    <a:pt x="1118" y="311"/>
                  </a:lnTo>
                  <a:lnTo>
                    <a:pt x="1091" y="268"/>
                  </a:lnTo>
                  <a:lnTo>
                    <a:pt x="1065" y="226"/>
                  </a:lnTo>
                  <a:lnTo>
                    <a:pt x="1032" y="188"/>
                  </a:lnTo>
                  <a:lnTo>
                    <a:pt x="996" y="154"/>
                  </a:lnTo>
                  <a:lnTo>
                    <a:pt x="958" y="121"/>
                  </a:lnTo>
                  <a:lnTo>
                    <a:pt x="918" y="93"/>
                  </a:lnTo>
                  <a:lnTo>
                    <a:pt x="874" y="69"/>
                  </a:lnTo>
                  <a:lnTo>
                    <a:pt x="832" y="47"/>
                  </a:lnTo>
                  <a:lnTo>
                    <a:pt x="784" y="28"/>
                  </a:lnTo>
                  <a:lnTo>
                    <a:pt x="736" y="17"/>
                  </a:lnTo>
                  <a:lnTo>
                    <a:pt x="687" y="7"/>
                  </a:lnTo>
                  <a:lnTo>
                    <a:pt x="636" y="0"/>
                  </a:lnTo>
                  <a:lnTo>
                    <a:pt x="589" y="0"/>
                  </a:lnTo>
                  <a:lnTo>
                    <a:pt x="538" y="0"/>
                  </a:lnTo>
                  <a:lnTo>
                    <a:pt x="486" y="7"/>
                  </a:lnTo>
                  <a:lnTo>
                    <a:pt x="441" y="19"/>
                  </a:lnTo>
                  <a:lnTo>
                    <a:pt x="393" y="35"/>
                  </a:lnTo>
                  <a:lnTo>
                    <a:pt x="345" y="50"/>
                  </a:lnTo>
                  <a:lnTo>
                    <a:pt x="303" y="73"/>
                  </a:lnTo>
                  <a:lnTo>
                    <a:pt x="260" y="104"/>
                  </a:lnTo>
                  <a:lnTo>
                    <a:pt x="219" y="133"/>
                  </a:lnTo>
                  <a:lnTo>
                    <a:pt x="183" y="164"/>
                  </a:lnTo>
                  <a:lnTo>
                    <a:pt x="148" y="202"/>
                  </a:lnTo>
                  <a:lnTo>
                    <a:pt x="117" y="242"/>
                  </a:lnTo>
                  <a:lnTo>
                    <a:pt x="88" y="283"/>
                  </a:lnTo>
                  <a:lnTo>
                    <a:pt x="64" y="328"/>
                  </a:lnTo>
                  <a:lnTo>
                    <a:pt x="43" y="373"/>
                  </a:lnTo>
                  <a:lnTo>
                    <a:pt x="26" y="420"/>
                  </a:lnTo>
                  <a:lnTo>
                    <a:pt x="14" y="470"/>
                  </a:lnTo>
                  <a:lnTo>
                    <a:pt x="5" y="515"/>
                  </a:lnTo>
                  <a:lnTo>
                    <a:pt x="0" y="568"/>
                  </a:lnTo>
                  <a:lnTo>
                    <a:pt x="0" y="620"/>
                  </a:lnTo>
                  <a:lnTo>
                    <a:pt x="2" y="670"/>
                  </a:lnTo>
                  <a:lnTo>
                    <a:pt x="11" y="717"/>
                  </a:lnTo>
                  <a:lnTo>
                    <a:pt x="21" y="770"/>
                  </a:lnTo>
                  <a:lnTo>
                    <a:pt x="38" y="818"/>
                  </a:lnTo>
                  <a:lnTo>
                    <a:pt x="57" y="860"/>
                  </a:lnTo>
                  <a:lnTo>
                    <a:pt x="81" y="908"/>
                  </a:lnTo>
                  <a:lnTo>
                    <a:pt x="107" y="948"/>
                  </a:lnTo>
                  <a:lnTo>
                    <a:pt x="136" y="991"/>
                  </a:lnTo>
                  <a:lnTo>
                    <a:pt x="169" y="1024"/>
                  </a:lnTo>
                  <a:lnTo>
                    <a:pt x="207" y="1062"/>
                  </a:lnTo>
                  <a:lnTo>
                    <a:pt x="245" y="1093"/>
                  </a:lnTo>
                  <a:lnTo>
                    <a:pt x="288" y="1117"/>
                  </a:lnTo>
                  <a:lnTo>
                    <a:pt x="331" y="1141"/>
                  </a:lnTo>
                  <a:lnTo>
                    <a:pt x="377" y="1167"/>
                  </a:lnTo>
                  <a:lnTo>
                    <a:pt x="424" y="1181"/>
                  </a:lnTo>
                  <a:lnTo>
                    <a:pt x="474" y="1193"/>
                  </a:lnTo>
                  <a:lnTo>
                    <a:pt x="522" y="1203"/>
                  </a:lnTo>
                  <a:lnTo>
                    <a:pt x="570" y="1205"/>
                  </a:lnTo>
                  <a:lnTo>
                    <a:pt x="617" y="1205"/>
                  </a:lnTo>
                  <a:lnTo>
                    <a:pt x="670" y="1203"/>
                  </a:lnTo>
                  <a:lnTo>
                    <a:pt x="722" y="1193"/>
                  </a:lnTo>
                  <a:lnTo>
                    <a:pt x="768" y="1178"/>
                  </a:lnTo>
                  <a:lnTo>
                    <a:pt x="813" y="1167"/>
                  </a:lnTo>
                  <a:lnTo>
                    <a:pt x="863" y="1141"/>
                  </a:lnTo>
                  <a:lnTo>
                    <a:pt x="906" y="1117"/>
                  </a:lnTo>
                  <a:lnTo>
                    <a:pt x="949" y="1090"/>
                  </a:lnTo>
                  <a:lnTo>
                    <a:pt x="985" y="1060"/>
                  </a:lnTo>
                  <a:lnTo>
                    <a:pt x="1020" y="1024"/>
                  </a:lnTo>
                  <a:lnTo>
                    <a:pt x="1053" y="986"/>
                  </a:lnTo>
                  <a:lnTo>
                    <a:pt x="1084" y="948"/>
                  </a:lnTo>
                  <a:lnTo>
                    <a:pt x="1111" y="908"/>
                  </a:lnTo>
                  <a:lnTo>
                    <a:pt x="1135" y="860"/>
                  </a:lnTo>
                  <a:lnTo>
                    <a:pt x="1154" y="818"/>
                  </a:lnTo>
                  <a:lnTo>
                    <a:pt x="1173" y="770"/>
                  </a:lnTo>
                  <a:lnTo>
                    <a:pt x="1180" y="715"/>
                  </a:lnTo>
                  <a:lnTo>
                    <a:pt x="1189" y="668"/>
                  </a:lnTo>
                  <a:lnTo>
                    <a:pt x="1192" y="620"/>
                  </a:lnTo>
                  <a:lnTo>
                    <a:pt x="1194" y="60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574880" y="3270600"/>
              <a:ext cx="1550880" cy="1577160"/>
            </a:xfrm>
            <a:custGeom>
              <a:avLst/>
              <a:gdLst/>
              <a:ahLst/>
              <a:rect l="l" t="t" r="r" b="b"/>
              <a:pathLst>
                <a:path w="1031" h="1042">
                  <a:moveTo>
                    <a:pt x="1030" y="518"/>
                  </a:moveTo>
                  <a:lnTo>
                    <a:pt x="1030" y="473"/>
                  </a:lnTo>
                  <a:lnTo>
                    <a:pt x="1023" y="425"/>
                  </a:lnTo>
                  <a:lnTo>
                    <a:pt x="1010" y="380"/>
                  </a:lnTo>
                  <a:lnTo>
                    <a:pt x="999" y="335"/>
                  </a:lnTo>
                  <a:lnTo>
                    <a:pt x="980" y="293"/>
                  </a:lnTo>
                  <a:lnTo>
                    <a:pt x="961" y="250"/>
                  </a:lnTo>
                  <a:lnTo>
                    <a:pt x="930" y="212"/>
                  </a:lnTo>
                  <a:lnTo>
                    <a:pt x="904" y="176"/>
                  </a:lnTo>
                  <a:lnTo>
                    <a:pt x="870" y="143"/>
                  </a:lnTo>
                  <a:lnTo>
                    <a:pt x="837" y="112"/>
                  </a:lnTo>
                  <a:lnTo>
                    <a:pt x="796" y="81"/>
                  </a:lnTo>
                  <a:lnTo>
                    <a:pt x="760" y="59"/>
                  </a:lnTo>
                  <a:lnTo>
                    <a:pt x="717" y="38"/>
                  </a:lnTo>
                  <a:lnTo>
                    <a:pt x="675" y="21"/>
                  </a:lnTo>
                  <a:lnTo>
                    <a:pt x="629" y="10"/>
                  </a:lnTo>
                  <a:lnTo>
                    <a:pt x="586" y="2"/>
                  </a:lnTo>
                  <a:lnTo>
                    <a:pt x="536" y="0"/>
                  </a:lnTo>
                  <a:lnTo>
                    <a:pt x="491" y="0"/>
                  </a:lnTo>
                  <a:lnTo>
                    <a:pt x="446" y="2"/>
                  </a:lnTo>
                  <a:lnTo>
                    <a:pt x="398" y="10"/>
                  </a:lnTo>
                  <a:lnTo>
                    <a:pt x="355" y="21"/>
                  </a:lnTo>
                  <a:lnTo>
                    <a:pt x="312" y="38"/>
                  </a:lnTo>
                  <a:lnTo>
                    <a:pt x="269" y="59"/>
                  </a:lnTo>
                  <a:lnTo>
                    <a:pt x="229" y="81"/>
                  </a:lnTo>
                  <a:lnTo>
                    <a:pt x="196" y="112"/>
                  </a:lnTo>
                  <a:lnTo>
                    <a:pt x="159" y="143"/>
                  </a:lnTo>
                  <a:lnTo>
                    <a:pt x="126" y="176"/>
                  </a:lnTo>
                  <a:lnTo>
                    <a:pt x="98" y="212"/>
                  </a:lnTo>
                  <a:lnTo>
                    <a:pt x="74" y="250"/>
                  </a:lnTo>
                  <a:lnTo>
                    <a:pt x="50" y="293"/>
                  </a:lnTo>
                  <a:lnTo>
                    <a:pt x="31" y="335"/>
                  </a:lnTo>
                  <a:lnTo>
                    <a:pt x="19" y="380"/>
                  </a:lnTo>
                  <a:lnTo>
                    <a:pt x="7" y="425"/>
                  </a:lnTo>
                  <a:lnTo>
                    <a:pt x="0" y="473"/>
                  </a:lnTo>
                  <a:lnTo>
                    <a:pt x="0" y="518"/>
                  </a:lnTo>
                  <a:lnTo>
                    <a:pt x="0" y="566"/>
                  </a:lnTo>
                  <a:lnTo>
                    <a:pt x="7" y="611"/>
                  </a:lnTo>
                  <a:lnTo>
                    <a:pt x="19" y="659"/>
                  </a:lnTo>
                  <a:lnTo>
                    <a:pt x="31" y="701"/>
                  </a:lnTo>
                  <a:lnTo>
                    <a:pt x="50" y="744"/>
                  </a:lnTo>
                  <a:lnTo>
                    <a:pt x="74" y="785"/>
                  </a:lnTo>
                  <a:lnTo>
                    <a:pt x="98" y="825"/>
                  </a:lnTo>
                  <a:lnTo>
                    <a:pt x="126" y="863"/>
                  </a:lnTo>
                  <a:lnTo>
                    <a:pt x="159" y="896"/>
                  </a:lnTo>
                  <a:lnTo>
                    <a:pt x="196" y="929"/>
                  </a:lnTo>
                  <a:lnTo>
                    <a:pt x="229" y="953"/>
                  </a:lnTo>
                  <a:lnTo>
                    <a:pt x="269" y="979"/>
                  </a:lnTo>
                  <a:lnTo>
                    <a:pt x="312" y="998"/>
                  </a:lnTo>
                  <a:lnTo>
                    <a:pt x="355" y="1017"/>
                  </a:lnTo>
                  <a:lnTo>
                    <a:pt x="398" y="1027"/>
                  </a:lnTo>
                  <a:lnTo>
                    <a:pt x="446" y="1034"/>
                  </a:lnTo>
                  <a:lnTo>
                    <a:pt x="491" y="1041"/>
                  </a:lnTo>
                  <a:lnTo>
                    <a:pt x="536" y="1041"/>
                  </a:lnTo>
                  <a:lnTo>
                    <a:pt x="586" y="1034"/>
                  </a:lnTo>
                  <a:lnTo>
                    <a:pt x="629" y="1027"/>
                  </a:lnTo>
                  <a:lnTo>
                    <a:pt x="675" y="1017"/>
                  </a:lnTo>
                  <a:lnTo>
                    <a:pt x="717" y="998"/>
                  </a:lnTo>
                  <a:lnTo>
                    <a:pt x="760" y="979"/>
                  </a:lnTo>
                  <a:lnTo>
                    <a:pt x="796" y="953"/>
                  </a:lnTo>
                  <a:lnTo>
                    <a:pt x="837" y="929"/>
                  </a:lnTo>
                  <a:lnTo>
                    <a:pt x="870" y="896"/>
                  </a:lnTo>
                  <a:lnTo>
                    <a:pt x="904" y="863"/>
                  </a:lnTo>
                  <a:lnTo>
                    <a:pt x="930" y="825"/>
                  </a:lnTo>
                  <a:lnTo>
                    <a:pt x="961" y="785"/>
                  </a:lnTo>
                  <a:lnTo>
                    <a:pt x="980" y="744"/>
                  </a:lnTo>
                  <a:lnTo>
                    <a:pt x="999" y="701"/>
                  </a:lnTo>
                  <a:lnTo>
                    <a:pt x="1010" y="659"/>
                  </a:lnTo>
                  <a:lnTo>
                    <a:pt x="1023" y="611"/>
                  </a:lnTo>
                  <a:lnTo>
                    <a:pt x="1030" y="566"/>
                  </a:lnTo>
                  <a:lnTo>
                    <a:pt x="1030" y="518"/>
                  </a:lnTo>
                </a:path>
              </a:pathLst>
            </a:custGeom>
            <a:solidFill>
              <a:srgbClr val="0cc10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280480" y="3349080"/>
              <a:ext cx="114120" cy="1412280"/>
            </a:xfrm>
            <a:custGeom>
              <a:avLst/>
              <a:gdLst/>
              <a:ahLst/>
              <a:rect l="l" t="t" r="r" b="b"/>
              <a:pathLst>
                <a:path w="76" h="933">
                  <a:moveTo>
                    <a:pt x="0" y="932"/>
                  </a:moveTo>
                  <a:lnTo>
                    <a:pt x="75" y="932"/>
                  </a:lnTo>
                  <a:lnTo>
                    <a:pt x="75" y="0"/>
                  </a:lnTo>
                  <a:lnTo>
                    <a:pt x="0" y="0"/>
                  </a:lnTo>
                  <a:lnTo>
                    <a:pt x="0" y="93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971960" y="3476160"/>
              <a:ext cx="729720" cy="1159560"/>
            </a:xfrm>
            <a:custGeom>
              <a:avLst/>
              <a:gdLst/>
              <a:ahLst/>
              <a:rect l="l" t="t" r="r" b="b"/>
              <a:pathLst>
                <a:path w="485" h="766">
                  <a:moveTo>
                    <a:pt x="129" y="544"/>
                  </a:moveTo>
                  <a:lnTo>
                    <a:pt x="129" y="551"/>
                  </a:lnTo>
                  <a:lnTo>
                    <a:pt x="131" y="561"/>
                  </a:lnTo>
                  <a:lnTo>
                    <a:pt x="134" y="574"/>
                  </a:lnTo>
                  <a:lnTo>
                    <a:pt x="139" y="584"/>
                  </a:lnTo>
                  <a:lnTo>
                    <a:pt x="146" y="599"/>
                  </a:lnTo>
                  <a:lnTo>
                    <a:pt x="151" y="606"/>
                  </a:lnTo>
                  <a:lnTo>
                    <a:pt x="160" y="617"/>
                  </a:lnTo>
                  <a:lnTo>
                    <a:pt x="170" y="627"/>
                  </a:lnTo>
                  <a:lnTo>
                    <a:pt x="184" y="632"/>
                  </a:lnTo>
                  <a:lnTo>
                    <a:pt x="196" y="639"/>
                  </a:lnTo>
                  <a:lnTo>
                    <a:pt x="210" y="644"/>
                  </a:lnTo>
                  <a:lnTo>
                    <a:pt x="222" y="649"/>
                  </a:lnTo>
                  <a:lnTo>
                    <a:pt x="236" y="649"/>
                  </a:lnTo>
                  <a:lnTo>
                    <a:pt x="253" y="649"/>
                  </a:lnTo>
                  <a:lnTo>
                    <a:pt x="265" y="644"/>
                  </a:lnTo>
                  <a:lnTo>
                    <a:pt x="280" y="641"/>
                  </a:lnTo>
                  <a:lnTo>
                    <a:pt x="291" y="639"/>
                  </a:lnTo>
                  <a:lnTo>
                    <a:pt x="303" y="627"/>
                  </a:lnTo>
                  <a:lnTo>
                    <a:pt x="315" y="622"/>
                  </a:lnTo>
                  <a:lnTo>
                    <a:pt x="325" y="611"/>
                  </a:lnTo>
                  <a:lnTo>
                    <a:pt x="332" y="601"/>
                  </a:lnTo>
                  <a:lnTo>
                    <a:pt x="342" y="589"/>
                  </a:lnTo>
                  <a:lnTo>
                    <a:pt x="346" y="579"/>
                  </a:lnTo>
                  <a:lnTo>
                    <a:pt x="348" y="565"/>
                  </a:lnTo>
                  <a:lnTo>
                    <a:pt x="351" y="556"/>
                  </a:lnTo>
                  <a:lnTo>
                    <a:pt x="351" y="541"/>
                  </a:lnTo>
                  <a:lnTo>
                    <a:pt x="348" y="527"/>
                  </a:lnTo>
                  <a:lnTo>
                    <a:pt x="346" y="515"/>
                  </a:lnTo>
                  <a:lnTo>
                    <a:pt x="336" y="506"/>
                  </a:lnTo>
                  <a:lnTo>
                    <a:pt x="329" y="494"/>
                  </a:lnTo>
                  <a:lnTo>
                    <a:pt x="322" y="484"/>
                  </a:lnTo>
                  <a:lnTo>
                    <a:pt x="310" y="475"/>
                  </a:lnTo>
                  <a:lnTo>
                    <a:pt x="301" y="465"/>
                  </a:lnTo>
                  <a:lnTo>
                    <a:pt x="289" y="463"/>
                  </a:lnTo>
                  <a:lnTo>
                    <a:pt x="272" y="456"/>
                  </a:lnTo>
                  <a:lnTo>
                    <a:pt x="139" y="408"/>
                  </a:lnTo>
                  <a:lnTo>
                    <a:pt x="117" y="404"/>
                  </a:lnTo>
                  <a:lnTo>
                    <a:pt x="103" y="394"/>
                  </a:lnTo>
                  <a:lnTo>
                    <a:pt x="86" y="382"/>
                  </a:lnTo>
                  <a:lnTo>
                    <a:pt x="70" y="368"/>
                  </a:lnTo>
                  <a:lnTo>
                    <a:pt x="58" y="356"/>
                  </a:lnTo>
                  <a:lnTo>
                    <a:pt x="43" y="339"/>
                  </a:lnTo>
                  <a:lnTo>
                    <a:pt x="29" y="327"/>
                  </a:lnTo>
                  <a:lnTo>
                    <a:pt x="22" y="309"/>
                  </a:lnTo>
                  <a:lnTo>
                    <a:pt x="17" y="289"/>
                  </a:lnTo>
                  <a:lnTo>
                    <a:pt x="8" y="273"/>
                  </a:lnTo>
                  <a:lnTo>
                    <a:pt x="5" y="254"/>
                  </a:lnTo>
                  <a:lnTo>
                    <a:pt x="0" y="233"/>
                  </a:lnTo>
                  <a:lnTo>
                    <a:pt x="0" y="216"/>
                  </a:lnTo>
                  <a:lnTo>
                    <a:pt x="0" y="197"/>
                  </a:lnTo>
                  <a:lnTo>
                    <a:pt x="5" y="178"/>
                  </a:lnTo>
                  <a:lnTo>
                    <a:pt x="8" y="161"/>
                  </a:lnTo>
                  <a:lnTo>
                    <a:pt x="17" y="142"/>
                  </a:lnTo>
                  <a:lnTo>
                    <a:pt x="22" y="128"/>
                  </a:lnTo>
                  <a:lnTo>
                    <a:pt x="32" y="109"/>
                  </a:lnTo>
                  <a:lnTo>
                    <a:pt x="46" y="92"/>
                  </a:lnTo>
                  <a:lnTo>
                    <a:pt x="58" y="78"/>
                  </a:lnTo>
                  <a:lnTo>
                    <a:pt x="70" y="64"/>
                  </a:lnTo>
                  <a:lnTo>
                    <a:pt x="86" y="49"/>
                  </a:lnTo>
                  <a:lnTo>
                    <a:pt x="103" y="40"/>
                  </a:lnTo>
                  <a:lnTo>
                    <a:pt x="122" y="28"/>
                  </a:lnTo>
                  <a:lnTo>
                    <a:pt x="139" y="20"/>
                  </a:lnTo>
                  <a:lnTo>
                    <a:pt x="160" y="11"/>
                  </a:lnTo>
                  <a:lnTo>
                    <a:pt x="182" y="7"/>
                  </a:lnTo>
                  <a:lnTo>
                    <a:pt x="201" y="4"/>
                  </a:lnTo>
                  <a:lnTo>
                    <a:pt x="222" y="2"/>
                  </a:lnTo>
                  <a:lnTo>
                    <a:pt x="244" y="0"/>
                  </a:lnTo>
                  <a:lnTo>
                    <a:pt x="263" y="2"/>
                  </a:lnTo>
                  <a:lnTo>
                    <a:pt x="284" y="4"/>
                  </a:lnTo>
                  <a:lnTo>
                    <a:pt x="303" y="7"/>
                  </a:lnTo>
                  <a:lnTo>
                    <a:pt x="325" y="11"/>
                  </a:lnTo>
                  <a:lnTo>
                    <a:pt x="346" y="20"/>
                  </a:lnTo>
                  <a:lnTo>
                    <a:pt x="365" y="31"/>
                  </a:lnTo>
                  <a:lnTo>
                    <a:pt x="380" y="40"/>
                  </a:lnTo>
                  <a:lnTo>
                    <a:pt x="396" y="52"/>
                  </a:lnTo>
                  <a:lnTo>
                    <a:pt x="415" y="64"/>
                  </a:lnTo>
                  <a:lnTo>
                    <a:pt x="425" y="78"/>
                  </a:lnTo>
                  <a:lnTo>
                    <a:pt x="439" y="95"/>
                  </a:lnTo>
                  <a:lnTo>
                    <a:pt x="451" y="111"/>
                  </a:lnTo>
                  <a:lnTo>
                    <a:pt x="461" y="128"/>
                  </a:lnTo>
                  <a:lnTo>
                    <a:pt x="468" y="142"/>
                  </a:lnTo>
                  <a:lnTo>
                    <a:pt x="477" y="163"/>
                  </a:lnTo>
                  <a:lnTo>
                    <a:pt x="480" y="180"/>
                  </a:lnTo>
                  <a:lnTo>
                    <a:pt x="482" y="199"/>
                  </a:lnTo>
                  <a:lnTo>
                    <a:pt x="484" y="218"/>
                  </a:lnTo>
                  <a:lnTo>
                    <a:pt x="484" y="223"/>
                  </a:lnTo>
                  <a:lnTo>
                    <a:pt x="351" y="223"/>
                  </a:lnTo>
                  <a:lnTo>
                    <a:pt x="351" y="220"/>
                  </a:lnTo>
                  <a:lnTo>
                    <a:pt x="351" y="206"/>
                  </a:lnTo>
                  <a:lnTo>
                    <a:pt x="348" y="195"/>
                  </a:lnTo>
                  <a:lnTo>
                    <a:pt x="346" y="185"/>
                  </a:lnTo>
                  <a:lnTo>
                    <a:pt x="336" y="173"/>
                  </a:lnTo>
                  <a:lnTo>
                    <a:pt x="329" y="159"/>
                  </a:lnTo>
                  <a:lnTo>
                    <a:pt x="322" y="152"/>
                  </a:lnTo>
                  <a:lnTo>
                    <a:pt x="310" y="142"/>
                  </a:lnTo>
                  <a:lnTo>
                    <a:pt x="301" y="135"/>
                  </a:lnTo>
                  <a:lnTo>
                    <a:pt x="287" y="128"/>
                  </a:lnTo>
                  <a:lnTo>
                    <a:pt x="272" y="121"/>
                  </a:lnTo>
                  <a:lnTo>
                    <a:pt x="260" y="121"/>
                  </a:lnTo>
                  <a:lnTo>
                    <a:pt x="244" y="118"/>
                  </a:lnTo>
                  <a:lnTo>
                    <a:pt x="232" y="121"/>
                  </a:lnTo>
                  <a:lnTo>
                    <a:pt x="217" y="121"/>
                  </a:lnTo>
                  <a:lnTo>
                    <a:pt x="203" y="128"/>
                  </a:lnTo>
                  <a:lnTo>
                    <a:pt x="191" y="130"/>
                  </a:lnTo>
                  <a:lnTo>
                    <a:pt x="179" y="137"/>
                  </a:lnTo>
                  <a:lnTo>
                    <a:pt x="167" y="145"/>
                  </a:lnTo>
                  <a:lnTo>
                    <a:pt x="158" y="154"/>
                  </a:lnTo>
                  <a:lnTo>
                    <a:pt x="151" y="163"/>
                  </a:lnTo>
                  <a:lnTo>
                    <a:pt x="141" y="178"/>
                  </a:lnTo>
                  <a:lnTo>
                    <a:pt x="136" y="188"/>
                  </a:lnTo>
                  <a:lnTo>
                    <a:pt x="131" y="201"/>
                  </a:lnTo>
                  <a:lnTo>
                    <a:pt x="131" y="216"/>
                  </a:lnTo>
                  <a:lnTo>
                    <a:pt x="131" y="225"/>
                  </a:lnTo>
                  <a:lnTo>
                    <a:pt x="134" y="239"/>
                  </a:lnTo>
                  <a:lnTo>
                    <a:pt x="139" y="251"/>
                  </a:lnTo>
                  <a:lnTo>
                    <a:pt x="146" y="261"/>
                  </a:lnTo>
                  <a:lnTo>
                    <a:pt x="151" y="273"/>
                  </a:lnTo>
                  <a:lnTo>
                    <a:pt x="160" y="282"/>
                  </a:lnTo>
                  <a:lnTo>
                    <a:pt x="170" y="292"/>
                  </a:lnTo>
                  <a:lnTo>
                    <a:pt x="182" y="296"/>
                  </a:lnTo>
                  <a:lnTo>
                    <a:pt x="193" y="309"/>
                  </a:lnTo>
                  <a:lnTo>
                    <a:pt x="220" y="316"/>
                  </a:lnTo>
                  <a:lnTo>
                    <a:pt x="342" y="354"/>
                  </a:lnTo>
                  <a:lnTo>
                    <a:pt x="346" y="358"/>
                  </a:lnTo>
                  <a:lnTo>
                    <a:pt x="363" y="363"/>
                  </a:lnTo>
                  <a:lnTo>
                    <a:pt x="380" y="373"/>
                  </a:lnTo>
                  <a:lnTo>
                    <a:pt x="396" y="384"/>
                  </a:lnTo>
                  <a:lnTo>
                    <a:pt x="413" y="396"/>
                  </a:lnTo>
                  <a:lnTo>
                    <a:pt x="425" y="408"/>
                  </a:lnTo>
                  <a:lnTo>
                    <a:pt x="439" y="425"/>
                  </a:lnTo>
                  <a:lnTo>
                    <a:pt x="451" y="444"/>
                  </a:lnTo>
                  <a:lnTo>
                    <a:pt x="461" y="460"/>
                  </a:lnTo>
                  <a:lnTo>
                    <a:pt x="468" y="475"/>
                  </a:lnTo>
                  <a:lnTo>
                    <a:pt x="475" y="494"/>
                  </a:lnTo>
                  <a:lnTo>
                    <a:pt x="480" y="513"/>
                  </a:lnTo>
                  <a:lnTo>
                    <a:pt x="482" y="532"/>
                  </a:lnTo>
                  <a:lnTo>
                    <a:pt x="482" y="551"/>
                  </a:lnTo>
                  <a:lnTo>
                    <a:pt x="482" y="568"/>
                  </a:lnTo>
                  <a:lnTo>
                    <a:pt x="480" y="586"/>
                  </a:lnTo>
                  <a:lnTo>
                    <a:pt x="475" y="606"/>
                  </a:lnTo>
                  <a:lnTo>
                    <a:pt x="468" y="622"/>
                  </a:lnTo>
                  <a:lnTo>
                    <a:pt x="461" y="641"/>
                  </a:lnTo>
                  <a:lnTo>
                    <a:pt x="451" y="660"/>
                  </a:lnTo>
                  <a:lnTo>
                    <a:pt x="439" y="674"/>
                  </a:lnTo>
                  <a:lnTo>
                    <a:pt x="425" y="689"/>
                  </a:lnTo>
                  <a:lnTo>
                    <a:pt x="411" y="701"/>
                  </a:lnTo>
                  <a:lnTo>
                    <a:pt x="396" y="715"/>
                  </a:lnTo>
                  <a:lnTo>
                    <a:pt x="377" y="727"/>
                  </a:lnTo>
                  <a:lnTo>
                    <a:pt x="358" y="736"/>
                  </a:lnTo>
                  <a:lnTo>
                    <a:pt x="344" y="743"/>
                  </a:lnTo>
                  <a:lnTo>
                    <a:pt x="322" y="753"/>
                  </a:lnTo>
                  <a:lnTo>
                    <a:pt x="303" y="757"/>
                  </a:lnTo>
                  <a:lnTo>
                    <a:pt x="282" y="760"/>
                  </a:lnTo>
                  <a:lnTo>
                    <a:pt x="263" y="763"/>
                  </a:lnTo>
                  <a:lnTo>
                    <a:pt x="241" y="765"/>
                  </a:lnTo>
                  <a:lnTo>
                    <a:pt x="220" y="763"/>
                  </a:lnTo>
                  <a:lnTo>
                    <a:pt x="198" y="760"/>
                  </a:lnTo>
                  <a:lnTo>
                    <a:pt x="177" y="757"/>
                  </a:lnTo>
                  <a:lnTo>
                    <a:pt x="158" y="753"/>
                  </a:lnTo>
                  <a:lnTo>
                    <a:pt x="139" y="743"/>
                  </a:lnTo>
                  <a:lnTo>
                    <a:pt x="122" y="736"/>
                  </a:lnTo>
                  <a:lnTo>
                    <a:pt x="103" y="727"/>
                  </a:lnTo>
                  <a:lnTo>
                    <a:pt x="86" y="715"/>
                  </a:lnTo>
                  <a:lnTo>
                    <a:pt x="67" y="701"/>
                  </a:lnTo>
                  <a:lnTo>
                    <a:pt x="58" y="689"/>
                  </a:lnTo>
                  <a:lnTo>
                    <a:pt x="43" y="672"/>
                  </a:lnTo>
                  <a:lnTo>
                    <a:pt x="29" y="660"/>
                  </a:lnTo>
                  <a:lnTo>
                    <a:pt x="22" y="641"/>
                  </a:lnTo>
                  <a:lnTo>
                    <a:pt x="14" y="622"/>
                  </a:lnTo>
                  <a:lnTo>
                    <a:pt x="5" y="606"/>
                  </a:lnTo>
                  <a:lnTo>
                    <a:pt x="3" y="584"/>
                  </a:lnTo>
                  <a:lnTo>
                    <a:pt x="0" y="565"/>
                  </a:lnTo>
                  <a:lnTo>
                    <a:pt x="0" y="551"/>
                  </a:lnTo>
                  <a:lnTo>
                    <a:pt x="0" y="544"/>
                  </a:lnTo>
                  <a:lnTo>
                    <a:pt x="129" y="54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2041200" y="2006640"/>
            <a:ext cx="7149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3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790080" y="2006640"/>
            <a:ext cx="27309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 personal tax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300400" y="2525760"/>
            <a:ext cx="0" cy="311616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980800" y="2030400"/>
            <a:ext cx="8931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13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97640" y="1101600"/>
            <a:ext cx="67208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WHERE DOES OUR INCOME G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001960" y="262080"/>
            <a:ext cx="6948720" cy="6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99"/>
                </a:solidFill>
                <a:latin typeface="Times New Roman"/>
              </a:rPr>
              <a:t>HOUSEHOLDS AS SPENDER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850040" y="5740560"/>
            <a:ext cx="9007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$29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Bill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684880" y="5740560"/>
            <a:ext cx="116136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$1,1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Bill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270240" y="2595600"/>
            <a:ext cx="5353200" cy="289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281400" y="2519280"/>
            <a:ext cx="0" cy="311652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000"/>
                            </p:stCondLst>
                            <p:childTnLst>
                              <p:par>
                                <p:cTn id="2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500"/>
                            </p:stCondLst>
                            <p:childTnLst>
                              <p:par>
                                <p:cTn id="2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"/>
          <p:cNvGrpSpPr/>
          <p:nvPr/>
        </p:nvGrpSpPr>
        <p:grpSpPr>
          <a:xfrm>
            <a:off x="1940040" y="1928880"/>
            <a:ext cx="6888600" cy="3924720"/>
            <a:chOff x="1940040" y="1928880"/>
            <a:chExt cx="6888600" cy="3924720"/>
          </a:xfrm>
        </p:grpSpPr>
        <p:sp>
          <p:nvSpPr>
            <p:cNvPr id="143" name=""/>
            <p:cNvSpPr/>
            <p:nvPr/>
          </p:nvSpPr>
          <p:spPr>
            <a:xfrm>
              <a:off x="1940040" y="1928880"/>
              <a:ext cx="6821280" cy="385128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150680" y="5398920"/>
              <a:ext cx="16779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2002 DA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2239920" y="2684520"/>
            <a:ext cx="6188040" cy="2786040"/>
            <a:chOff x="2239920" y="2684520"/>
            <a:chExt cx="6188040" cy="2786040"/>
          </a:xfrm>
        </p:grpSpPr>
        <p:sp>
          <p:nvSpPr>
            <p:cNvPr id="146" name=""/>
            <p:cNvSpPr/>
            <p:nvPr/>
          </p:nvSpPr>
          <p:spPr>
            <a:xfrm>
              <a:off x="2239920" y="2684520"/>
              <a:ext cx="6188040" cy="2786040"/>
            </a:xfrm>
            <a:custGeom>
              <a:avLst/>
              <a:gdLst/>
              <a:ahLst/>
              <a:rect l="l" t="t" r="r" b="b"/>
              <a:pathLst>
                <a:path w="4113" h="1840">
                  <a:moveTo>
                    <a:pt x="0" y="1839"/>
                  </a:moveTo>
                  <a:lnTo>
                    <a:pt x="0" y="0"/>
                  </a:lnTo>
                  <a:lnTo>
                    <a:pt x="4112" y="0"/>
                  </a:lnTo>
                  <a:lnTo>
                    <a:pt x="4112" y="1839"/>
                  </a:lnTo>
                  <a:lnTo>
                    <a:pt x="0" y="183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525760" y="2972160"/>
              <a:ext cx="5616000" cy="2210400"/>
            </a:xfrm>
            <a:custGeom>
              <a:avLst/>
              <a:gdLst/>
              <a:ahLst/>
              <a:rect l="l" t="t" r="r" b="b"/>
              <a:pathLst>
                <a:path w="3733" h="1460">
                  <a:moveTo>
                    <a:pt x="0" y="302"/>
                  </a:moveTo>
                  <a:lnTo>
                    <a:pt x="296" y="0"/>
                  </a:lnTo>
                  <a:lnTo>
                    <a:pt x="3457" y="0"/>
                  </a:lnTo>
                  <a:lnTo>
                    <a:pt x="3732" y="302"/>
                  </a:lnTo>
                  <a:lnTo>
                    <a:pt x="3732" y="1181"/>
                  </a:lnTo>
                  <a:lnTo>
                    <a:pt x="3457" y="1459"/>
                  </a:lnTo>
                  <a:lnTo>
                    <a:pt x="296" y="1459"/>
                  </a:lnTo>
                  <a:lnTo>
                    <a:pt x="0" y="1181"/>
                  </a:lnTo>
                  <a:lnTo>
                    <a:pt x="0" y="302"/>
                  </a:lnTo>
                </a:path>
              </a:pathLst>
            </a:custGeom>
            <a:solidFill>
              <a:srgbClr val="0cc10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452840" y="3144960"/>
              <a:ext cx="1797480" cy="1825920"/>
            </a:xfrm>
            <a:custGeom>
              <a:avLst/>
              <a:gdLst/>
              <a:ahLst/>
              <a:rect l="l" t="t" r="r" b="b"/>
              <a:pathLst>
                <a:path w="1195" h="1206">
                  <a:moveTo>
                    <a:pt x="1194" y="601"/>
                  </a:moveTo>
                  <a:lnTo>
                    <a:pt x="1192" y="551"/>
                  </a:lnTo>
                  <a:lnTo>
                    <a:pt x="1182" y="501"/>
                  </a:lnTo>
                  <a:lnTo>
                    <a:pt x="1173" y="452"/>
                  </a:lnTo>
                  <a:lnTo>
                    <a:pt x="1158" y="404"/>
                  </a:lnTo>
                  <a:lnTo>
                    <a:pt x="1142" y="356"/>
                  </a:lnTo>
                  <a:lnTo>
                    <a:pt x="1118" y="311"/>
                  </a:lnTo>
                  <a:lnTo>
                    <a:pt x="1091" y="268"/>
                  </a:lnTo>
                  <a:lnTo>
                    <a:pt x="1065" y="226"/>
                  </a:lnTo>
                  <a:lnTo>
                    <a:pt x="1032" y="188"/>
                  </a:lnTo>
                  <a:lnTo>
                    <a:pt x="996" y="154"/>
                  </a:lnTo>
                  <a:lnTo>
                    <a:pt x="958" y="121"/>
                  </a:lnTo>
                  <a:lnTo>
                    <a:pt x="918" y="93"/>
                  </a:lnTo>
                  <a:lnTo>
                    <a:pt x="874" y="69"/>
                  </a:lnTo>
                  <a:lnTo>
                    <a:pt x="832" y="47"/>
                  </a:lnTo>
                  <a:lnTo>
                    <a:pt x="784" y="28"/>
                  </a:lnTo>
                  <a:lnTo>
                    <a:pt x="736" y="17"/>
                  </a:lnTo>
                  <a:lnTo>
                    <a:pt x="687" y="7"/>
                  </a:lnTo>
                  <a:lnTo>
                    <a:pt x="636" y="0"/>
                  </a:lnTo>
                  <a:lnTo>
                    <a:pt x="589" y="0"/>
                  </a:lnTo>
                  <a:lnTo>
                    <a:pt x="538" y="0"/>
                  </a:lnTo>
                  <a:lnTo>
                    <a:pt x="486" y="7"/>
                  </a:lnTo>
                  <a:lnTo>
                    <a:pt x="441" y="19"/>
                  </a:lnTo>
                  <a:lnTo>
                    <a:pt x="393" y="35"/>
                  </a:lnTo>
                  <a:lnTo>
                    <a:pt x="345" y="50"/>
                  </a:lnTo>
                  <a:lnTo>
                    <a:pt x="303" y="73"/>
                  </a:lnTo>
                  <a:lnTo>
                    <a:pt x="260" y="104"/>
                  </a:lnTo>
                  <a:lnTo>
                    <a:pt x="219" y="133"/>
                  </a:lnTo>
                  <a:lnTo>
                    <a:pt x="183" y="164"/>
                  </a:lnTo>
                  <a:lnTo>
                    <a:pt x="148" y="202"/>
                  </a:lnTo>
                  <a:lnTo>
                    <a:pt x="117" y="242"/>
                  </a:lnTo>
                  <a:lnTo>
                    <a:pt x="88" y="283"/>
                  </a:lnTo>
                  <a:lnTo>
                    <a:pt x="64" y="328"/>
                  </a:lnTo>
                  <a:lnTo>
                    <a:pt x="43" y="373"/>
                  </a:lnTo>
                  <a:lnTo>
                    <a:pt x="26" y="420"/>
                  </a:lnTo>
                  <a:lnTo>
                    <a:pt x="14" y="470"/>
                  </a:lnTo>
                  <a:lnTo>
                    <a:pt x="5" y="515"/>
                  </a:lnTo>
                  <a:lnTo>
                    <a:pt x="0" y="568"/>
                  </a:lnTo>
                  <a:lnTo>
                    <a:pt x="0" y="620"/>
                  </a:lnTo>
                  <a:lnTo>
                    <a:pt x="2" y="670"/>
                  </a:lnTo>
                  <a:lnTo>
                    <a:pt x="11" y="717"/>
                  </a:lnTo>
                  <a:lnTo>
                    <a:pt x="21" y="770"/>
                  </a:lnTo>
                  <a:lnTo>
                    <a:pt x="38" y="818"/>
                  </a:lnTo>
                  <a:lnTo>
                    <a:pt x="57" y="860"/>
                  </a:lnTo>
                  <a:lnTo>
                    <a:pt x="81" y="908"/>
                  </a:lnTo>
                  <a:lnTo>
                    <a:pt x="107" y="948"/>
                  </a:lnTo>
                  <a:lnTo>
                    <a:pt x="136" y="991"/>
                  </a:lnTo>
                  <a:lnTo>
                    <a:pt x="169" y="1024"/>
                  </a:lnTo>
                  <a:lnTo>
                    <a:pt x="207" y="1062"/>
                  </a:lnTo>
                  <a:lnTo>
                    <a:pt x="245" y="1093"/>
                  </a:lnTo>
                  <a:lnTo>
                    <a:pt x="288" y="1117"/>
                  </a:lnTo>
                  <a:lnTo>
                    <a:pt x="331" y="1141"/>
                  </a:lnTo>
                  <a:lnTo>
                    <a:pt x="377" y="1167"/>
                  </a:lnTo>
                  <a:lnTo>
                    <a:pt x="424" y="1181"/>
                  </a:lnTo>
                  <a:lnTo>
                    <a:pt x="474" y="1193"/>
                  </a:lnTo>
                  <a:lnTo>
                    <a:pt x="522" y="1203"/>
                  </a:lnTo>
                  <a:lnTo>
                    <a:pt x="570" y="1205"/>
                  </a:lnTo>
                  <a:lnTo>
                    <a:pt x="617" y="1205"/>
                  </a:lnTo>
                  <a:lnTo>
                    <a:pt x="670" y="1203"/>
                  </a:lnTo>
                  <a:lnTo>
                    <a:pt x="722" y="1193"/>
                  </a:lnTo>
                  <a:lnTo>
                    <a:pt x="768" y="1178"/>
                  </a:lnTo>
                  <a:lnTo>
                    <a:pt x="813" y="1167"/>
                  </a:lnTo>
                  <a:lnTo>
                    <a:pt x="863" y="1141"/>
                  </a:lnTo>
                  <a:lnTo>
                    <a:pt x="906" y="1117"/>
                  </a:lnTo>
                  <a:lnTo>
                    <a:pt x="949" y="1090"/>
                  </a:lnTo>
                  <a:lnTo>
                    <a:pt x="985" y="1060"/>
                  </a:lnTo>
                  <a:lnTo>
                    <a:pt x="1020" y="1024"/>
                  </a:lnTo>
                  <a:lnTo>
                    <a:pt x="1053" y="986"/>
                  </a:lnTo>
                  <a:lnTo>
                    <a:pt x="1084" y="948"/>
                  </a:lnTo>
                  <a:lnTo>
                    <a:pt x="1111" y="908"/>
                  </a:lnTo>
                  <a:lnTo>
                    <a:pt x="1135" y="860"/>
                  </a:lnTo>
                  <a:lnTo>
                    <a:pt x="1154" y="818"/>
                  </a:lnTo>
                  <a:lnTo>
                    <a:pt x="1173" y="770"/>
                  </a:lnTo>
                  <a:lnTo>
                    <a:pt x="1180" y="715"/>
                  </a:lnTo>
                  <a:lnTo>
                    <a:pt x="1189" y="668"/>
                  </a:lnTo>
                  <a:lnTo>
                    <a:pt x="1192" y="620"/>
                  </a:lnTo>
                  <a:lnTo>
                    <a:pt x="1194" y="60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574880" y="3270600"/>
              <a:ext cx="1550880" cy="1577160"/>
            </a:xfrm>
            <a:custGeom>
              <a:avLst/>
              <a:gdLst/>
              <a:ahLst/>
              <a:rect l="l" t="t" r="r" b="b"/>
              <a:pathLst>
                <a:path w="1031" h="1042">
                  <a:moveTo>
                    <a:pt x="1030" y="518"/>
                  </a:moveTo>
                  <a:lnTo>
                    <a:pt x="1030" y="473"/>
                  </a:lnTo>
                  <a:lnTo>
                    <a:pt x="1023" y="425"/>
                  </a:lnTo>
                  <a:lnTo>
                    <a:pt x="1010" y="380"/>
                  </a:lnTo>
                  <a:lnTo>
                    <a:pt x="999" y="335"/>
                  </a:lnTo>
                  <a:lnTo>
                    <a:pt x="980" y="293"/>
                  </a:lnTo>
                  <a:lnTo>
                    <a:pt x="961" y="250"/>
                  </a:lnTo>
                  <a:lnTo>
                    <a:pt x="930" y="212"/>
                  </a:lnTo>
                  <a:lnTo>
                    <a:pt x="904" y="176"/>
                  </a:lnTo>
                  <a:lnTo>
                    <a:pt x="870" y="143"/>
                  </a:lnTo>
                  <a:lnTo>
                    <a:pt x="837" y="112"/>
                  </a:lnTo>
                  <a:lnTo>
                    <a:pt x="796" y="81"/>
                  </a:lnTo>
                  <a:lnTo>
                    <a:pt x="760" y="59"/>
                  </a:lnTo>
                  <a:lnTo>
                    <a:pt x="717" y="38"/>
                  </a:lnTo>
                  <a:lnTo>
                    <a:pt x="675" y="21"/>
                  </a:lnTo>
                  <a:lnTo>
                    <a:pt x="629" y="10"/>
                  </a:lnTo>
                  <a:lnTo>
                    <a:pt x="586" y="2"/>
                  </a:lnTo>
                  <a:lnTo>
                    <a:pt x="536" y="0"/>
                  </a:lnTo>
                  <a:lnTo>
                    <a:pt x="491" y="0"/>
                  </a:lnTo>
                  <a:lnTo>
                    <a:pt x="446" y="2"/>
                  </a:lnTo>
                  <a:lnTo>
                    <a:pt x="398" y="10"/>
                  </a:lnTo>
                  <a:lnTo>
                    <a:pt x="355" y="21"/>
                  </a:lnTo>
                  <a:lnTo>
                    <a:pt x="312" y="38"/>
                  </a:lnTo>
                  <a:lnTo>
                    <a:pt x="269" y="59"/>
                  </a:lnTo>
                  <a:lnTo>
                    <a:pt x="229" y="81"/>
                  </a:lnTo>
                  <a:lnTo>
                    <a:pt x="196" y="112"/>
                  </a:lnTo>
                  <a:lnTo>
                    <a:pt x="159" y="143"/>
                  </a:lnTo>
                  <a:lnTo>
                    <a:pt x="126" y="176"/>
                  </a:lnTo>
                  <a:lnTo>
                    <a:pt x="98" y="212"/>
                  </a:lnTo>
                  <a:lnTo>
                    <a:pt x="74" y="250"/>
                  </a:lnTo>
                  <a:lnTo>
                    <a:pt x="50" y="293"/>
                  </a:lnTo>
                  <a:lnTo>
                    <a:pt x="31" y="335"/>
                  </a:lnTo>
                  <a:lnTo>
                    <a:pt x="19" y="380"/>
                  </a:lnTo>
                  <a:lnTo>
                    <a:pt x="7" y="425"/>
                  </a:lnTo>
                  <a:lnTo>
                    <a:pt x="0" y="473"/>
                  </a:lnTo>
                  <a:lnTo>
                    <a:pt x="0" y="518"/>
                  </a:lnTo>
                  <a:lnTo>
                    <a:pt x="0" y="566"/>
                  </a:lnTo>
                  <a:lnTo>
                    <a:pt x="7" y="611"/>
                  </a:lnTo>
                  <a:lnTo>
                    <a:pt x="19" y="659"/>
                  </a:lnTo>
                  <a:lnTo>
                    <a:pt x="31" y="701"/>
                  </a:lnTo>
                  <a:lnTo>
                    <a:pt x="50" y="744"/>
                  </a:lnTo>
                  <a:lnTo>
                    <a:pt x="74" y="785"/>
                  </a:lnTo>
                  <a:lnTo>
                    <a:pt x="98" y="825"/>
                  </a:lnTo>
                  <a:lnTo>
                    <a:pt x="126" y="863"/>
                  </a:lnTo>
                  <a:lnTo>
                    <a:pt x="159" y="896"/>
                  </a:lnTo>
                  <a:lnTo>
                    <a:pt x="196" y="929"/>
                  </a:lnTo>
                  <a:lnTo>
                    <a:pt x="229" y="953"/>
                  </a:lnTo>
                  <a:lnTo>
                    <a:pt x="269" y="979"/>
                  </a:lnTo>
                  <a:lnTo>
                    <a:pt x="312" y="998"/>
                  </a:lnTo>
                  <a:lnTo>
                    <a:pt x="355" y="1017"/>
                  </a:lnTo>
                  <a:lnTo>
                    <a:pt x="398" y="1027"/>
                  </a:lnTo>
                  <a:lnTo>
                    <a:pt x="446" y="1034"/>
                  </a:lnTo>
                  <a:lnTo>
                    <a:pt x="491" y="1041"/>
                  </a:lnTo>
                  <a:lnTo>
                    <a:pt x="536" y="1041"/>
                  </a:lnTo>
                  <a:lnTo>
                    <a:pt x="586" y="1034"/>
                  </a:lnTo>
                  <a:lnTo>
                    <a:pt x="629" y="1027"/>
                  </a:lnTo>
                  <a:lnTo>
                    <a:pt x="675" y="1017"/>
                  </a:lnTo>
                  <a:lnTo>
                    <a:pt x="717" y="998"/>
                  </a:lnTo>
                  <a:lnTo>
                    <a:pt x="760" y="979"/>
                  </a:lnTo>
                  <a:lnTo>
                    <a:pt x="796" y="953"/>
                  </a:lnTo>
                  <a:lnTo>
                    <a:pt x="837" y="929"/>
                  </a:lnTo>
                  <a:lnTo>
                    <a:pt x="870" y="896"/>
                  </a:lnTo>
                  <a:lnTo>
                    <a:pt x="904" y="863"/>
                  </a:lnTo>
                  <a:lnTo>
                    <a:pt x="930" y="825"/>
                  </a:lnTo>
                  <a:lnTo>
                    <a:pt x="961" y="785"/>
                  </a:lnTo>
                  <a:lnTo>
                    <a:pt x="980" y="744"/>
                  </a:lnTo>
                  <a:lnTo>
                    <a:pt x="999" y="701"/>
                  </a:lnTo>
                  <a:lnTo>
                    <a:pt x="1010" y="659"/>
                  </a:lnTo>
                  <a:lnTo>
                    <a:pt x="1023" y="611"/>
                  </a:lnTo>
                  <a:lnTo>
                    <a:pt x="1030" y="566"/>
                  </a:lnTo>
                  <a:lnTo>
                    <a:pt x="1030" y="518"/>
                  </a:lnTo>
                </a:path>
              </a:pathLst>
            </a:custGeom>
            <a:solidFill>
              <a:srgbClr val="0cc10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280480" y="3349080"/>
              <a:ext cx="114120" cy="1412280"/>
            </a:xfrm>
            <a:custGeom>
              <a:avLst/>
              <a:gdLst/>
              <a:ahLst/>
              <a:rect l="l" t="t" r="r" b="b"/>
              <a:pathLst>
                <a:path w="76" h="933">
                  <a:moveTo>
                    <a:pt x="0" y="932"/>
                  </a:moveTo>
                  <a:lnTo>
                    <a:pt x="75" y="932"/>
                  </a:lnTo>
                  <a:lnTo>
                    <a:pt x="75" y="0"/>
                  </a:lnTo>
                  <a:lnTo>
                    <a:pt x="0" y="0"/>
                  </a:lnTo>
                  <a:lnTo>
                    <a:pt x="0" y="93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971960" y="3476160"/>
              <a:ext cx="729720" cy="1159560"/>
            </a:xfrm>
            <a:custGeom>
              <a:avLst/>
              <a:gdLst/>
              <a:ahLst/>
              <a:rect l="l" t="t" r="r" b="b"/>
              <a:pathLst>
                <a:path w="485" h="766">
                  <a:moveTo>
                    <a:pt x="129" y="544"/>
                  </a:moveTo>
                  <a:lnTo>
                    <a:pt x="129" y="551"/>
                  </a:lnTo>
                  <a:lnTo>
                    <a:pt x="131" y="561"/>
                  </a:lnTo>
                  <a:lnTo>
                    <a:pt x="134" y="574"/>
                  </a:lnTo>
                  <a:lnTo>
                    <a:pt x="139" y="584"/>
                  </a:lnTo>
                  <a:lnTo>
                    <a:pt x="146" y="599"/>
                  </a:lnTo>
                  <a:lnTo>
                    <a:pt x="151" y="606"/>
                  </a:lnTo>
                  <a:lnTo>
                    <a:pt x="160" y="617"/>
                  </a:lnTo>
                  <a:lnTo>
                    <a:pt x="170" y="627"/>
                  </a:lnTo>
                  <a:lnTo>
                    <a:pt x="184" y="632"/>
                  </a:lnTo>
                  <a:lnTo>
                    <a:pt x="196" y="639"/>
                  </a:lnTo>
                  <a:lnTo>
                    <a:pt x="210" y="644"/>
                  </a:lnTo>
                  <a:lnTo>
                    <a:pt x="222" y="649"/>
                  </a:lnTo>
                  <a:lnTo>
                    <a:pt x="236" y="649"/>
                  </a:lnTo>
                  <a:lnTo>
                    <a:pt x="253" y="649"/>
                  </a:lnTo>
                  <a:lnTo>
                    <a:pt x="265" y="644"/>
                  </a:lnTo>
                  <a:lnTo>
                    <a:pt x="280" y="641"/>
                  </a:lnTo>
                  <a:lnTo>
                    <a:pt x="291" y="639"/>
                  </a:lnTo>
                  <a:lnTo>
                    <a:pt x="303" y="627"/>
                  </a:lnTo>
                  <a:lnTo>
                    <a:pt x="315" y="622"/>
                  </a:lnTo>
                  <a:lnTo>
                    <a:pt x="325" y="611"/>
                  </a:lnTo>
                  <a:lnTo>
                    <a:pt x="332" y="601"/>
                  </a:lnTo>
                  <a:lnTo>
                    <a:pt x="342" y="589"/>
                  </a:lnTo>
                  <a:lnTo>
                    <a:pt x="346" y="579"/>
                  </a:lnTo>
                  <a:lnTo>
                    <a:pt x="348" y="565"/>
                  </a:lnTo>
                  <a:lnTo>
                    <a:pt x="351" y="556"/>
                  </a:lnTo>
                  <a:lnTo>
                    <a:pt x="351" y="541"/>
                  </a:lnTo>
                  <a:lnTo>
                    <a:pt x="348" y="527"/>
                  </a:lnTo>
                  <a:lnTo>
                    <a:pt x="346" y="515"/>
                  </a:lnTo>
                  <a:lnTo>
                    <a:pt x="336" y="506"/>
                  </a:lnTo>
                  <a:lnTo>
                    <a:pt x="329" y="494"/>
                  </a:lnTo>
                  <a:lnTo>
                    <a:pt x="322" y="484"/>
                  </a:lnTo>
                  <a:lnTo>
                    <a:pt x="310" y="475"/>
                  </a:lnTo>
                  <a:lnTo>
                    <a:pt x="301" y="465"/>
                  </a:lnTo>
                  <a:lnTo>
                    <a:pt x="289" y="463"/>
                  </a:lnTo>
                  <a:lnTo>
                    <a:pt x="272" y="456"/>
                  </a:lnTo>
                  <a:lnTo>
                    <a:pt x="139" y="408"/>
                  </a:lnTo>
                  <a:lnTo>
                    <a:pt x="117" y="404"/>
                  </a:lnTo>
                  <a:lnTo>
                    <a:pt x="103" y="394"/>
                  </a:lnTo>
                  <a:lnTo>
                    <a:pt x="86" y="382"/>
                  </a:lnTo>
                  <a:lnTo>
                    <a:pt x="70" y="368"/>
                  </a:lnTo>
                  <a:lnTo>
                    <a:pt x="58" y="356"/>
                  </a:lnTo>
                  <a:lnTo>
                    <a:pt x="43" y="339"/>
                  </a:lnTo>
                  <a:lnTo>
                    <a:pt x="29" y="327"/>
                  </a:lnTo>
                  <a:lnTo>
                    <a:pt x="22" y="309"/>
                  </a:lnTo>
                  <a:lnTo>
                    <a:pt x="17" y="289"/>
                  </a:lnTo>
                  <a:lnTo>
                    <a:pt x="8" y="273"/>
                  </a:lnTo>
                  <a:lnTo>
                    <a:pt x="5" y="254"/>
                  </a:lnTo>
                  <a:lnTo>
                    <a:pt x="0" y="233"/>
                  </a:lnTo>
                  <a:lnTo>
                    <a:pt x="0" y="216"/>
                  </a:lnTo>
                  <a:lnTo>
                    <a:pt x="0" y="197"/>
                  </a:lnTo>
                  <a:lnTo>
                    <a:pt x="5" y="178"/>
                  </a:lnTo>
                  <a:lnTo>
                    <a:pt x="8" y="161"/>
                  </a:lnTo>
                  <a:lnTo>
                    <a:pt x="17" y="142"/>
                  </a:lnTo>
                  <a:lnTo>
                    <a:pt x="22" y="128"/>
                  </a:lnTo>
                  <a:lnTo>
                    <a:pt x="32" y="109"/>
                  </a:lnTo>
                  <a:lnTo>
                    <a:pt x="46" y="92"/>
                  </a:lnTo>
                  <a:lnTo>
                    <a:pt x="58" y="78"/>
                  </a:lnTo>
                  <a:lnTo>
                    <a:pt x="70" y="64"/>
                  </a:lnTo>
                  <a:lnTo>
                    <a:pt x="86" y="49"/>
                  </a:lnTo>
                  <a:lnTo>
                    <a:pt x="103" y="40"/>
                  </a:lnTo>
                  <a:lnTo>
                    <a:pt x="122" y="28"/>
                  </a:lnTo>
                  <a:lnTo>
                    <a:pt x="139" y="20"/>
                  </a:lnTo>
                  <a:lnTo>
                    <a:pt x="160" y="11"/>
                  </a:lnTo>
                  <a:lnTo>
                    <a:pt x="182" y="7"/>
                  </a:lnTo>
                  <a:lnTo>
                    <a:pt x="201" y="4"/>
                  </a:lnTo>
                  <a:lnTo>
                    <a:pt x="222" y="2"/>
                  </a:lnTo>
                  <a:lnTo>
                    <a:pt x="244" y="0"/>
                  </a:lnTo>
                  <a:lnTo>
                    <a:pt x="263" y="2"/>
                  </a:lnTo>
                  <a:lnTo>
                    <a:pt x="284" y="4"/>
                  </a:lnTo>
                  <a:lnTo>
                    <a:pt x="303" y="7"/>
                  </a:lnTo>
                  <a:lnTo>
                    <a:pt x="325" y="11"/>
                  </a:lnTo>
                  <a:lnTo>
                    <a:pt x="346" y="20"/>
                  </a:lnTo>
                  <a:lnTo>
                    <a:pt x="365" y="31"/>
                  </a:lnTo>
                  <a:lnTo>
                    <a:pt x="380" y="40"/>
                  </a:lnTo>
                  <a:lnTo>
                    <a:pt x="396" y="52"/>
                  </a:lnTo>
                  <a:lnTo>
                    <a:pt x="415" y="64"/>
                  </a:lnTo>
                  <a:lnTo>
                    <a:pt x="425" y="78"/>
                  </a:lnTo>
                  <a:lnTo>
                    <a:pt x="439" y="95"/>
                  </a:lnTo>
                  <a:lnTo>
                    <a:pt x="451" y="111"/>
                  </a:lnTo>
                  <a:lnTo>
                    <a:pt x="461" y="128"/>
                  </a:lnTo>
                  <a:lnTo>
                    <a:pt x="468" y="142"/>
                  </a:lnTo>
                  <a:lnTo>
                    <a:pt x="477" y="163"/>
                  </a:lnTo>
                  <a:lnTo>
                    <a:pt x="480" y="180"/>
                  </a:lnTo>
                  <a:lnTo>
                    <a:pt x="482" y="199"/>
                  </a:lnTo>
                  <a:lnTo>
                    <a:pt x="484" y="218"/>
                  </a:lnTo>
                  <a:lnTo>
                    <a:pt x="484" y="223"/>
                  </a:lnTo>
                  <a:lnTo>
                    <a:pt x="351" y="223"/>
                  </a:lnTo>
                  <a:lnTo>
                    <a:pt x="351" y="220"/>
                  </a:lnTo>
                  <a:lnTo>
                    <a:pt x="351" y="206"/>
                  </a:lnTo>
                  <a:lnTo>
                    <a:pt x="348" y="195"/>
                  </a:lnTo>
                  <a:lnTo>
                    <a:pt x="346" y="185"/>
                  </a:lnTo>
                  <a:lnTo>
                    <a:pt x="336" y="173"/>
                  </a:lnTo>
                  <a:lnTo>
                    <a:pt x="329" y="159"/>
                  </a:lnTo>
                  <a:lnTo>
                    <a:pt x="322" y="152"/>
                  </a:lnTo>
                  <a:lnTo>
                    <a:pt x="310" y="142"/>
                  </a:lnTo>
                  <a:lnTo>
                    <a:pt x="301" y="135"/>
                  </a:lnTo>
                  <a:lnTo>
                    <a:pt x="287" y="128"/>
                  </a:lnTo>
                  <a:lnTo>
                    <a:pt x="272" y="121"/>
                  </a:lnTo>
                  <a:lnTo>
                    <a:pt x="260" y="121"/>
                  </a:lnTo>
                  <a:lnTo>
                    <a:pt x="244" y="118"/>
                  </a:lnTo>
                  <a:lnTo>
                    <a:pt x="232" y="121"/>
                  </a:lnTo>
                  <a:lnTo>
                    <a:pt x="217" y="121"/>
                  </a:lnTo>
                  <a:lnTo>
                    <a:pt x="203" y="128"/>
                  </a:lnTo>
                  <a:lnTo>
                    <a:pt x="191" y="130"/>
                  </a:lnTo>
                  <a:lnTo>
                    <a:pt x="179" y="137"/>
                  </a:lnTo>
                  <a:lnTo>
                    <a:pt x="167" y="145"/>
                  </a:lnTo>
                  <a:lnTo>
                    <a:pt x="158" y="154"/>
                  </a:lnTo>
                  <a:lnTo>
                    <a:pt x="151" y="163"/>
                  </a:lnTo>
                  <a:lnTo>
                    <a:pt x="141" y="178"/>
                  </a:lnTo>
                  <a:lnTo>
                    <a:pt x="136" y="188"/>
                  </a:lnTo>
                  <a:lnTo>
                    <a:pt x="131" y="201"/>
                  </a:lnTo>
                  <a:lnTo>
                    <a:pt x="131" y="216"/>
                  </a:lnTo>
                  <a:lnTo>
                    <a:pt x="131" y="225"/>
                  </a:lnTo>
                  <a:lnTo>
                    <a:pt x="134" y="239"/>
                  </a:lnTo>
                  <a:lnTo>
                    <a:pt x="139" y="251"/>
                  </a:lnTo>
                  <a:lnTo>
                    <a:pt x="146" y="261"/>
                  </a:lnTo>
                  <a:lnTo>
                    <a:pt x="151" y="273"/>
                  </a:lnTo>
                  <a:lnTo>
                    <a:pt x="160" y="282"/>
                  </a:lnTo>
                  <a:lnTo>
                    <a:pt x="170" y="292"/>
                  </a:lnTo>
                  <a:lnTo>
                    <a:pt x="182" y="296"/>
                  </a:lnTo>
                  <a:lnTo>
                    <a:pt x="193" y="309"/>
                  </a:lnTo>
                  <a:lnTo>
                    <a:pt x="220" y="316"/>
                  </a:lnTo>
                  <a:lnTo>
                    <a:pt x="342" y="354"/>
                  </a:lnTo>
                  <a:lnTo>
                    <a:pt x="346" y="358"/>
                  </a:lnTo>
                  <a:lnTo>
                    <a:pt x="363" y="363"/>
                  </a:lnTo>
                  <a:lnTo>
                    <a:pt x="380" y="373"/>
                  </a:lnTo>
                  <a:lnTo>
                    <a:pt x="396" y="384"/>
                  </a:lnTo>
                  <a:lnTo>
                    <a:pt x="413" y="396"/>
                  </a:lnTo>
                  <a:lnTo>
                    <a:pt x="425" y="408"/>
                  </a:lnTo>
                  <a:lnTo>
                    <a:pt x="439" y="425"/>
                  </a:lnTo>
                  <a:lnTo>
                    <a:pt x="451" y="444"/>
                  </a:lnTo>
                  <a:lnTo>
                    <a:pt x="461" y="460"/>
                  </a:lnTo>
                  <a:lnTo>
                    <a:pt x="468" y="475"/>
                  </a:lnTo>
                  <a:lnTo>
                    <a:pt x="475" y="494"/>
                  </a:lnTo>
                  <a:lnTo>
                    <a:pt x="480" y="513"/>
                  </a:lnTo>
                  <a:lnTo>
                    <a:pt x="482" y="532"/>
                  </a:lnTo>
                  <a:lnTo>
                    <a:pt x="482" y="551"/>
                  </a:lnTo>
                  <a:lnTo>
                    <a:pt x="482" y="568"/>
                  </a:lnTo>
                  <a:lnTo>
                    <a:pt x="480" y="586"/>
                  </a:lnTo>
                  <a:lnTo>
                    <a:pt x="475" y="606"/>
                  </a:lnTo>
                  <a:lnTo>
                    <a:pt x="468" y="622"/>
                  </a:lnTo>
                  <a:lnTo>
                    <a:pt x="461" y="641"/>
                  </a:lnTo>
                  <a:lnTo>
                    <a:pt x="451" y="660"/>
                  </a:lnTo>
                  <a:lnTo>
                    <a:pt x="439" y="674"/>
                  </a:lnTo>
                  <a:lnTo>
                    <a:pt x="425" y="689"/>
                  </a:lnTo>
                  <a:lnTo>
                    <a:pt x="411" y="701"/>
                  </a:lnTo>
                  <a:lnTo>
                    <a:pt x="396" y="715"/>
                  </a:lnTo>
                  <a:lnTo>
                    <a:pt x="377" y="727"/>
                  </a:lnTo>
                  <a:lnTo>
                    <a:pt x="358" y="736"/>
                  </a:lnTo>
                  <a:lnTo>
                    <a:pt x="344" y="743"/>
                  </a:lnTo>
                  <a:lnTo>
                    <a:pt x="322" y="753"/>
                  </a:lnTo>
                  <a:lnTo>
                    <a:pt x="303" y="757"/>
                  </a:lnTo>
                  <a:lnTo>
                    <a:pt x="282" y="760"/>
                  </a:lnTo>
                  <a:lnTo>
                    <a:pt x="263" y="763"/>
                  </a:lnTo>
                  <a:lnTo>
                    <a:pt x="241" y="765"/>
                  </a:lnTo>
                  <a:lnTo>
                    <a:pt x="220" y="763"/>
                  </a:lnTo>
                  <a:lnTo>
                    <a:pt x="198" y="760"/>
                  </a:lnTo>
                  <a:lnTo>
                    <a:pt x="177" y="757"/>
                  </a:lnTo>
                  <a:lnTo>
                    <a:pt x="158" y="753"/>
                  </a:lnTo>
                  <a:lnTo>
                    <a:pt x="139" y="743"/>
                  </a:lnTo>
                  <a:lnTo>
                    <a:pt x="122" y="736"/>
                  </a:lnTo>
                  <a:lnTo>
                    <a:pt x="103" y="727"/>
                  </a:lnTo>
                  <a:lnTo>
                    <a:pt x="86" y="715"/>
                  </a:lnTo>
                  <a:lnTo>
                    <a:pt x="67" y="701"/>
                  </a:lnTo>
                  <a:lnTo>
                    <a:pt x="58" y="689"/>
                  </a:lnTo>
                  <a:lnTo>
                    <a:pt x="43" y="672"/>
                  </a:lnTo>
                  <a:lnTo>
                    <a:pt x="29" y="660"/>
                  </a:lnTo>
                  <a:lnTo>
                    <a:pt x="22" y="641"/>
                  </a:lnTo>
                  <a:lnTo>
                    <a:pt x="14" y="622"/>
                  </a:lnTo>
                  <a:lnTo>
                    <a:pt x="5" y="606"/>
                  </a:lnTo>
                  <a:lnTo>
                    <a:pt x="3" y="584"/>
                  </a:lnTo>
                  <a:lnTo>
                    <a:pt x="0" y="565"/>
                  </a:lnTo>
                  <a:lnTo>
                    <a:pt x="0" y="551"/>
                  </a:lnTo>
                  <a:lnTo>
                    <a:pt x="0" y="544"/>
                  </a:lnTo>
                  <a:lnTo>
                    <a:pt x="129" y="54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2041200" y="2006640"/>
            <a:ext cx="7149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3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730760" y="2006640"/>
            <a:ext cx="39182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 personal consum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300400" y="2525760"/>
            <a:ext cx="0" cy="311616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980800" y="2030400"/>
            <a:ext cx="8931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13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281400" y="2519280"/>
            <a:ext cx="0" cy="311652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970080" y="2025720"/>
            <a:ext cx="8931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84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997640" y="1101600"/>
            <a:ext cx="67208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WHERE DOES OUR INCOME G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001960" y="262080"/>
            <a:ext cx="6948720" cy="6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99"/>
                </a:solidFill>
                <a:latin typeface="Times New Roman"/>
              </a:rPr>
              <a:t>HOUSEHOLDS AS SPENDER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850040" y="5740560"/>
            <a:ext cx="9007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$29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Bill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075640" y="5740560"/>
            <a:ext cx="116136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$7,3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Bill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684880" y="5740560"/>
            <a:ext cx="116136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$1,1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Bill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2001960" y="262080"/>
            <a:ext cx="6948720" cy="6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99"/>
                </a:solidFill>
                <a:latin typeface="Times New Roman"/>
              </a:rPr>
              <a:t>HOUSEHOLDS AS SPENDER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3798720" y="2696760"/>
            <a:ext cx="2955960" cy="2962440"/>
            <a:chOff x="3798720" y="2696760"/>
            <a:chExt cx="2955960" cy="2962440"/>
          </a:xfrm>
        </p:grpSpPr>
        <p:sp>
          <p:nvSpPr>
            <p:cNvPr id="165" name=""/>
            <p:cNvSpPr/>
            <p:nvPr/>
          </p:nvSpPr>
          <p:spPr>
            <a:xfrm>
              <a:off x="3798720" y="2697120"/>
              <a:ext cx="2955600" cy="296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252873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2528737"/>
                </a:path>
              </a:pathLst>
            </a:custGeom>
            <a:solidFill>
              <a:srgbClr val="cc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798720" y="2696760"/>
              <a:ext cx="2954520" cy="296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263" y="16005"/>
                  </a:moveTo>
                  <a:arcTo wR="10800" hR="10800" stAng="1728737" swAng="6436431"/>
                  <a:lnTo>
                    <a:pt x="10800" y="10800"/>
                  </a:lnTo>
                  <a:close/>
                </a:path>
                <a:path fill="none" w="21600" h="21600">
                  <a:moveTo>
                    <a:pt x="20263" y="16005"/>
                  </a:moveTo>
                  <a:arcTo wR="10800" hR="10800" stAng="1728737" swAng="6436431"/>
                </a:path>
              </a:pathLst>
            </a:cu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798720" y="2697480"/>
              <a:ext cx="2955960" cy="296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020" y="18291"/>
                  </a:moveTo>
                  <a:arcTo wR="10800" hR="10800" stAng="8165168" swAng="2634832"/>
                  <a:lnTo>
                    <a:pt x="10800" y="10800"/>
                  </a:lnTo>
                  <a:close/>
                </a:path>
                <a:path fill="none" w="21600" h="21600">
                  <a:moveTo>
                    <a:pt x="3020" y="18291"/>
                  </a:moveTo>
                  <a:arcTo wR="10800" hR="10800" stAng="8165168" swAng="2634832"/>
                </a:path>
              </a:pathLst>
            </a:custGeom>
            <a:solidFill>
              <a:srgbClr val="0000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2155680" y="1076400"/>
            <a:ext cx="6263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COMPOSITION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OF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CONSUM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EXPENDITURES, 20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333320" y="2898720"/>
            <a:ext cx="19314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4,317 b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59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054840" y="5299200"/>
            <a:ext cx="26492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ndurable Go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2,115 b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9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690200" y="4143240"/>
            <a:ext cx="215856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urable Go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872 b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2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3657600" y="4508640"/>
            <a:ext cx="736560" cy="241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 flipV="1">
            <a:off x="5549400" y="4990680"/>
            <a:ext cx="698760" cy="825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500"/>
                            </p:stCondLst>
                            <p:childTnLst>
                              <p:par>
                                <p:cTn id="2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000"/>
                            </p:stCondLst>
                            <p:childTnLst>
                              <p:par>
                                <p:cTn id="2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500"/>
                            </p:stCondLst>
                            <p:childTnLst>
                              <p:par>
                                <p:cTn id="2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2000"/>
                            </p:stCondLst>
                            <p:childTnLst>
                              <p:par>
                                <p:cTn id="2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2500"/>
                            </p:stCondLst>
                            <p:childTnLst>
                              <p:par>
                                <p:cTn id="2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3000"/>
                            </p:stCondLst>
                            <p:childTnLst>
                              <p:par>
                                <p:cTn id="2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964880" y="173160"/>
            <a:ext cx="7000200" cy="6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99"/>
                </a:solidFill>
                <a:latin typeface="Times New Roman"/>
              </a:rPr>
              <a:t>THE BUSINESS POPULATION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976760" y="1095480"/>
            <a:ext cx="6732000" cy="50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Times New Roman"/>
              </a:rPr>
              <a:t>Plan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Times New Roman"/>
              </a:rPr>
              <a:t>Firm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Times New Roman"/>
              </a:rPr>
              <a:t>Multiplant Firm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Times New Roman"/>
              </a:rPr>
              <a:t>Vertical Integra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Times New Roman"/>
              </a:rPr>
              <a:t>Conglomerat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Times New Roman"/>
              </a:rPr>
              <a:t>Industr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4T20:43:40Z</dcterms:created>
  <dc:creator>Norman Hollingsworth</dc:creator>
  <dc:description>Copyright Irwin/McGraw-Hill, Inc. 2005</dc:description>
  <dc:language>en-US</dc:language>
  <cp:lastModifiedBy>MHE</cp:lastModifiedBy>
  <cp:lastPrinted>1998-02-25T16:28:47Z</cp:lastPrinted>
  <dcterms:modified xsi:type="dcterms:W3CDTF">2003-11-05T20:34:45Z</dcterms:modified>
  <cp:revision>403</cp:revision>
  <dc:subject>McConnell-Brue 16/e</dc:subject>
  <dc:title>Chapter 5- The Mixed Economy</dc:title>
</cp:coreProperties>
</file>